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56F-C3DD-4604-8E0B-1234978D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875-EE97-471B-AA22-C7FCF08F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EEC-029F-4DCB-9D06-BFFE07EF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03F-22D7-43AE-9FEC-1764B58D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5430-3EB2-42F9-94D8-44ACF288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1267-A740-4D69-88D3-70E9E7AB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DB17-48F5-4FF3-899B-71BB1ACD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7A8E-EB62-4125-B685-83F6CDBC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19F5-68E7-41E1-A86E-121B368E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B1F0-7F74-44FE-910D-DA61DCF7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9687-2F9E-476C-AAFB-49B9A2B7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D56-F41F-4B7F-929C-338C30DD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852B-192F-46AA-8E3A-C9E1312B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09D2-51DC-43E6-B6A7-24FD45D8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69AB-0528-4372-AC1F-623E7BAE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D42F-9832-4871-B2DE-F539DF3C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2214-C80B-487C-9DEF-BEE9A772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D10DE-CD28-403C-BFE2-205B77D5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9892B-491B-4574-B419-A4CE1FA5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1155E-0491-476B-A4C3-F49EBC21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EB018-DE95-4D0F-83A1-1F623646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C251F-C6C5-4756-BD2B-111C5902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761-4443-43AE-9532-AAC741AA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DE0C0-DF1F-4EC5-909C-39C8C4F6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D4745-C8A3-495A-9B3A-40BD9E62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CC9CA-142A-4A44-B988-D49BFD48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63638-815E-4080-A674-364305AF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DADFF-E45C-4DCE-9D7E-117D7853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5BD0C-5B71-4EC3-BBF4-39D06D30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B411E-9275-435F-846A-7AB0CE8C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8D130-C2FC-4B3F-B81C-93FE1372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1045C-BBDC-4E93-A297-519FE14E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4FFDA-48AA-46F3-91B3-0BE3F243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9B2-A0E8-43C6-B71D-1199E750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7559E-9E7A-4F58-84B4-98D3C335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1D24C-A9EF-4819-B57B-0FC90ECC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CABFD-D2D6-4E39-B46D-68818DC9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1B5AD-F953-4635-A877-0215C1F7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81A61-37F0-4904-9FD8-2451C238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DA0D1-CBB0-4025-9F3D-6D6C72EE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78C05-002D-46BB-8132-2C331104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178FF-3FA8-4A87-8978-D126AA20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CBBF0-9936-44D4-906E-E0DE1790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F7066-933A-4B03-835B-FCD11C4D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1AF5-7224-4672-8715-2B85981D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EBBFD-6B81-4A88-A266-FC3EC54E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11A23-69E0-4D36-9F77-0D302487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EDA08-2E96-45C3-AB7C-DEB64953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BE617-0EBE-4729-8643-C02421FD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8682A-6569-46E5-9A99-87A83E09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F0531-C27E-4312-80CC-1CB8C2D8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18BC0-B379-432B-B290-250CF8A1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EBA470-1626-4D56-88A0-BCB82AD8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C66879-293A-457C-B4BF-94B40B79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6DF76-31CD-4DE2-912C-ACDA1214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603-7502-4A79-8E18-601FD65D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4AB913-D255-4121-8780-CAE801E0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26C49-FF3C-4E7F-8B3B-CC6627EB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FAFCC-250E-463E-83BA-9AFA4E83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B7C0F-E057-4557-9D02-3FA1DAC3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F311D-DC20-4317-B9F7-523817A8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5390A-E79F-4FFC-AE4D-E44E2934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0DE74-B9F1-4529-82D2-49B2EEFC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55684-9912-4ECD-922D-AFACFA06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93CDD-5D41-4C40-943E-384FC648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7E069-ECB7-4EE0-BD0E-F98BA1E5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AA6-C845-4EAA-9417-EE807708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BB5BC-1014-45D6-AFF4-2FD532D1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646A8-E230-45A9-8A14-963D0DD3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C4434-00AB-45D7-A4AF-A09DECED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3305A9-D103-4054-850B-BEFDC9DB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A36D98-E80B-4835-BE4D-D83C3173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54217-9C87-4E40-89E0-33DDFB49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81DF6E-2A5C-4D83-BD54-D84A3597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188A5A-15F7-4835-B52A-25BE8342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8FBEF-4BE6-4028-AB8C-DE414F5E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F1FD5-0E67-4CCF-9480-0336D3A2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29B-9572-4F68-B182-BC58F1A0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7FA9B3-50A6-423F-B9D0-EBD99B7A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67B59-66AE-4AF3-9641-7B92CE54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7E3A7-A9F4-4247-B822-736C8082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F61D9B-1845-415F-A29F-A2C49F3E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9EA18-250E-42F1-B761-585B9F14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C5E-8A3D-4B5E-87A3-298F0027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E7CE-BBAD-4D74-9B61-1CEBAC2F522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8C3E-334E-4B0D-96AE-F3711E6832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FC5E-72F2-45B7-891E-116ABF89C2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0AE4-3EBD-4E5B-9DD6-D18057D02F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5D6E-DA83-407A-AF34-92E36E6003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6F0D-A0EA-4C67-B877-C5A98C5EAA2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CBC0-27F9-4CF3-8F50-D81EE210143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835280" y="189000"/>
            <a:ext cx="6697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ahoma"/>
                <a:ea typeface="Tahoma"/>
              </a:rPr>
              <a:t>Муниципальное бюджетное дошкольное образовательное учреждение детский сад общеразвивающего вида «Белочка»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WordArt 5"/>
          <p:cNvSpPr txBox="1"/>
          <p:nvPr/>
        </p:nvSpPr>
        <p:spPr>
          <a:xfrm>
            <a:off x="1979640" y="981000"/>
            <a:ext cx="66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d2611c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Наш друг - Фитбол»</a:t>
            </a:r>
            <a:endParaRPr b="0" lang="en-US" sz="1800" spc="1" strike="noStrike">
              <a:ln w="28440">
                <a:solidFill>
                  <a:srgbClr val="d2611c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4140360" y="4941720"/>
            <a:ext cx="4608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ahoma"/>
                <a:ea typeface="Tahoma"/>
              </a:rPr>
              <a:t>Детский исследовательский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ahoma"/>
                <a:ea typeface="Tahoma"/>
              </a:rPr>
              <a:t>Подготовительной группы «Гноми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ahoma"/>
                <a:ea typeface="Tahoma"/>
              </a:rPr>
              <a:t>Инструктор Линенко Татьяна Ю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ahoma"/>
                <a:ea typeface="Tahoma"/>
              </a:rPr>
              <a:t>п.Фёдоровский  ХМАО-Юг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4" descr="лзл.png"/>
          <p:cNvPicPr/>
          <p:nvPr/>
        </p:nvPicPr>
        <p:blipFill>
          <a:blip r:embed="rId1"/>
          <a:stretch/>
        </p:blipFill>
        <p:spPr>
          <a:xfrm>
            <a:off x="3564000" y="2708280"/>
            <a:ext cx="287964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539640" y="2349360"/>
            <a:ext cx="763272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ahoma"/>
                <a:ea typeface="Tahoma"/>
              </a:rPr>
              <a:t>    </a:t>
            </a:r>
            <a:r>
              <a:rPr b="1" lang="ru-RU" sz="2400" spc="-1" strike="noStrike">
                <a:solidFill>
                  <a:srgbClr val="0d0d0d"/>
                </a:solidFill>
                <a:latin typeface="Tahoma"/>
                <a:ea typeface="Tahoma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ahoma"/>
                <a:ea typeface="Tahoma"/>
              </a:rPr>
              <a:t>1.Научиться  выполнять фитбол-упражнения в сочетании со стих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ahoma"/>
                <a:ea typeface="Tahoma"/>
              </a:rPr>
              <a:t>2. Разучить речёвки для упражнений с фитбол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ahoma"/>
                <a:ea typeface="Tahoma"/>
              </a:rPr>
              <a:t>3. Рассказать детям и взрослым о возможностях  упражнений с фитболами  для здоровь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92160"/>
            <a:ext cx="778536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6" descr="SDC16274.JPG"/>
          <p:cNvPicPr/>
          <p:nvPr/>
        </p:nvPicPr>
        <p:blipFill>
          <a:blip r:embed="rId1"/>
          <a:stretch/>
        </p:blipFill>
        <p:spPr>
          <a:xfrm>
            <a:off x="395280" y="1628640"/>
            <a:ext cx="7937640" cy="4464360"/>
          </a:xfrm>
          <a:prstGeom prst="rect">
            <a:avLst/>
          </a:prstGeom>
          <a:ln w="123840">
            <a:solidFill>
              <a:srgbClr val="ffffff"/>
            </a:solidFill>
            <a:miter/>
          </a:ln>
          <a:effectLst>
            <a:outerShdw dist="38160" dir="0" blurRad="0" rotWithShape="0">
              <a:srgbClr val="e75c01">
                <a:alpha val="40000"/>
              </a:srgbClr>
            </a:outerShdw>
          </a:effectLst>
        </p:spPr>
      </p:pic>
      <p:sp>
        <p:nvSpPr>
          <p:cNvPr id="358" name="Rectangle 5"/>
          <p:cNvSpPr/>
          <p:nvPr/>
        </p:nvSpPr>
        <p:spPr>
          <a:xfrm>
            <a:off x="250920" y="260280"/>
            <a:ext cx="3816360" cy="1584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e863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этап. Знакомство с фитбо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e863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учивание упражн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e863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фитболах со сти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e863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3" descr="S6301707.jpg"/>
          <p:cNvPicPr/>
          <p:nvPr/>
        </p:nvPicPr>
        <p:blipFill>
          <a:blip r:embed="rId1"/>
          <a:stretch/>
        </p:blipFill>
        <p:spPr>
          <a:xfrm>
            <a:off x="468360" y="1700280"/>
            <a:ext cx="7891560" cy="4871880"/>
          </a:xfrm>
          <a:prstGeom prst="rect">
            <a:avLst/>
          </a:prstGeom>
          <a:ln w="111240">
            <a:solidFill>
              <a:srgbClr val="ffffff"/>
            </a:solidFill>
            <a:miter/>
          </a:ln>
          <a:effectLst>
            <a:outerShdw dist="38183" dir="2700000" blurRad="0" rotWithShape="0">
              <a:srgbClr val="e75c01">
                <a:alpha val="40000"/>
              </a:srgbClr>
            </a:outerShdw>
          </a:effectLst>
        </p:spPr>
      </p:pic>
      <p:sp>
        <p:nvSpPr>
          <p:cNvPr id="360" name="Rectangle 7"/>
          <p:cNvSpPr/>
          <p:nvPr/>
        </p:nvSpPr>
        <p:spPr>
          <a:xfrm>
            <a:off x="250920" y="260280"/>
            <a:ext cx="4176720" cy="1944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e863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этап. Совместное придумы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e863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3" descr="S6301707.jpg"/>
          <p:cNvPicPr/>
          <p:nvPr/>
        </p:nvPicPr>
        <p:blipFill>
          <a:blip r:embed="rId1"/>
          <a:stretch/>
        </p:blipFill>
        <p:spPr>
          <a:xfrm>
            <a:off x="324000" y="1916280"/>
            <a:ext cx="7891200" cy="4440240"/>
          </a:xfrm>
          <a:prstGeom prst="rect">
            <a:avLst/>
          </a:prstGeom>
          <a:ln w="146160">
            <a:solidFill>
              <a:srgbClr val="ffffff"/>
            </a:solidFill>
            <a:miter/>
          </a:ln>
          <a:effectLst>
            <a:outerShdw dist="38183" dir="2700000" blurRad="0" rotWithShape="0">
              <a:srgbClr val="e75c01">
                <a:alpha val="40000"/>
              </a:srgbClr>
            </a:outerShdw>
          </a:effectLst>
        </p:spPr>
      </p:pic>
      <p:sp>
        <p:nvSpPr>
          <p:cNvPr id="362" name="Rectangle 8"/>
          <p:cNvSpPr/>
          <p:nvPr/>
        </p:nvSpPr>
        <p:spPr>
          <a:xfrm>
            <a:off x="3995640" y="260280"/>
            <a:ext cx="4573800" cy="2160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этап. Самостоя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думы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зки с фитбол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зученными упражн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684360" y="1061640"/>
            <a:ext cx="7632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Фитбол» в переводе с английского означает «мяч для опоры», который используется для оздоровления, чтобы не боле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вным-давно, в 1955 году швейцарский врач Кляйн - Фогельбах впервые применила фитболы с лечебной целью для боль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 сегодня фитболы помогают развиваться детям в детских садах –и не болеть, быть здоровыми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Прямоугольник 4" descr=""/>
          <p:cNvPicPr/>
          <p:nvPr/>
        </p:nvPicPr>
        <p:blipFill>
          <a:blip r:embed="rId1"/>
          <a:stretch/>
        </p:blipFill>
        <p:spPr>
          <a:xfrm>
            <a:off x="1663560" y="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лзл.png"/>
          <p:cNvPicPr/>
          <p:nvPr/>
        </p:nvPicPr>
        <p:blipFill>
          <a:blip r:embed="rId2"/>
          <a:stretch/>
        </p:blipFill>
        <p:spPr>
          <a:xfrm>
            <a:off x="1619280" y="2938320"/>
            <a:ext cx="553572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0:39:24Z</dcterms:created>
  <dc:creator>я</dc:creator>
  <dc:description/>
  <dc:language>en-US</dc:language>
  <cp:lastModifiedBy>Admin</cp:lastModifiedBy>
  <dcterms:modified xsi:type="dcterms:W3CDTF">2012-11-12T09:45:52Z</dcterms:modified>
  <cp:revision>13</cp:revision>
  <dc:subject/>
  <dc:title>Слайд 1</dc:title>
</cp:coreProperties>
</file>