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09E-D966-48F6-A298-FACEC376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4FA-1FF4-4B06-B95C-3DD8954B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584-7A98-4759-9F88-D5933FCA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B9C-FD15-4030-9197-3DAF3994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501F-43A5-44A9-A901-4EA0E891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BEEA-8111-4395-B77E-C48C454E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2162-0BC6-46F0-B30B-0746C71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1B2E-D3BC-48BA-AA01-38D6A54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9CF3-03A3-411B-A675-9DE7AF8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70F1-E18C-49F3-B0C5-BCA3D8B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855F-99D2-4870-8D32-FC971E6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361-551C-4A8C-83A6-3861D75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113D-B34F-4F08-9BC4-F4D09C4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BE2C-4F68-413D-B11B-63F73EB8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77F4-909C-4B02-8858-6093A883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B4A-70D9-45E8-9E79-0477C55E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E43B-8353-4D4D-8A7D-C6375FDC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27FBC-372E-4541-BC6F-71295557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F675D-49DA-4F6F-A057-0AB35D0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3C9B9-C7D5-4F65-B090-E984551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C96B8-63A0-4CD1-8C8D-701AB31F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CECDE-3B82-4C24-B855-E4AEA7E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5A2-1E44-44FE-BD0D-98EF4EC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D8CFD-B4F0-41B0-95F1-DEEEA10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668EC-1921-4E31-8997-C5C8347C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5CD22-01D0-401C-B6DE-0F5746E2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B391E-EEF3-4818-8C91-A91DD35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CB850-F909-418E-BDD8-64A332C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EDA6B-42F6-479E-9B2A-52C95B5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9D0A7-5A98-411B-9256-1C0E6A07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810B-2CD8-46B5-94E4-E126787D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858F-AB42-4820-A5AF-84C13A94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5EEC-DD69-4343-982E-1ADF76A3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D75-0B18-4B99-8C1F-EF0FDD8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04E2-527B-4598-82A5-F71B149F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FC12-2CF2-401B-9893-2A47441A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6411-AD7A-481A-B07D-9334295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ABB84-595F-4ACB-89A6-4882EDB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0DCA-9E43-49C0-8A54-7A9879C6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47473-70B9-4490-8861-9F4EA77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2DF1-DC2E-4C5B-B84C-5DF0FC3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B796-DE4E-4214-A326-80F58D16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E9B5-0837-415C-B524-C210C160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10021-B153-4403-ACF8-C5E0EF0B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C86-1756-4D69-ABC4-70704B41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F5862-C9E1-4482-8A0C-541EF74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11E54-8985-45DB-873A-414EF84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93903-A9A0-48F6-B9B0-612B64FD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6FACF-8D52-4743-97F4-9293AD48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F1558-86DE-41CB-A0F9-88086C7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342D0-9185-473E-84DB-4684926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499D4-39D6-4FC5-9889-C9C562B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F492F-1A80-4D73-9660-CE9B74A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7775C-60D5-4DBC-A6D8-4692EFA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E7A2A-BC35-4E19-87F1-7BB4B6C1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06F-B378-4F5D-8033-2B082D98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1E412-C88C-4BB3-99A4-653D793A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008F6-FBD5-4351-96D2-B9AFAAA9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8DC74-CA98-40A7-85D3-3574F611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3B4C6-D402-47CC-A0CC-62CC6B62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93BDB-E008-4924-B856-6899416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8B6DF-3053-449C-8C23-58A87A4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05F45-D440-4192-8A14-F1B8569D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C32A3-2F7A-49CA-B920-A0E3BDB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53975-0C11-4576-9B4F-C3B6F27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15516-957B-4A75-BD7C-300272C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81A-560C-41FF-ABD6-352C5635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430CB-8D61-4678-93CC-3026CE9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CD77A-8384-4423-A65F-FB4459CC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10222-8F1A-4213-B337-14D5129F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73886-07EB-41E5-BB0D-57B83CA6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C3352-201E-4F96-AAB3-390B963B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3B40C-1627-4406-B56C-02F545A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33B58-6876-46A1-AA62-E0F9A93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7CBC8-A7EA-489D-8C17-4276C80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12AC5-6880-4B8E-911E-DE2404F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887A2-A50E-4A4A-9AA0-22CA40B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D47-75F2-467A-B696-F76BC25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21196-6C65-484B-8F90-B55393B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99915-3FD2-46FA-A80D-3861F03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47F87-7D29-4582-BF5C-A986AC8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0A90F-2C37-45D2-915B-50EA0861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C793A-85A5-4E58-95BF-AD62EEB2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DED-A590-4193-8476-8398FC5F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1E05-91E7-41E7-8FC2-FDC6E682D1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CA9-F189-409C-B93F-9881AD7317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0D0-A144-4280-BF0D-D23E550D6A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1C93-6415-4DF4-85BA-D72024F9AC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786B-2CF9-47A0-BC77-EA635A9D38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BD4F-FA08-4ABA-B990-CE3CD00EAC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67B3-3006-49BE-B261-0175B0DB9D9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835280" y="18900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Муниципальное бюджетное дошкольное образовательное учреждение детский сад общеразвивающего вида «Белочка»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1979640" y="981000"/>
            <a:ext cx="66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d2611c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Наш друг - Фитбол»</a:t>
            </a:r>
            <a:endParaRPr b="0" lang="en-US" sz="1800" spc="1" strike="noStrike">
              <a:ln w="28440">
                <a:solidFill>
                  <a:srgbClr val="d2611c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140360" y="4941720"/>
            <a:ext cx="460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Детский исследовательский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Подготовительной группы «Гном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Инструктор Линенко Татьян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ahoma"/>
                <a:ea typeface="Tahoma"/>
              </a:rPr>
              <a:t>п.Фёдоровский  ХМАО-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4" descr="лзл.png"/>
          <p:cNvPicPr/>
          <p:nvPr/>
        </p:nvPicPr>
        <p:blipFill>
          <a:blip r:embed="rId1"/>
          <a:stretch/>
        </p:blipFill>
        <p:spPr>
          <a:xfrm>
            <a:off x="3564000" y="2708280"/>
            <a:ext cx="28796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9640" y="2349360"/>
            <a:ext cx="763272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    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1.Научиться  выполнять фитбол-упражнения в сочетании со стих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2. Разучить речёвки для упражнений с фитбол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ahoma"/>
                <a:ea typeface="Tahoma"/>
              </a:rPr>
              <a:t>3. Рассказать детям и взрослым о возможностях  упражнений с фитболами  для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92160"/>
            <a:ext cx="778536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6" descr="SDC16274.JPG"/>
          <p:cNvPicPr/>
          <p:nvPr/>
        </p:nvPicPr>
        <p:blipFill>
          <a:blip r:embed="rId1"/>
          <a:stretch/>
        </p:blipFill>
        <p:spPr>
          <a:xfrm>
            <a:off x="395280" y="1628640"/>
            <a:ext cx="7937640" cy="4464360"/>
          </a:xfrm>
          <a:prstGeom prst="rect">
            <a:avLst/>
          </a:prstGeom>
          <a:ln w="123840">
            <a:solidFill>
              <a:srgbClr val="ffffff"/>
            </a:solidFill>
            <a:miter/>
          </a:ln>
          <a:effectLst>
            <a:outerShdw dist="38160" dir="0" blurRad="0" rotWithShape="0">
              <a:srgbClr val="e75c01">
                <a:alpha val="40000"/>
              </a:srgbClr>
            </a:outerShdw>
          </a:effectLst>
        </p:spPr>
      </p:pic>
      <p:sp>
        <p:nvSpPr>
          <p:cNvPr id="358" name="Rectangle 5"/>
          <p:cNvSpPr/>
          <p:nvPr/>
        </p:nvSpPr>
        <p:spPr>
          <a:xfrm>
            <a:off x="250920" y="260280"/>
            <a:ext cx="3816360" cy="15843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этап. Знакомство с фитбо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учивание упраж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фитболах со сти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3" descr="S6301707.jpg"/>
          <p:cNvPicPr/>
          <p:nvPr/>
        </p:nvPicPr>
        <p:blipFill>
          <a:blip r:embed="rId1"/>
          <a:stretch/>
        </p:blipFill>
        <p:spPr>
          <a:xfrm>
            <a:off x="468360" y="1700280"/>
            <a:ext cx="7891560" cy="4871880"/>
          </a:xfrm>
          <a:prstGeom prst="rect">
            <a:avLst/>
          </a:prstGeom>
          <a:ln w="111240">
            <a:solidFill>
              <a:srgbClr val="ffffff"/>
            </a:solidFill>
            <a:miter/>
          </a:ln>
          <a:effectLst>
            <a:outerShdw dist="38183" dir="2700000" blurRad="0" rotWithShape="0">
              <a:srgbClr val="e75c01">
                <a:alpha val="40000"/>
              </a:srgbClr>
            </a:outerShdw>
          </a:effectLst>
        </p:spPr>
      </p:pic>
      <p:sp>
        <p:nvSpPr>
          <p:cNvPr id="360" name="Rectangle 7"/>
          <p:cNvSpPr/>
          <p:nvPr/>
        </p:nvSpPr>
        <p:spPr>
          <a:xfrm>
            <a:off x="250920" y="260280"/>
            <a:ext cx="4176720" cy="1944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этап. Совместное придум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e8637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3" descr="S6301707.jpg"/>
          <p:cNvPicPr/>
          <p:nvPr/>
        </p:nvPicPr>
        <p:blipFill>
          <a:blip r:embed="rId1"/>
          <a:stretch/>
        </p:blipFill>
        <p:spPr>
          <a:xfrm>
            <a:off x="324000" y="1916280"/>
            <a:ext cx="7891200" cy="4440240"/>
          </a:xfrm>
          <a:prstGeom prst="rect">
            <a:avLst/>
          </a:prstGeom>
          <a:ln w="146160">
            <a:solidFill>
              <a:srgbClr val="ffffff"/>
            </a:solidFill>
            <a:miter/>
          </a:ln>
          <a:effectLst>
            <a:outerShdw dist="38183" dir="2700000" blurRad="0" rotWithShape="0">
              <a:srgbClr val="e75c01">
                <a:alpha val="40000"/>
              </a:srgbClr>
            </a:outerShdw>
          </a:effectLst>
        </p:spPr>
      </p:pic>
      <p:sp>
        <p:nvSpPr>
          <p:cNvPr id="362" name="Rectangle 8"/>
          <p:cNvSpPr/>
          <p:nvPr/>
        </p:nvSpPr>
        <p:spPr>
          <a:xfrm>
            <a:off x="3995640" y="260280"/>
            <a:ext cx="4573800" cy="216072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этап. Самостоя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ум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ки с фитбол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зученными упраж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684360" y="1061640"/>
            <a:ext cx="763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Фитбол» в переводе с английского означает «мяч для опоры», который используется для оздоровления, чтобы не боле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ым-давно, в 1955 году швейцарский врач Кляйн - Фогельбах впервые применила фитболы с лечебной целью для боль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сегодня фитболы помогают развиваться детям в детских садах –и не болеть, быть здоровы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Прямоугольник 4" descr=""/>
          <p:cNvPicPr/>
          <p:nvPr/>
        </p:nvPicPr>
        <p:blipFill>
          <a:blip r:embed="rId1"/>
          <a:stretch/>
        </p:blipFill>
        <p:spPr>
          <a:xfrm>
            <a:off x="1663560" y="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лзл.png"/>
          <p:cNvPicPr/>
          <p:nvPr/>
        </p:nvPicPr>
        <p:blipFill>
          <a:blip r:embed="rId2"/>
          <a:stretch/>
        </p:blipFill>
        <p:spPr>
          <a:xfrm>
            <a:off x="1619280" y="2938320"/>
            <a:ext cx="5535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39:24Z</dcterms:created>
  <dc:creator>я</dc:creator>
  <dc:description/>
  <dc:language>en-US</dc:language>
  <cp:lastModifiedBy>Admin</cp:lastModifiedBy>
  <dcterms:modified xsi:type="dcterms:W3CDTF">2012-11-12T09:45:52Z</dcterms:modified>
  <cp:revision>13</cp:revision>
  <dc:subject/>
  <dc:title>Слайд 1</dc:title>
</cp:coreProperties>
</file>