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7927-09A4-4AC3-A4F6-479E9954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6579-B1ED-42BE-A3E9-E7E22087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9BD7-248B-46A9-9D79-725C6D83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E0C4-F38A-47D7-9286-CDD3D4F9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FE94-5095-4F49-8006-D38F4ECB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6225-4450-4FA3-8AC9-45C503A0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9A6D-FBD4-47A6-A07A-8D94D576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0982-10E3-4C37-9B23-775262B4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F929-7CBB-4A3F-A097-293AB3FA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AD73-1497-415B-8FF0-13F5CA95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51CB-164F-4101-B0B4-52A5637A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14FA-BBF5-4016-ADC2-C112E3CC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F80E-3CCA-4E06-9666-F1C2789A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7C73-7CCC-4036-A18C-41C664A8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5C74-1B3D-48B6-AC79-A0B4A591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0C75-553E-4CC6-AD61-312F1C8D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2426-9FEF-4E81-B8D7-3A9940B3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6E1D-401A-4BC5-9CBF-31FA5B63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DDA6-E0C4-4AEB-9F4C-5B1213D5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211E-0CDB-4F57-83F9-C3DF64BD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C5F5-6EE5-455C-A94F-11717B5F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087C-B52B-4969-B03C-CD7A313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325D6-A311-4B9C-A0C3-60639A27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3C78-4854-4509-A679-B7982712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25B1-E520-4AE6-BCB6-3A6254F7E4B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C4A5-0FD3-4DC5-A765-D0A2A71C61F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4"/>
          <p:cNvSpPr/>
          <p:nvPr/>
        </p:nvSpPr>
        <p:spPr>
          <a:xfrm>
            <a:off x="1332000" y="1197000"/>
            <a:ext cx="6624720" cy="37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САМ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6"/>
          <p:cNvSpPr/>
          <p:nvPr/>
        </p:nvSpPr>
        <p:spPr>
          <a:xfrm flipV="1">
            <a:off x="1835280" y="1196640"/>
            <a:ext cx="273672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 flipH="1">
            <a:off x="3203280" y="1268280"/>
            <a:ext cx="136836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 flipV="1">
            <a:off x="3276720" y="1773000"/>
            <a:ext cx="3887640" cy="29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5795640" y="1844640"/>
            <a:ext cx="129708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611280" y="4581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7093080" y="465300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395280" y="549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7164360" y="47628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ие листья имеют узорную форму с острыми углам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дубов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липов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елов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кленов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т чего страдают птицы зимой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от хол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от гол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от ве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от сне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ое полезное ископаемое образуется на болотах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то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г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пес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с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колько пальцев у человека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 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 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 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ое из этих слов – название цветка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неваляш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незнай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неумывай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незабуд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колько в году месяцев, оканчивающихся на  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ь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22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Если у стола отпилить один угол, то  сколько  углов у него останется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два с полов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то не делают из дерева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каранда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бумаг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фломаст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спи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Oval 2"/>
          <p:cNvSpPr/>
          <p:nvPr/>
        </p:nvSpPr>
        <p:spPr>
          <a:xfrm>
            <a:off x="1332000" y="1197000"/>
            <a:ext cx="6624720" cy="37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САМ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3"/>
          <p:cNvSpPr/>
          <p:nvPr/>
        </p:nvSpPr>
        <p:spPr>
          <a:xfrm flipV="1">
            <a:off x="1835280" y="1196640"/>
            <a:ext cx="273672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 flipH="1">
            <a:off x="3203280" y="1268280"/>
            <a:ext cx="136836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5"/>
          <p:cNvSpPr/>
          <p:nvPr/>
        </p:nvSpPr>
        <p:spPr>
          <a:xfrm flipV="1">
            <a:off x="3276720" y="1773000"/>
            <a:ext cx="3887640" cy="29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6"/>
          <p:cNvSpPr/>
          <p:nvPr/>
        </p:nvSpPr>
        <p:spPr>
          <a:xfrm flipH="1">
            <a:off x="5795640" y="1844640"/>
            <a:ext cx="129708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611280" y="4581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7093080" y="465300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95280" y="549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7164360" y="47628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САМЫЙ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ebf25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ahoma"/>
              </a:rPr>
              <a:t>2 тур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j0299125"/>
          <p:cNvPicPr/>
          <p:nvPr/>
        </p:nvPicPr>
        <p:blipFill>
          <a:blip r:embed="rId1"/>
          <a:stretch/>
        </p:blipFill>
        <p:spPr>
          <a:xfrm>
            <a:off x="539640" y="907920"/>
            <a:ext cx="1711440" cy="2808360"/>
          </a:xfrm>
          <a:prstGeom prst="rect">
            <a:avLst/>
          </a:prstGeom>
          <a:ln w="0">
            <a:noFill/>
          </a:ln>
        </p:spPr>
      </p:pic>
      <p:pic>
        <p:nvPicPr>
          <p:cNvPr id="181" name="j0212472.wav" descr=""/>
          <p:cNvPicPr/>
          <p:nvPr/>
        </p:nvPicPr>
        <p:blipFill>
          <a:blip r:embed="rId2"/>
          <a:stretch/>
        </p:blipFill>
        <p:spPr>
          <a:xfrm>
            <a:off x="7164360" y="6206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1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САМЫЙ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ebf25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ahoma"/>
              </a:rPr>
              <a:t>1 тур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j0299125"/>
          <p:cNvPicPr/>
          <p:nvPr/>
        </p:nvPicPr>
        <p:blipFill>
          <a:blip r:embed="rId1"/>
          <a:stretch/>
        </p:blipFill>
        <p:spPr>
          <a:xfrm>
            <a:off x="611280" y="981000"/>
            <a:ext cx="1447560" cy="2376720"/>
          </a:xfrm>
          <a:prstGeom prst="rect">
            <a:avLst/>
          </a:prstGeom>
          <a:ln w="0">
            <a:noFill/>
          </a:ln>
        </p:spPr>
      </p:pic>
      <p:pic>
        <p:nvPicPr>
          <p:cNvPr id="138" name="j0212378.wav" descr=""/>
          <p:cNvPicPr/>
          <p:nvPr/>
        </p:nvPicPr>
        <p:blipFill>
          <a:blip r:embed="rId2"/>
          <a:stretch/>
        </p:blipFill>
        <p:spPr>
          <a:xfrm>
            <a:off x="6659640" y="69228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 называется часть слова которая стоит перед корне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суффик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при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оконч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основа сл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чья улыбка – это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нак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клы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оск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ры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то нельзя делать на уроке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писать дикта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писать сочи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писать запи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писать решения зада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колько цветов у радуг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6 ц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7 ц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12 ц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8 ц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то нельзя назвать осадкам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ин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гр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рос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обл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Где можно чаще всего наблюдать полярное сияни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на Севе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на озе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в лес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в по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й продукт не делают из молока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сы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твор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смета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растительное мас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 каком виде спорта нельзя бить соперника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дзюд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карат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бок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таэкванд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вядина  -  это мясо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кури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кор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бар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свинь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е из этих слов – не название планеты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Юпи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Зем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Лу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Солн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ой слог обозначает ноту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 ф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 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 ф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 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то такое янтарь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драгоценный кам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план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конф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окаменевшая смо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ая из этих птиц умеет летать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пингв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кур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страу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чай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огда у медведицы появляются медвежата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лет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зим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вес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осен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то значит «бить баклуши»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тяжело рабо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дра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бездельнич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меч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ышат ли растения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н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только ноч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только днё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val 2"/>
          <p:cNvSpPr/>
          <p:nvPr/>
        </p:nvSpPr>
        <p:spPr>
          <a:xfrm>
            <a:off x="1332000" y="1197000"/>
            <a:ext cx="6624720" cy="37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САМ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3"/>
          <p:cNvSpPr/>
          <p:nvPr/>
        </p:nvSpPr>
        <p:spPr>
          <a:xfrm flipV="1">
            <a:off x="1835280" y="1196640"/>
            <a:ext cx="273672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3203280" y="1268280"/>
            <a:ext cx="136836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 flipV="1">
            <a:off x="3276720" y="1773000"/>
            <a:ext cx="3887640" cy="29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 flipH="1">
            <a:off x="5795640" y="1844640"/>
            <a:ext cx="129708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611280" y="4581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7093080" y="465300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395280" y="549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7164360" y="47628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САМЫЙ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ebf25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ahoma"/>
              </a:rPr>
              <a:t>3 тур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4" descr="j0299125"/>
          <p:cNvPicPr/>
          <p:nvPr/>
        </p:nvPicPr>
        <p:blipFill>
          <a:blip r:embed="rId1"/>
          <a:stretch/>
        </p:blipFill>
        <p:spPr>
          <a:xfrm>
            <a:off x="779400" y="765000"/>
            <a:ext cx="1363680" cy="2237040"/>
          </a:xfrm>
          <a:prstGeom prst="rect">
            <a:avLst/>
          </a:prstGeom>
          <a:ln w="0">
            <a:noFill/>
          </a:ln>
        </p:spPr>
      </p:pic>
      <p:pic>
        <p:nvPicPr>
          <p:cNvPr id="224" name="j0212534.wav" descr=""/>
          <p:cNvPicPr/>
          <p:nvPr/>
        </p:nvPicPr>
        <p:blipFill>
          <a:blip r:embed="rId2"/>
          <a:stretch/>
        </p:blipFill>
        <p:spPr>
          <a:xfrm>
            <a:off x="7020000" y="62064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16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Если позавчера была среда, то какой день будет послезавтра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субб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воскресе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четвер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пят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й знак нарисован на машине «Скорой помощи»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синий ром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красный кр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чёрный квадр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жёлтый кр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то из них не был композиторо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Чайк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Моца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Б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Реп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ие из этих лиц нельзя назвать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казочным персонаже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Ивана-царевич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Бабу-яг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Дюймовоч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Директора шко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22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ложили вместе два квадрата. Сколько сторон у получившейся фигуры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8 сто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6 сто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4 стор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5 сто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колько гласных звуков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 русском язык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 5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то не является металлом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желез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рту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алюми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полиэтил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19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колько пар согласных по глухости-звонкости  в русском язык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 12 п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 10 п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 6 п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 5 п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е животное не живёт в нор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кр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барс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бел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мыш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то из них не был писателем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Толс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Но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Чаруш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Гли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то написал сказку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«Каменный цветок»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Баж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Некр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Чук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Успе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огда у большинства птиц появляются птенцы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лет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зим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вес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осен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то от страха уходит в пятк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ду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кров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ре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пам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ая цифра на циферблате находится напротив цифры 5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ого падежа нет 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 русском языке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род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твор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зва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 вин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то делают осенью волк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собираются в стаи и идут на ю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родолжают охоти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ложатся в спяч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делают зап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 звали отца Пушкина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Виталий Геннадье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Сергей Льв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Лев Николае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Фёдор Иван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1332000" y="1197000"/>
            <a:ext cx="6624720" cy="37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САМ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1835280" y="1196640"/>
            <a:ext cx="273672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3203280" y="1268280"/>
            <a:ext cx="136836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3276720" y="1773000"/>
            <a:ext cx="3887640" cy="29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6"/>
          <p:cNvSpPr/>
          <p:nvPr/>
        </p:nvSpPr>
        <p:spPr>
          <a:xfrm flipH="1">
            <a:off x="5795640" y="1844640"/>
            <a:ext cx="129708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611280" y="4581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7093080" y="465300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395280" y="549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7164360" y="47628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САМЫЙ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ebf25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ahoma"/>
              </a:rPr>
              <a:t>4 тур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icture 4" descr="j0299125"/>
          <p:cNvPicPr/>
          <p:nvPr/>
        </p:nvPicPr>
        <p:blipFill>
          <a:blip r:embed="rId1"/>
          <a:stretch/>
        </p:blipFill>
        <p:spPr>
          <a:xfrm>
            <a:off x="900000" y="1052640"/>
            <a:ext cx="14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67" name="j0212612.wav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16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Что надо говорить, когда тебя угощают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я этого не любл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ма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дай ещ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спасиб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235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ой знак препинания чаще всего используется в конце предложения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вопрос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восклица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точ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ти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то придумал Чебурашку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Но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Успе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Драгу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Вол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е из этих имён – имя собственно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колокольч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соб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Од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подру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й из этих компонентов не является компонентов разности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уменьшаем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делим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вычитаем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раз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колько в сутках часов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 12 ч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 24 ча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 8 ч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 48 ч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колько букв  в русском языке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если считать, с конца – 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пока сосчитать не удало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9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им словом можно назвать и дорожную разметку, и животно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крокоди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леопар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зеб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тиг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 называется разговор 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вух лиц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диа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сс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сканд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моно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колько в русском языке букв, которые обозначают звуки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33 бук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31 бук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25 бук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10 бук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го зверя иногда называют «шатуном»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вол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лиси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зай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медвед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й город славится «поющими» музыкантами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Моск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Санкт - Петербур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Брем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Пари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то лишнее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антило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гори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мак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шимпан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е дерево вырастает самым толсты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баоба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секвой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ду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сос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е из этих слов – название части речи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суффик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глаго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сказуем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оконч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то из них не был художником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Айваз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Лермо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Васнец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Ши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Oval 2"/>
          <p:cNvSpPr/>
          <p:nvPr/>
        </p:nvSpPr>
        <p:spPr>
          <a:xfrm>
            <a:off x="1332000" y="1197000"/>
            <a:ext cx="6624720" cy="37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САМ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3"/>
          <p:cNvSpPr/>
          <p:nvPr/>
        </p:nvSpPr>
        <p:spPr>
          <a:xfrm flipV="1">
            <a:off x="1835280" y="1196640"/>
            <a:ext cx="273672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4"/>
          <p:cNvSpPr/>
          <p:nvPr/>
        </p:nvSpPr>
        <p:spPr>
          <a:xfrm flipH="1">
            <a:off x="3203280" y="1268280"/>
            <a:ext cx="136836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5"/>
          <p:cNvSpPr/>
          <p:nvPr/>
        </p:nvSpPr>
        <p:spPr>
          <a:xfrm flipV="1">
            <a:off x="3276720" y="1773000"/>
            <a:ext cx="3887640" cy="29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6"/>
          <p:cNvSpPr/>
          <p:nvPr/>
        </p:nvSpPr>
        <p:spPr>
          <a:xfrm flipH="1">
            <a:off x="5795640" y="1844640"/>
            <a:ext cx="129708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611280" y="4581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7093080" y="465300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AutoShape 9"/>
          <p:cNvSpPr/>
          <p:nvPr/>
        </p:nvSpPr>
        <p:spPr>
          <a:xfrm>
            <a:off x="395280" y="549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7164360" y="47628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116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ое из перечисленных перечисленных животных не относится к рыбам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 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 тре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 к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 щ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САМЫЙ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ebf25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ahoma"/>
              </a:rPr>
              <a:t>5 тур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4" descr="j0299125"/>
          <p:cNvPicPr/>
          <p:nvPr/>
        </p:nvPicPr>
        <p:blipFill>
          <a:blip r:embed="rId1"/>
          <a:stretch/>
        </p:blipFill>
        <p:spPr>
          <a:xfrm>
            <a:off x="900000" y="1052640"/>
            <a:ext cx="1405080" cy="2305080"/>
          </a:xfrm>
          <a:prstGeom prst="rect">
            <a:avLst/>
          </a:prstGeom>
          <a:ln w="0">
            <a:noFill/>
          </a:ln>
        </p:spPr>
      </p:pic>
      <p:pic>
        <p:nvPicPr>
          <p:cNvPr id="310" name="j0212690.wav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16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е животное изображено на гербе России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л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медв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орё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 называются слова, близкие по значению, но разные по написанию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антони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рилаг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уществи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синони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 называется большое количество пасущихся овец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ота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табу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кося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ст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 слове «появилась» 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звуков больше, чем бук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звуков меньше, чем бук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звуков столько, сколько бук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букв на 2 больше, зву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им словом называется и фрукт, и часть глаза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гру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ябло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авокад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мандар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огда говорят : «Дрожит, как … лист», какое дерево подразумевают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топ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ду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оси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клё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то живёт в берлоге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мурав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бел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вол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медв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е дерево росло у Лукоморья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дуб зелё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белая берё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золотой клё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голубая 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е из этих слов не обозначает часть футбольных ворот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штан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переклад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се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стой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ем могут быть покрыты животные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чешуё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перь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шкур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кор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Что происходит весной с почками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ни лоп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ни опадаю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они взрыв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они сворачив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й цвет мы называем изумрудны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зелё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коричнев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голу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чё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то написал сказку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«Конёк-горбунок»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Ерш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Жук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Толс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 каком словаре объясняется значение слов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орфографиче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толко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фразеологиче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орфоэпиче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Oval 2"/>
          <p:cNvSpPr/>
          <p:nvPr/>
        </p:nvSpPr>
        <p:spPr>
          <a:xfrm>
            <a:off x="1332000" y="1197000"/>
            <a:ext cx="6624720" cy="37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САМ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3"/>
          <p:cNvSpPr/>
          <p:nvPr/>
        </p:nvSpPr>
        <p:spPr>
          <a:xfrm flipV="1">
            <a:off x="1835280" y="1196640"/>
            <a:ext cx="273672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4"/>
          <p:cNvSpPr/>
          <p:nvPr/>
        </p:nvSpPr>
        <p:spPr>
          <a:xfrm flipH="1">
            <a:off x="3203280" y="1268280"/>
            <a:ext cx="136836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5"/>
          <p:cNvSpPr/>
          <p:nvPr/>
        </p:nvSpPr>
        <p:spPr>
          <a:xfrm flipV="1">
            <a:off x="3276720" y="1773000"/>
            <a:ext cx="3887640" cy="29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Line 6"/>
          <p:cNvSpPr/>
          <p:nvPr/>
        </p:nvSpPr>
        <p:spPr>
          <a:xfrm flipH="1">
            <a:off x="5795640" y="1844640"/>
            <a:ext cx="129708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611280" y="4581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7093080" y="465300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AutoShape 9"/>
          <p:cNvSpPr/>
          <p:nvPr/>
        </p:nvSpPr>
        <p:spPr>
          <a:xfrm>
            <a:off x="395280" y="549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7164360" y="47628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САМЫЙ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ebf25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ahoma"/>
              </a:rPr>
              <a:t>Суперигр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Picture 4" descr="j0299125"/>
          <p:cNvPicPr/>
          <p:nvPr/>
        </p:nvPicPr>
        <p:blipFill>
          <a:blip r:embed="rId1"/>
          <a:stretch/>
        </p:blipFill>
        <p:spPr>
          <a:xfrm>
            <a:off x="900000" y="1052640"/>
            <a:ext cx="14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ечислите часовые механизмы по размерам, начиная с наименьшего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6920" y="2349000"/>
            <a:ext cx="6264360" cy="3240360"/>
          </a:xfrm>
          <a:prstGeom prst="rect">
            <a:avLst/>
          </a:prstGeom>
          <a:noFill/>
          <a:ln w="9360">
            <a:solidFill>
              <a:srgbClr val="ebf25a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кура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будиль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настенные ч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наручные ч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2"/>
          <p:cNvSpPr/>
          <p:nvPr/>
        </p:nvSpPr>
        <p:spPr>
          <a:xfrm>
            <a:off x="1332000" y="1197000"/>
            <a:ext cx="6624720" cy="37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САМ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УМНЫ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3"/>
          <p:cNvSpPr/>
          <p:nvPr/>
        </p:nvSpPr>
        <p:spPr>
          <a:xfrm flipV="1">
            <a:off x="1835280" y="1196640"/>
            <a:ext cx="273672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4"/>
          <p:cNvSpPr/>
          <p:nvPr/>
        </p:nvSpPr>
        <p:spPr>
          <a:xfrm flipH="1">
            <a:off x="3203280" y="1268280"/>
            <a:ext cx="136836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Line 5"/>
          <p:cNvSpPr/>
          <p:nvPr/>
        </p:nvSpPr>
        <p:spPr>
          <a:xfrm flipV="1">
            <a:off x="3276720" y="1773000"/>
            <a:ext cx="3887640" cy="29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Line 6"/>
          <p:cNvSpPr/>
          <p:nvPr/>
        </p:nvSpPr>
        <p:spPr>
          <a:xfrm flipH="1">
            <a:off x="5795640" y="1844640"/>
            <a:ext cx="129708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611280" y="4581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AutoShape 8"/>
          <p:cNvSpPr/>
          <p:nvPr/>
        </p:nvSpPr>
        <p:spPr>
          <a:xfrm>
            <a:off x="7093080" y="465300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AutoShape 9"/>
          <p:cNvSpPr/>
          <p:nvPr/>
        </p:nvSpPr>
        <p:spPr>
          <a:xfrm>
            <a:off x="395280" y="54936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7164360" y="476280"/>
            <a:ext cx="1419120" cy="1417680"/>
          </a:xfrm>
          <a:prstGeom prst="smileyFace">
            <a:avLst>
              <a:gd name="adj" fmla="val 9282"/>
            </a:avLst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0" name="j0212768.wav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16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ое из этих слов не обозначает корабль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   парус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   крейс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фрег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авиалайн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20:27:15Z</dcterms:created>
  <dc:creator>USER</dc:creator>
  <dc:description/>
  <dc:language>en-US</dc:language>
  <cp:lastModifiedBy>Admin</cp:lastModifiedBy>
  <dcterms:modified xsi:type="dcterms:W3CDTF">2012-05-30T13:19:06Z</dcterms:modified>
  <cp:revision>6</cp:revision>
  <dc:subject/>
  <dc:title>Слайд 1</dc:title>
</cp:coreProperties>
</file>