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B60F-6C1C-4CC5-B11C-24208DA1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1777-91F7-4F5A-8C7F-B2214BED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9997-A112-4D69-85A0-B432FF48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F7B-68B2-4D16-958B-5D7E1EAF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C3E-24C5-4216-BBF3-1ED566CC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E1E-7A2E-47ED-8A2A-1FEBCBCD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2A8C-974D-4345-A747-238FDA7C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7C68-DDB5-4C88-AFA3-0A1E622F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1F7D-10EF-475A-9730-CC85A9D3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C167-EFC2-48C3-9535-243A962A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EEF-0A03-4456-A128-BFBA0786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AE28-C8CA-4046-B043-9DE3A651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F62D-1DC4-4334-A38F-27630DEC38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nmc.ru/" TargetMode="External"/><Relationship Id="rId2" Type="http://schemas.openxmlformats.org/officeDocument/2006/relationships/hyperlink" Target="http://www.rnmc.ru/" TargetMode="External"/><Relationship Id="rId3" Type="http://schemas.openxmlformats.org/officeDocument/2006/relationships/hyperlink" Target="http://www.rnmc.ru/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hyperlink" Target="http://obr.1c.ru/" TargetMode="Externa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4963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Использование мультимедийных учебников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на уроках географи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flipH="1" rot="21565200">
            <a:off x="3774240" y="4004640"/>
            <a:ext cx="1729080" cy="162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Современные средства обучения по географии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лектронные атласы и геоинформационные системы (ГИС)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лектронные учебники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вающие программы-игрушки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"Вспомогательные" программы для проведения и составления тестов, кроссвордов, готовые тестовые программ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ография. Библиотека наглядных пособий, 6-10 к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ономическая и социальная география мира, 10 к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ография России. Хозяйство и регионы, 9 к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ография России. Природа и население. 8 к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1584360" cy="138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96000" y="2349360"/>
            <a:ext cx="1584360" cy="138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619280" y="4797360"/>
            <a:ext cx="1657440" cy="1440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724360" y="4724280"/>
            <a:ext cx="1656000" cy="1513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Электронные учебники по географии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Электронные учебники по географии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ография. Наш дом - Земля. Материки, океаны, народы и страны, 7 к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ьный курс географии,       6 к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 учебники изданы </a:t>
            </a:r>
            <a:r>
              <a:rPr b="0" lang="ru-RU" sz="1800" spc="-1" strike="noStrike" u="sng">
                <a:solidFill>
                  <a:srgbClr val="00ffff"/>
                </a:solidFill>
                <a:uFillTx/>
                <a:latin typeface="Arial"/>
                <a:hlinkClick r:id="rId1"/>
              </a:rPr>
              <a:t>Республиканским мультимедиа центром </a:t>
            </a:r>
            <a:r>
              <a:rPr b="0" lang="ru-RU" sz="1800" spc="-1" strike="noStrike" u="sng">
                <a:solidFill>
                  <a:srgbClr val="00ffff"/>
                </a:solidFill>
                <a:uFillTx/>
                <a:latin typeface="Arial"/>
                <a:hlinkClick r:id="rId2"/>
              </a:rPr>
              <a:t>Минобразования</a:t>
            </a:r>
            <a:r>
              <a:rPr b="0" lang="ru-RU" sz="1800" spc="-1" strike="noStrike" u="sng">
                <a:solidFill>
                  <a:srgbClr val="00ffff"/>
                </a:solidFill>
                <a:uFillTx/>
                <a:latin typeface="Arial"/>
                <a:hlinkClick r:id="rId3"/>
              </a:rPr>
              <a:t> Росс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 заказу Министерства образования Российской Федерац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692360" y="2708280"/>
            <a:ext cx="1727280" cy="144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580000" y="2708280"/>
            <a:ext cx="1656000" cy="1441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На главную страницу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140360" y="5516640"/>
            <a:ext cx="1247760" cy="1009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230400" y="170280"/>
            <a:ext cx="8685720" cy="6514200"/>
            <a:chOff x="230400" y="170280"/>
            <a:chExt cx="8685720" cy="6514200"/>
          </a:xfrm>
        </p:grpSpPr>
        <p:sp>
          <p:nvSpPr>
            <p:cNvPr id="62" name="_s9244"/>
            <p:cNvSpPr/>
            <p:nvPr/>
          </p:nvSpPr>
          <p:spPr>
            <a:xfrm flipH="1" flipV="1">
              <a:off x="3036240" y="2274480"/>
              <a:ext cx="771120" cy="578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_s9245"/>
            <p:cNvSpPr/>
            <p:nvPr/>
          </p:nvSpPr>
          <p:spPr>
            <a:xfrm>
              <a:off x="1183680" y="885240"/>
              <a:ext cx="2171880" cy="1629000"/>
            </a:xfrm>
            <a:prstGeom prst="ellipse">
              <a:avLst/>
            </a:prstGeom>
            <a:solidFill>
              <a:srgbClr val="0064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Виде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материал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_s9246"/>
            <p:cNvSpPr/>
            <p:nvPr/>
          </p:nvSpPr>
          <p:spPr>
            <a:xfrm flipH="1">
              <a:off x="2399400" y="3426120"/>
              <a:ext cx="1091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_s9247"/>
            <p:cNvSpPr/>
            <p:nvPr/>
          </p:nvSpPr>
          <p:spPr>
            <a:xfrm>
              <a:off x="230400" y="2612880"/>
              <a:ext cx="2171880" cy="1629000"/>
            </a:xfrm>
            <a:prstGeom prst="ellipse">
              <a:avLst/>
            </a:prstGeom>
            <a:solidFill>
              <a:srgbClr val="0064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Дикторски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текс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_s9271"/>
            <p:cNvSpPr/>
            <p:nvPr/>
          </p:nvSpPr>
          <p:spPr>
            <a:xfrm flipH="1">
              <a:off x="3036240" y="3999960"/>
              <a:ext cx="771120" cy="578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_s9270"/>
            <p:cNvSpPr/>
            <p:nvPr/>
          </p:nvSpPr>
          <p:spPr>
            <a:xfrm>
              <a:off x="1183680" y="4340520"/>
              <a:ext cx="2171880" cy="1629000"/>
            </a:xfrm>
            <a:prstGeom prst="ellipse">
              <a:avLst/>
            </a:prstGeom>
            <a:solidFill>
              <a:srgbClr val="0064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оддержк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интерне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_s9248"/>
            <p:cNvSpPr/>
            <p:nvPr/>
          </p:nvSpPr>
          <p:spPr>
            <a:xfrm>
              <a:off x="4572000" y="4237200"/>
              <a:ext cx="0" cy="818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_s9249"/>
            <p:cNvSpPr/>
            <p:nvPr/>
          </p:nvSpPr>
          <p:spPr>
            <a:xfrm>
              <a:off x="3487320" y="5055480"/>
              <a:ext cx="2171880" cy="1629000"/>
            </a:xfrm>
            <a:prstGeom prst="ellipse">
              <a:avLst/>
            </a:prstGeom>
            <a:solidFill>
              <a:srgbClr val="0064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Музыкальны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фрагмент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_s9250"/>
            <p:cNvSpPr/>
            <p:nvPr/>
          </p:nvSpPr>
          <p:spPr>
            <a:xfrm>
              <a:off x="5336640" y="3999960"/>
              <a:ext cx="771120" cy="578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_s9251"/>
            <p:cNvSpPr/>
            <p:nvPr/>
          </p:nvSpPr>
          <p:spPr>
            <a:xfrm>
              <a:off x="5790960" y="4340520"/>
              <a:ext cx="2171880" cy="1629000"/>
            </a:xfrm>
            <a:prstGeom prst="ellipse">
              <a:avLst/>
            </a:prstGeom>
            <a:solidFill>
              <a:srgbClr val="0064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Слайд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_s9252"/>
            <p:cNvSpPr/>
            <p:nvPr/>
          </p:nvSpPr>
          <p:spPr>
            <a:xfrm>
              <a:off x="5653080" y="3426120"/>
              <a:ext cx="1091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_s9253"/>
            <p:cNvSpPr/>
            <p:nvPr/>
          </p:nvSpPr>
          <p:spPr>
            <a:xfrm>
              <a:off x="6744240" y="2612880"/>
              <a:ext cx="2171880" cy="1629000"/>
            </a:xfrm>
            <a:prstGeom prst="ellipse">
              <a:avLst/>
            </a:prstGeom>
            <a:solidFill>
              <a:srgbClr val="0064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Структури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ованны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тексты 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иллюстрация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_s9254"/>
            <p:cNvSpPr/>
            <p:nvPr/>
          </p:nvSpPr>
          <p:spPr>
            <a:xfrm flipV="1">
              <a:off x="5336640" y="2274480"/>
              <a:ext cx="771120" cy="578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_s9255"/>
            <p:cNvSpPr/>
            <p:nvPr/>
          </p:nvSpPr>
          <p:spPr>
            <a:xfrm>
              <a:off x="5790960" y="885240"/>
              <a:ext cx="2171880" cy="1629000"/>
            </a:xfrm>
            <a:prstGeom prst="ellipse">
              <a:avLst/>
            </a:prstGeom>
            <a:solidFill>
              <a:srgbClr val="0064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Фотографи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_s9256"/>
            <p:cNvSpPr/>
            <p:nvPr/>
          </p:nvSpPr>
          <p:spPr>
            <a:xfrm flipV="1">
              <a:off x="4572000" y="1796760"/>
              <a:ext cx="0" cy="817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_s9257"/>
            <p:cNvSpPr/>
            <p:nvPr/>
          </p:nvSpPr>
          <p:spPr>
            <a:xfrm>
              <a:off x="3487320" y="170280"/>
              <a:ext cx="2171880" cy="1629000"/>
            </a:xfrm>
            <a:prstGeom prst="ellipse">
              <a:avLst/>
            </a:prstGeom>
            <a:solidFill>
              <a:srgbClr val="0064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Компьютерную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анимацию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_s9258"/>
            <p:cNvSpPr/>
            <p:nvPr/>
          </p:nvSpPr>
          <p:spPr>
            <a:xfrm>
              <a:off x="3487320" y="2615040"/>
              <a:ext cx="2171880" cy="1629360"/>
            </a:xfrm>
            <a:prstGeom prst="ellipse">
              <a:avLst/>
            </a:prstGeom>
            <a:solidFill>
              <a:srgbClr val="0064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33"/>
                  </a:solidFill>
                  <a:latin typeface="Arial"/>
                </a:rPr>
                <a:t>Мультимедийны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33"/>
                  </a:solidFill>
                  <a:latin typeface="Arial"/>
                </a:rPr>
                <a:t>учебни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Положительные свойства электронных учебников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кст учебника сопровождается большим количеством слайдов и видеофрагментов, усиливающих эмоционально-личностное восприятие учащимися изучаемого материала, формирование образа территории. Большое количество динамических моделей, позволяют представить наиболее сложные для ученика процессы и яв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руктура программы включает несколько компонентов, что позволяет развивать у ребёнка навыки самостоятельной работы с несколькими источниками информ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иленный контрольно-практический раздел создаёт условия для первичного закрепления полученных на уроке знаний и умений, проведения практических работ, тематического контроля и коррекции зн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орма организации учебного материала в виде активных ссылок (на ресурсы в Интернете) предполагает активную деятельностную позицию ребёнка при изучении любой 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держка Интернет позволяет реализовать возможности дистанционного обуч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Применение электронных учебников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абота в кабинете географ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абота в компьютерном класс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ндивидуальная работа на дом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истанционное обуч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Из опыта работы с электронным учебником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88930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976400" indent="-1778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254240"/>
                <a:tab algn="l" pos="1887480"/>
                <a:tab algn="l" pos="2266920"/>
                <a:tab algn="l" pos="2590920"/>
                <a:tab algn="l" pos="2914560"/>
                <a:tab algn="l" pos="3238560"/>
                <a:tab algn="l" pos="3562200"/>
                <a:tab algn="l" pos="3886200"/>
                <a:tab algn="l" pos="4210200"/>
                <a:tab algn="l" pos="4533840"/>
                <a:tab algn="l" pos="4857840"/>
                <a:tab algn="l" pos="5181480"/>
                <a:tab algn="l" pos="5505480"/>
                <a:tab algn="l" pos="5829480"/>
                <a:tab algn="l" pos="6153120"/>
                <a:tab algn="l" pos="6477120"/>
                <a:tab algn="l" pos="6800760"/>
                <a:tab algn="l" pos="7124760"/>
                <a:tab algn="l" pos="7448400"/>
                <a:tab algn="l" pos="7772400"/>
                <a:tab algn="l" pos="8096400"/>
                <a:tab algn="l" pos="84200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Позволяет сделать на уроке намного больше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976400" indent="-1778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254240"/>
                <a:tab algn="l" pos="1887480"/>
                <a:tab algn="l" pos="2266920"/>
                <a:tab algn="l" pos="2590920"/>
                <a:tab algn="l" pos="2914560"/>
                <a:tab algn="l" pos="3238560"/>
                <a:tab algn="l" pos="3562200"/>
                <a:tab algn="l" pos="3886200"/>
                <a:tab algn="l" pos="4210200"/>
                <a:tab algn="l" pos="4533840"/>
                <a:tab algn="l" pos="4857840"/>
                <a:tab algn="l" pos="5181480"/>
                <a:tab algn="l" pos="5505480"/>
                <a:tab algn="l" pos="5829480"/>
                <a:tab algn="l" pos="6153120"/>
                <a:tab algn="l" pos="6477120"/>
                <a:tab algn="l" pos="6800760"/>
                <a:tab algn="l" pos="7124760"/>
                <a:tab algn="l" pos="7448400"/>
                <a:tab algn="l" pos="7772400"/>
                <a:tab algn="l" pos="8096400"/>
                <a:tab algn="l" pos="84200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Уроки становятся особенно увлекательными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976400" indent="-1778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254240"/>
                <a:tab algn="l" pos="1887480"/>
                <a:tab algn="l" pos="2266920"/>
                <a:tab algn="l" pos="2590920"/>
                <a:tab algn="l" pos="2914560"/>
                <a:tab algn="l" pos="3238560"/>
                <a:tab algn="l" pos="3562200"/>
                <a:tab algn="l" pos="3886200"/>
                <a:tab algn="l" pos="4210200"/>
                <a:tab algn="l" pos="4533840"/>
                <a:tab algn="l" pos="4857840"/>
                <a:tab algn="l" pos="5181480"/>
                <a:tab algn="l" pos="5505480"/>
                <a:tab algn="l" pos="5829480"/>
                <a:tab algn="l" pos="6153120"/>
                <a:tab algn="l" pos="6477120"/>
                <a:tab algn="l" pos="6800760"/>
                <a:tab algn="l" pos="7124760"/>
                <a:tab algn="l" pos="7448400"/>
                <a:tab algn="l" pos="7772400"/>
                <a:tab algn="l" pos="8096400"/>
                <a:tab algn="l" pos="84200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Расширяется возможность мотивации изучения предмета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976400" indent="-1778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254240"/>
                <a:tab algn="l" pos="1887480"/>
                <a:tab algn="l" pos="2266920"/>
                <a:tab algn="l" pos="2590920"/>
                <a:tab algn="l" pos="2914560"/>
                <a:tab algn="l" pos="3238560"/>
                <a:tab algn="l" pos="3562200"/>
                <a:tab algn="l" pos="3886200"/>
                <a:tab algn="l" pos="4210200"/>
                <a:tab algn="l" pos="4533840"/>
                <a:tab algn="l" pos="4857840"/>
                <a:tab algn="l" pos="5181480"/>
                <a:tab algn="l" pos="5505480"/>
                <a:tab algn="l" pos="5829480"/>
                <a:tab algn="l" pos="6153120"/>
                <a:tab algn="l" pos="6477120"/>
                <a:tab algn="l" pos="6800760"/>
                <a:tab algn="l" pos="7124760"/>
                <a:tab algn="l" pos="7448400"/>
                <a:tab algn="l" pos="7772400"/>
                <a:tab algn="l" pos="8096400"/>
                <a:tab algn="l" pos="84200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Повышается престиж среди других предметов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95640" y="4221000"/>
            <a:ext cx="42480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18:19:47Z</dcterms:created>
  <dc:creator>USER</dc:creator>
  <dc:description/>
  <dc:language>en-US</dc:language>
  <cp:lastModifiedBy>USER</cp:lastModifiedBy>
  <dcterms:modified xsi:type="dcterms:W3CDTF">2006-05-10T11:37:04Z</dcterms:modified>
  <cp:revision>11</cp:revision>
  <dc:subject/>
  <dc:title>Использование мультимедийных учебников    на уроках географии.</dc:title>
</cp:coreProperties>
</file>