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C49-D776-441C-AA0D-736B0D87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180-6879-4E32-AC27-C4C1EE74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B99-B4B1-4276-B1DE-0FFB9BEE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C1C-39DB-4045-A36B-1D978585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D01-F6F5-4E78-986B-EF6C86D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36A-030F-4454-8691-5C44966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9D3-2CF8-45B9-9338-6BCBDFB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D23-833F-47A6-B66E-C357483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C84-F62C-4EF2-A23B-0CA805A4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7FE-E89E-417F-9C85-949EC7C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2D4-86FC-4F16-B03B-1B9A765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7E1-E808-4A48-938A-E20A84E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0A45-D2E8-4370-AE36-C916386B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Конференция как форма урочной и внеуроч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64360" y="54936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3677400">
            <a:off x="760680" y="705600"/>
            <a:ext cx="119556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59280" y="4941720"/>
            <a:ext cx="287964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Конференция – собрание, совещание разных, в том числе и учебных организаций, для обсуждения каких-нибудь особых вопросов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сти конферен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жна проводиться с большим охватом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тика конференций не должна быть узконаправл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еренция должна носить проблем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ию конференций практически всегда предшествует написание научно-исследовательск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еренции не должны проводиться слишком часто, т.к. требуют большой подготовки и сбора большого количества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Мет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есный (лекция, рассказ, бесед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ктический (выполнение редакционных зада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глядный (видео, рисунки, проекто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1905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конферен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есс-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Урок-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сследовательская конферен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щешкольная 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Районная 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Республиканская 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 Всероссийская 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"пресс-конференция" - (вопрос-отве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СЯТЬ ПРАВИЛ ПРАВИЛЬНОГО ВЫСТУПЛЕНИЯ УЧАЩИХСЯ НА ПРЕСС-КОНФЕРЕНЦ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сь (прежде чем говорить, ответьте на 4 вопроса: кому вы будете говорить, что говорить, где и ког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житесь темы (какова ваша главная идея, что вы хотите доказа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те логичны (держите в голове какую-то логику, не перебегайте с темы на тем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(перед вами на всякий случай должен быть текс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е, а не читайте (потренируйтесь в говорении, поскольку чтение говорит о неподготовленно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йте возражения (следует заранее подумать и учесть возможную критику сказанного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те понятны (говорите конкретно и ясно, чтобы люди могли вас поня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умно используйте графику (она должна только поддерживать, а не заслонять собой выступлен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те убедительны (следует быть живым, интересным, чтобы доказать значимость произносимого для собравшихс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время остановите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держание урока - конферен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ведение и актуализация тем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ценка, либо демонстрационный материал, который четко обозначает проблему, поставленную в основу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Доклад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Доклад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Доклад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Теоретические задачи (работа в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ыводы по изложенному матери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Исследовательская конферен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уктура учебного исследования. Его этап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деление и постановка проблемы (выбор темы исследовани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движение гипотез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иск и предложение возможных вариантов реш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бор матери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бщение полученных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готовка проекта (сообщение, доклад, макет и др.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щита 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выбрать тему исследования. Их (все темы) можно разделить на 3 групп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антастические (несуществующие самим разработат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мпирические (проведение собственных наблюдений и эксперименто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оретические (работы по изучению и обобщению фактов, материалов, содержащихся в разных источниках. Это то, что можно спросить у других людей, это то, что написано в книгах и т.п.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выбора 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ма должна быть интересна учащемуся, должна увлекать его (добровольная основа склонност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ма должна быть оригинальной, в ней необходим элемент неожиданности, необычности. (Познание начинается с удивлен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ма должна быть выполнена относительно быстро. (Первые исследовательские опыты не должны требовать длительного времен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Примерные темы конферен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8-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ы за здоровый образ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ркотики – смерть, наркотикам - смер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Здорово питаться или здорово питаться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10-11 класс (конференции применимы как правило при изучении курса эколог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Экология нашего 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57520" y="1484280"/>
            <a:ext cx="5628960" cy="27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8557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29:42Z</dcterms:created>
  <dc:creator>1</dc:creator>
  <dc:description/>
  <dc:language>en-US</dc:language>
  <cp:lastModifiedBy>1</cp:lastModifiedBy>
  <dcterms:modified xsi:type="dcterms:W3CDTF">2008-02-21T09:15:32Z</dcterms:modified>
  <cp:revision>3</cp:revision>
  <dc:subject/>
  <dc:title>Конференция как форма урочной и внеурочной деятельности</dc:title>
</cp:coreProperties>
</file>