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10.gif" ContentType="image/gif"/>
  <Override PartName="/ppt/media/image9.gif" ContentType="image/gif"/>
  <Override PartName="/ppt/media/image8.gif" ContentType="image/gif"/>
  <Override PartName="/ppt/media/image19.wmf" ContentType="image/x-wmf"/>
  <Override PartName="/ppt/media/image16.wmf" ContentType="image/x-wmf"/>
  <Override PartName="/ppt/media/image1.png" ContentType="image/png"/>
  <Override PartName="/ppt/media/image2.png" ContentType="image/png"/>
  <Override PartName="/ppt/media/image11.gif" ContentType="image/gif"/>
  <Override PartName="/ppt/media/image14.wmf" ContentType="image/x-wmf"/>
  <Override PartName="/ppt/media/image3.gif" ContentType="image/gif"/>
  <Override PartName="/ppt/media/image7.png" ContentType="image/png"/>
  <Override PartName="/ppt/media/image15.wmf" ContentType="image/x-wmf"/>
  <Override PartName="/ppt/media/image4.gif" ContentType="image/gif"/>
  <Override PartName="/ppt/media/image12.wmf" ContentType="image/x-wmf"/>
  <Override PartName="/ppt/media/image5.wmf" ContentType="image/x-wmf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01E-F45C-4E53-B0B5-6430C4D6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2F2-A624-4023-BBB3-1965853B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BCCF6-5A9A-46D5-8125-F86F5C5A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D998D-FC68-4684-851A-3D24C500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55B00-A54A-41CE-9BD0-CE1074D6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2D30F-50DA-4308-A039-A7A35237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A3573-3888-405D-AC6B-AFB30D21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AD25A-F5C5-4284-8424-4AA22999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C6D0C-6972-4884-9431-E441FFE9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B141E-ADD7-4803-9F53-06FC87B0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2F162-0A5F-476F-9676-9A9AD8F1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3FA36-CABA-435D-B40C-D051E017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56C-D042-42CD-A346-96AB61A1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890C0-B4CE-4059-B909-028F3813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724D1-D91C-41C5-88D7-906A86EB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FC9E9-9E0B-4573-929F-6C739052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CDEB5-2D7E-40EA-A184-31C4F22A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1FB3F-BDC3-4258-A080-3C9964C9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0F41D-3F32-4D67-97DB-9909F792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40C2B-B95F-428B-9BB0-C8CAE825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E2C57-90F1-45AD-919D-AE3F5D2D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56CE7-8B86-40C8-B59B-C22E2294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A3325-9AD7-4BDD-B134-2577FFBF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ED9-E7B7-40A0-BC68-22993672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67F60-81A5-49AF-8FF1-0203E18E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1638B-5535-4F1D-BF99-980AE712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D919C-5695-4B35-834C-69D1838C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2A82C-DB5D-4229-9C49-52374327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46374-0B40-4B4A-ABB5-93645406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4DCDB-CC84-4BE8-B487-194DD5EC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8072A-3FA4-43C1-B98A-8FF196EC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D5E5C-1E02-4464-8535-0F3204E6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F0ADC-240C-4A50-AB98-0897537B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FF39A-7DED-43A9-BEFB-20CAEA38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91B6-1EDC-4FEC-985C-28AD3E15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8ABA3-48A9-4656-8E04-4CFA5787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CF5E0-5479-4FF3-8AF0-24753A8A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320BC-3FE6-46F0-8E9F-97D64FE1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2CAD0-21D8-4DF4-A1E4-8201B9BE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3683E-CF59-453D-B388-A7BC6E3D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11262-5AAE-4B57-AB87-4748384C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1A7DA-FCAF-41D1-A758-1E9EC847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8B826-2502-4DCE-B7E6-49E65921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2D100-02A5-491F-9989-7AE4CD12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A762E-3AF5-465D-A30C-F00DFFD9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35FD-ADBF-431C-B5A3-BC2D8F0F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FF794-7462-4690-8AEC-D5CCD7A7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B9177-EB98-4CB3-8BD6-81550494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62282-9F37-42C4-9E24-BE4FD5B6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E7F49-0EA8-4A1F-AD3B-201D19C7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B8808-2AE5-4A69-9350-6504208C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C635F-A2B8-43FB-8C97-90DDB31C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63309-5949-4E59-8689-520B6596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CF1C2-9287-4D03-BA72-B9312F07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107A9-6957-44A2-B5A1-69F099A6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9E3D8-6F52-4392-90FB-3F1547D4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8B8A-B8B8-4840-BD3C-205A3779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32F86-9790-4F14-BDB8-75424FA9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F6E26-EBFF-46FC-BFA5-FDD30C04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6CFE4-2136-4137-9BCC-16CAEC43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60FB8-C394-4289-87B4-B898A50E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AE350-A6B2-4713-891C-08AF7E3B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DFCDB-10C8-4312-BF04-80F8AABD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71D2C-6E08-4FB2-B4FA-595E09BD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C3C27E-9B63-4B5D-B9B5-9597FE08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876BA-9871-4583-A653-E8BCD4E3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3334BD-D5F1-48E9-88D6-F0514970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72F4-E905-43B7-AC0D-AE2B9206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92879-E3A4-41A0-86D3-F03ADFBA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F01300-889E-4BBB-845D-7DAB56B5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1985B-E0AE-464D-ADC3-932B78A2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F43465-A143-493B-A422-C991DD4C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61718-CA15-479D-AF77-C66D4B83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162F4-B81B-4BB3-A985-85CC9732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B32FF-165D-4829-8590-545FBC85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0127D-54E3-436B-ACAD-5BF736FE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87961A-9627-41F6-9257-A92B8B73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C876E-2448-4A15-AF57-F3881BBF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DE3E-5C4E-427F-8C22-52FB7E5F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F2D955-27F0-4816-964B-1335DA14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A1695-3DE9-4A2A-958B-95AEA921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04663-C2B5-4680-88F6-E6F5CCAA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B9F1B-0293-4E28-A501-E57A3E4C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A88E70-FE9D-437B-9470-94D0C405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2EDA2C-7B1D-4024-8EF5-7C622553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E0EA2-DB01-4F35-93BE-FE2038E8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030BC-D42F-460B-8917-00FE2850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95029F-EFD2-4546-AB17-DF82F268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7FFABA-7018-40A0-9249-BBF3F1CC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3D0B-B6A4-4863-8825-8A820383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338887-603A-48C9-9B97-7B2E5EAF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E6FF-CA22-4635-849D-C9198759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CAF-B1FD-4967-BBEA-014F2B9C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8458-2A18-4B1A-BE9C-FD93814F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6A03-6B91-4962-8A50-A17CA1DD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3579-3222-4405-BC11-5C11C9A9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9E50-CB86-4943-A40A-CB9F99E8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7834-9CF8-4A5E-9AEE-4CC43C8A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7CF98-A0F1-4B02-9CB9-D9BBE4E1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5359-2CA9-4335-9F21-2CB5A73E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29BE5-5659-4C5B-A17A-F8F5F9F8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18574-A53F-4FA7-9DCF-299263DE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7FB1-62CD-4239-BB0E-20B025E6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9FB-4A8D-4FC7-83D6-D13D9C61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63013-A0DF-481B-999F-2C0EFE80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2A1EF-6A63-4662-8806-F0A4948D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9E41-91B5-48CF-BB8A-06C3A2BB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49D03-63E4-413A-9199-AA270F4F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B587-8052-4F4B-B7C4-0E3FF7AB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288F2-47B9-4A96-8D8C-B5FCDE2A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F36A-592F-4F45-A136-FB5D5992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829D4-1E6D-4C0D-9042-2D298831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16E98-EC0D-4EA1-8C7D-6C48D19E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DE02F-861F-4FF0-8D77-61E8E76D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C68-A370-4D24-8B82-5E3FF80B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CC65F-C4F7-41B4-81CD-EA1FC7C4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1F525-3FF0-4B81-9281-6B0122C3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9E96F-6631-4259-989C-D3DD907B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BEF1B-4379-4F37-AD1D-DB20B8E4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6A3E2-08C9-4A0E-99F3-DE33CE80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338D4-2C4F-4B07-9661-6DE09AC4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B58E7-7A1A-4A83-9851-C136950C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98C01-CA3A-42DC-BFFB-35AF9869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F166A-4F30-4C30-9A89-CF970926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380CF-EF5E-4A74-AD9F-6AE2932A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B3F-AD94-4428-A3F2-99A15B96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F025B-233E-47FC-A1FF-52F26730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D20D7-0DDF-4A3B-A528-57420536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C8822-9ACE-4D3F-A519-2A589724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D105C-6CE8-466C-B749-2FBF09A6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34C4F-161D-4AC9-A4C0-C564BA9E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68921-55E6-43AF-AEE6-AB08832C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62C9B-EBA4-4730-9EE3-96E2636A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19683-748C-4D36-A118-247C9292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47D2D-C8CD-431C-BD95-E51712F0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62EAA-BE90-45BE-9CDE-EF4BD7C7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5A4-F049-4544-8898-4D198E28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8B8FC-108E-4B2E-AF28-F8240A5C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B9DA9-93D6-4135-B3A2-5A3CAB01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7F1B7-4BBE-4661-82C2-1557A800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D4508-21EC-4171-8367-8A0BE512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77828-E585-4880-8C1E-4F63DF7D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B4E1A-AC8E-4E90-B927-D9BB2D56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1D421-F4B9-43B2-B1AB-4D39D599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98E96-C410-4509-9DC0-25F71F0B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CB2A8-A540-4EEF-BCB9-A720E844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74625-8E4A-4890-9C23-C60A1F19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10B-804A-46AB-9F41-405D0349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0B565-DE19-4D07-988E-0420AC1D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11FE1-84D4-4412-BBB5-99B7EAFC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4D5ED-99FB-47DC-AB7C-59EC827C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E344B-8A18-4C5E-9D1C-7FBB774C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7E7EA-15C5-4104-8CB2-68564D70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2B2B0-F0F8-434E-9728-C6176EAC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627E1-E996-4472-B52A-106B3BF5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F717C-977A-407A-8EC5-BC8F48DA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5BC71-E4F2-456E-89B2-8FA7F379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2E37C-02B9-40F7-AC84-7C5EFB16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D28-2A64-4E8E-8487-70169601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4FA51-0989-40DE-AC88-308A6E5E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ED4C6-3442-4A36-97EC-EC90227F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2FC6B-140C-4249-8CF9-1823813D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4FB53-E581-4DAA-88D4-3575F79D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72717-C8CC-49E1-88BB-194C2DBB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F2297-974A-4662-A3AF-FF64F8FE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E3DF8-75FD-4C44-ABF6-AF582652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F6AD8-5BC6-40EF-A6B4-B6C25571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0B534-45F3-4B55-AA6E-3D6FB217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B6B72-0A0F-4AE4-A82C-BBFFFF55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C24A-7633-419A-8E84-E045E3A0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D36C8-F930-48EB-93A4-C878B15F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44838-83E0-42A9-A4BB-9BBF2467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1D0E2-7F4B-44F4-91F7-E6728C7B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C2D87-AAAB-4243-92D5-155A6134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66921-D3DC-4FBC-B8C1-644B4B8B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8E58D-8F0A-4ACC-A356-5B9DFC1E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E6350-D482-45FC-9275-36B17A31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79FC5-A4BB-466C-9609-5090124C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682D5-619D-495B-9C43-E22C56FF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74834-D1BD-4DA7-81E8-FCE22CF5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CC49-6567-4A54-B294-B86713C54B86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CAFB-15F0-4999-B687-E4C7B259CCC0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E5DD-8A55-4F72-8C42-D737216D56E6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B7AD-48A9-45FF-A549-D09D00B74392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3A07-F1F1-4ECE-BDC7-DE352ABC6534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5630-9F4C-4CFD-BD08-46B538CACA02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22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2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3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2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2A41-0883-470D-8764-B7976D52D46E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724B-22F0-4499-B7A7-510FF4B3AE9A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B3E1-8486-4092-BC1D-C0711F3CCB3C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EFDF-AEF5-4414-9F75-D579FD4EF2CA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D664-628D-4333-93CD-EE9DC68EBBC4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4C6B-7175-4904-9A8D-6AE398EFEE73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7098-E908-46B7-96DD-4B86420F6CEC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3E93-4650-4EC8-A201-50DAEC1F8F96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9715-671F-487B-AE4B-E3BEC0628D0D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3" name="Picture 10" descr="e54d6f9c99a4"/>
          <p:cNvPicPr/>
          <p:nvPr/>
        </p:nvPicPr>
        <p:blipFill>
          <a:blip r:embed="rId1"/>
          <a:stretch/>
        </p:blipFill>
        <p:spPr>
          <a:xfrm>
            <a:off x="0" y="0"/>
            <a:ext cx="3306600" cy="3382920"/>
          </a:xfrm>
          <a:prstGeom prst="rect">
            <a:avLst/>
          </a:prstGeom>
          <a:ln w="0">
            <a:noFill/>
          </a:ln>
        </p:spPr>
      </p:pic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826560" y="404640"/>
            <a:ext cx="74170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Highlight LET"/>
              </a:rPr>
              <a:t>  </a:t>
            </a:r>
            <a:r>
              <a:rPr b="1" lang="ru-RU" sz="8800" spc="-1" strike="noStrike">
                <a:solidFill>
                  <a:srgbClr val="ff6699"/>
                </a:solidFill>
                <a:latin typeface="Highlight LET"/>
              </a:rPr>
              <a:t>К   В   М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6699"/>
                </a:solidFill>
                <a:latin typeface="Highlight LET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Highlight LET"/>
              </a:rPr>
              <a:t>«КЛУБ ВЕСЁЛЫХ МАТЕМАТИКОВ»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5" name="Picture 14" descr="0b183b3b6828"/>
          <p:cNvPicPr/>
          <p:nvPr/>
        </p:nvPicPr>
        <p:blipFill>
          <a:blip r:embed="rId2"/>
          <a:stretch/>
        </p:blipFill>
        <p:spPr>
          <a:xfrm>
            <a:off x="6659640" y="3860640"/>
            <a:ext cx="237816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3422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a_AntiqueTradyTtlB&amp;W"/>
              </a:rPr>
              <a:t>Задача 5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0" y="1052280"/>
            <a:ext cx="6696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 знойный летний день, когда воздух звенит от насекомых, на зеленой лужайке площадью в три с половиной га пасутся две лошади одной породы и масти, различающиеся между собой разве только тем, что у одной хвост подвязан, а у другой – нет. Лужайка имеет форму параллелограмма, и одна из лошадей щиплет траву, передвигаясь по его диагонали, а другая – по его сторонам. Какая из этих лошадей в течение часа съест больше травы, если аппетит у них одинаков, одинаков и травяной покров лужайки, на которой они пасутся?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1" name="Picture 8" descr="f60f07901215уке47"/>
          <p:cNvPicPr/>
          <p:nvPr/>
        </p:nvPicPr>
        <p:blipFill>
          <a:blip r:embed="rId1"/>
          <a:stretch/>
        </p:blipFill>
        <p:spPr>
          <a:xfrm>
            <a:off x="5508720" y="4508640"/>
            <a:ext cx="345600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Vogu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 съест больше та, у которой хвост не привязан.Ей не приходиться отвекаться, отгоняя мух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9b64a"/>
                </a:solidFill>
                <a:latin typeface="TelegraphLine"/>
              </a:rPr>
              <a:t>Задача 6(отдохни)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178920" y="907920"/>
            <a:ext cx="5038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ак найти задуманное число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едложите кому-нибудь задумать не очень большое число и умножить его на само себя. К полученному результату попросите прибавить удвоенное задуманное число и еще 1. По объявленному результату арифметических действий вы можете назвать задуманное число. Как это сделать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6" name="Picture 8" descr="KNIGH073"/>
          <p:cNvPicPr/>
          <p:nvPr/>
        </p:nvPicPr>
        <p:blipFill>
          <a:blip r:embed="rId1"/>
          <a:stretch/>
        </p:blipFill>
        <p:spPr>
          <a:xfrm>
            <a:off x="4809960" y="2997360"/>
            <a:ext cx="4334040" cy="3644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44640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971280" y="1052640"/>
            <a:ext cx="705492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ля нахождения задуманного числа надо из объявленного результата извлечь квадратный корень, а затем вычесть 1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боснование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усть кто-либо задумал число 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. После предложенных арифметических действий получается число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·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+ 2·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+ 1 = (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+1)2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Это число и будет объявлен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DS Zombie Cyr"/>
              </a:rPr>
              <a:t>Задача 7(отдохни)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едложите кому-нибудь записать любое многозначное число, не все цифры которого одинаковы. Попросите переставить цифры этого числа таким образом, чтобы получилось число, отличное от первоначального, и записать его. Затем предложите вычесть меньшее число (из двух полученных) из большего числа, в разности зачеркнуть любую цифру, отличную от нуля, найти сумму оставшихся цифр и сказать результат. По объявленному результату вы можете сказать, какая цифра была вычеркнута. Как ее определить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cc"/>
                </a:solidFill>
                <a:latin typeface="Taverna"/>
              </a:rPr>
              <a:t>А сделать это просто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Зачеркнутая цифра есть то число, которое нужно прибавить к объявленному результату, чтобы получить ближайшее число, делящееся на 9. Если объявленное число уже делится на 9, значит, была вычеркнута цифра 9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боснован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усть числа 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имеют одну и ту же сумму цифр 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. Поскольку разности 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A–S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B–S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делятся на 9 (см. решение предыдущей задачи), следует, что и 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C=A–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=(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A–S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)–(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B–S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) делится на 9. Таким образом, сумма цифр числа </a:t>
            </a: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делится на 9. Дальнейшее обоснование равносильно обоснованию решения предыдущей задач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61672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9900"/>
                </a:solidFill>
                <a:latin typeface="Manuscript"/>
              </a:rPr>
              <a:t>Задача 8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Что это может быть: две головы, две руки и шесть ног, а при ходьбе только четыре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 решили ,что это выглядит примерно так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?????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27" name="Picture 6" descr="ALIEN007"/>
          <p:cNvPicPr/>
          <p:nvPr/>
        </p:nvPicPr>
        <p:blipFill>
          <a:blip r:embed="rId1"/>
          <a:stretch/>
        </p:blipFill>
        <p:spPr>
          <a:xfrm>
            <a:off x="2484360" y="1484280"/>
            <a:ext cx="343872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/>
          </p:nvPr>
        </p:nvSpPr>
        <p:spPr>
          <a:xfrm>
            <a:off x="610920" y="1699920"/>
            <a:ext cx="298764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от…))=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29" name="Picture 5" descr="BOYHORSE"/>
          <p:cNvPicPr/>
          <p:nvPr/>
        </p:nvPicPr>
        <p:blipFill>
          <a:blip r:embed="rId1"/>
          <a:stretch/>
        </p:blipFill>
        <p:spPr>
          <a:xfrm>
            <a:off x="4211640" y="1268280"/>
            <a:ext cx="3600360" cy="4149720"/>
          </a:xfrm>
          <a:prstGeom prst="rect">
            <a:avLst/>
          </a:prstGeom>
          <a:ln w="0">
            <a:noFill/>
          </a:ln>
        </p:spPr>
      </p:pic>
      <p:sp>
        <p:nvSpPr>
          <p:cNvPr id="1330" name="Rectangle 6"/>
          <p:cNvSpPr/>
          <p:nvPr/>
        </p:nvSpPr>
        <p:spPr>
          <a:xfrm>
            <a:off x="874440" y="5805360"/>
            <a:ext cx="827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 это же всадник на лошади…….))))))))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687096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cc"/>
                </a:solidFill>
                <a:latin typeface="Crystal"/>
              </a:rPr>
              <a:t>Задача 9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0120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ак правильно сказать: "9 и 7 будет 15" или "9 плюс 7 равно 15"?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3" name="Picture 6" descr="DA"/>
          <p:cNvPicPr/>
          <p:nvPr/>
        </p:nvPicPr>
        <p:blipFill>
          <a:blip r:embed="rId1"/>
          <a:stretch/>
        </p:blipFill>
        <p:spPr>
          <a:xfrm>
            <a:off x="2556000" y="2276640"/>
            <a:ext cx="395100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687060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ff"/>
                </a:solidFill>
                <a:latin typeface="Comic Sans MS"/>
              </a:rPr>
              <a:t>Весёлые задачи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9933"/>
                </a:solidFill>
                <a:latin typeface="Comic Sans MS"/>
              </a:rPr>
              <a:t>1 задач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323640" y="1989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несли вместе 7 стожков сена и 11 стожков. Сколько стожков получилось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9" name="Picture 38" descr="Рисунок1р"/>
          <p:cNvPicPr/>
          <p:nvPr/>
        </p:nvPicPr>
        <p:blipFill>
          <a:blip r:embed="rId1"/>
          <a:stretch/>
        </p:blipFill>
        <p:spPr>
          <a:xfrm>
            <a:off x="4140360" y="2205000"/>
            <a:ext cx="3757320" cy="3684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у вообще то……      </a:t>
            </a:r>
            <a:r>
              <a:rPr b="1" lang="ru-RU" sz="3600" spc="-1" strike="noStrike">
                <a:solidFill>
                  <a:srgbClr val="ff3300"/>
                </a:solidFill>
                <a:latin typeface="Comic Sans MS"/>
              </a:rPr>
              <a:t>9+7=1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5" name="Picture 5" descr="4a0d79090d5d8864e2d7f56ddafef54b"/>
          <p:cNvPicPr/>
          <p:nvPr/>
        </p:nvPicPr>
        <p:blipFill>
          <a:blip r:embed="rId1"/>
          <a:stretch/>
        </p:blipFill>
        <p:spPr>
          <a:xfrm>
            <a:off x="2195640" y="2637000"/>
            <a:ext cx="4824360" cy="3854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На этом наша игра заканчивается….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640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ccffcc"/>
                </a:solidFill>
                <a:latin typeface="Comic Sans MS"/>
              </a:rPr>
              <a:t>Презентацию подготовила-</a:t>
            </a:r>
            <a:r>
              <a:rPr b="0" lang="ru-RU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_DiscoSerifDblDn3D"/>
              </a:rPr>
              <a:t>Капсёнкова Дина))))))     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Picture 4" descr="HACKR069"/>
          <p:cNvPicPr/>
          <p:nvPr/>
        </p:nvPicPr>
        <p:blipFill>
          <a:blip r:embed="rId1"/>
          <a:stretch/>
        </p:blipFill>
        <p:spPr>
          <a:xfrm>
            <a:off x="1332000" y="549360"/>
            <a:ext cx="5759280" cy="5519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/>
          </p:nvPr>
        </p:nvSpPr>
        <p:spPr>
          <a:xfrm>
            <a:off x="2123640" y="1989000"/>
            <a:ext cx="7696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ff9933"/>
                </a:solidFill>
                <a:latin typeface="Comic Sans MS"/>
              </a:rPr>
              <a:t>Отве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:1 стог   :- )))))))))))))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1" name="Picture 5" descr="Рисуукнок1"/>
          <p:cNvPicPr/>
          <p:nvPr/>
        </p:nvPicPr>
        <p:blipFill>
          <a:blip r:embed="rId1"/>
          <a:stretch/>
        </p:blipFill>
        <p:spPr>
          <a:xfrm>
            <a:off x="179280" y="2349360"/>
            <a:ext cx="266400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58309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icraDi"/>
              </a:rPr>
              <a:t>Задача 2 (отдохни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685800" y="1125000"/>
            <a:ext cx="64785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адумайте число и запишите его. Удвойте его и прибавьте 1. Затем умножьте на 5 и вычтите 5. Разделите на 10. Результат запишите рядом с задуманным числом. Что получилось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4" name="Picture 8" descr="GROUNDHO"/>
          <p:cNvPicPr/>
          <p:nvPr/>
        </p:nvPicPr>
        <p:blipFill>
          <a:blip r:embed="rId1"/>
          <a:stretch/>
        </p:blipFill>
        <p:spPr>
          <a:xfrm>
            <a:off x="2987640" y="321300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 получится,задуманное вами число,,,,,,,))))))))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6" name="Picture 5" descr="033228d8b0fe45dd88da97cb4869870f"/>
          <p:cNvPicPr/>
          <p:nvPr/>
        </p:nvPicPr>
        <p:blipFill>
          <a:blip r:embed="rId1"/>
          <a:stretch/>
        </p:blipFill>
        <p:spPr>
          <a:xfrm>
            <a:off x="4500720" y="2852640"/>
            <a:ext cx="3240000" cy="2836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48229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cc"/>
                </a:solidFill>
                <a:latin typeface="PF Kids Pro Grade Five"/>
              </a:rPr>
              <a:t>Задача 3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179280" y="9810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 мальчика сестер столько же, сколько и братьев. Но у каждой сестры братьев в 2 раза больше, чем сестер. Сколько всего детей в семье? Сколько из них мальчиков и сколько девочек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9" name="Picture 12" descr="87"/>
          <p:cNvPicPr/>
          <p:nvPr/>
        </p:nvPicPr>
        <p:blipFill>
          <a:blip r:embed="rId1"/>
          <a:stretch/>
        </p:blipFill>
        <p:spPr>
          <a:xfrm>
            <a:off x="4716360" y="907920"/>
            <a:ext cx="30243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/>
          </p:nvPr>
        </p:nvSpPr>
        <p:spPr>
          <a:xfrm>
            <a:off x="684000" y="836640"/>
            <a:ext cx="3771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Ответ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:7 детей:4 мальчика и 3 девочк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1" name="Picture 11" descr="ccdb4ed7208efcff81c6cffd858843ec"/>
          <p:cNvPicPr/>
          <p:nvPr/>
        </p:nvPicPr>
        <p:blipFill>
          <a:blip r:embed="rId1"/>
          <a:stretch/>
        </p:blipFill>
        <p:spPr>
          <a:xfrm>
            <a:off x="4356000" y="2133720"/>
            <a:ext cx="2160720" cy="201600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12" descr="531085f05de4723bef0c532fcde9e336"/>
          <p:cNvPicPr/>
          <p:nvPr/>
        </p:nvPicPr>
        <p:blipFill>
          <a:blip r:embed="rId2"/>
          <a:stretch/>
        </p:blipFill>
        <p:spPr>
          <a:xfrm>
            <a:off x="3564000" y="4292640"/>
            <a:ext cx="2232000" cy="22050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17" descr="e804fc1c6885ca6e060f276fdf0cccb7"/>
          <p:cNvPicPr/>
          <p:nvPr/>
        </p:nvPicPr>
        <p:blipFill>
          <a:blip r:embed="rId3"/>
          <a:stretch/>
        </p:blipFill>
        <p:spPr>
          <a:xfrm>
            <a:off x="250920" y="3429000"/>
            <a:ext cx="2952720" cy="210816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9" descr="174382d45c67ca8e5e986061328ee00f"/>
          <p:cNvPicPr/>
          <p:nvPr/>
        </p:nvPicPr>
        <p:blipFill>
          <a:blip r:embed="rId4"/>
          <a:stretch/>
        </p:blipFill>
        <p:spPr>
          <a:xfrm>
            <a:off x="6732720" y="4005360"/>
            <a:ext cx="190008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04692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cc00"/>
                </a:solidFill>
                <a:latin typeface="NewZelek"/>
              </a:rPr>
              <a:t>Задача 4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539640" y="1773000"/>
            <a:ext cx="7415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Электропоезд едет с востока на запад. Набрав скорость, поезд делает 60 км/ч. В том же направлении – с востока на запад – дует ветер, но со скоростью 50 км/ч. В какую сторону относит дым поезда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 txBox="1"/>
          <p:nvPr/>
        </p:nvSpPr>
        <p:spPr>
          <a:xfrm>
            <a:off x="468000" y="981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твет: Ни в какую, электропоезд не даёт дым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8" name="Picture 7" descr="SHFTY"/>
          <p:cNvPicPr/>
          <p:nvPr/>
        </p:nvPicPr>
        <p:blipFill>
          <a:blip r:embed="rId1"/>
          <a:stretch/>
        </p:blipFill>
        <p:spPr>
          <a:xfrm>
            <a:off x="4356000" y="1125360"/>
            <a:ext cx="397044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7:28:28Z</dcterms:created>
  <dc:creator>Дина</dc:creator>
  <dc:description/>
  <dc:language>en-US</dc:language>
  <cp:lastModifiedBy>server</cp:lastModifiedBy>
  <dcterms:modified xsi:type="dcterms:W3CDTF">2012-11-12T09:01:53Z</dcterms:modified>
  <cp:revision>10</cp:revision>
  <dc:subject/>
  <dc:title>Математический  </dc:title>
</cp:coreProperties>
</file>