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5C36-E9A2-4DE9-B63A-970CCF87C0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126E-71D9-4B67-821D-507DFA918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8B2-BB88-4EF1-B7F5-7928F6F5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C11-AEA1-4F8E-B4EB-E622A279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A4D-B605-48AE-8042-E7399ED3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4C3-2F93-4771-BDA3-412982E6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A01-23B3-4825-9F3D-E2226FF9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E244-9437-4A60-B3FF-B94B363F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5B27-862A-4275-AB06-EBEE7CEB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882A-B045-4187-B427-C16C9C78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7639-57C7-4F31-921E-FCAD216E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26CF-A2C7-4619-9B86-1E34EE16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9AB1-6CFD-4EF2-A1B8-6679888A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757-FF22-44E6-A8AC-540F3DD1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7800-853F-4D74-BF35-A5A4EF9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5603-CDA7-42A0-AD66-90BA33D5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336-8E5C-434B-B039-3868E025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895E-0B2D-46F1-A3E8-13AAE1DE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D4DB-0C29-44DB-86A6-47CD1472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72D6-43F2-47C4-92A6-2E1D8D8D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BBAE-22AE-4CD3-B0EF-DBDCECCF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C2C6-EE0E-41CE-A57F-66C3E752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94EF-7E69-45B8-B9CB-C66918D0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C070-AD5A-4230-95E8-9A83BC15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C50-EB56-4958-90D1-8BC676E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0870-103D-4E3D-BAF4-1339CEF6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5814-D155-4E56-8C93-8536313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1B5B-397F-41AC-9623-B8F9551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07E0-31AB-49BC-8F41-7DC6DBC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030F-BDC4-43D2-B3D5-638285B0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CAF02-8490-4685-8346-8DC793A3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41B2E-738B-4B67-8CBC-D5CAAABD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2E99-C2A1-4E37-8A12-FC9BC310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8D4E-DBD4-40D5-89D0-F5A04C70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A966-EC03-41AB-B356-2DC55ABA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D66-E285-4DCC-A841-DAA359D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53C0-6749-4AC0-83BF-419CD521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6DA4-F5AB-4CE2-8E86-76F2D1C0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FF1A-E71B-4ADC-A501-32804E59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3BAD-6FDA-401E-A7CF-6C4CA7F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95FB-3054-4389-A526-176386A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EF9C-272A-4DB8-A4EE-F309DF12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183A-80E4-474C-A8DC-F034194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620A-9654-46E5-9BAF-FAD29470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AE87-8BD9-48D1-93CB-04465939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C16-C76E-487F-BF9C-75650F72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6FF-F9C6-47C3-A784-ECE67E81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65F-4433-43D5-92D8-1448D0CD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D24-46AA-44EB-811B-B1D1A5AB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2DF-1323-4399-89A4-26E3166D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54AD-CE15-4FFB-9107-6DED49E549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8C3C-6C2C-4CE1-A698-C794605308D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DC5D-FD01-4073-B59B-31307D02C3E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B9DF-D17A-42D5-B4FF-94AEF6C6A42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682560"/>
            <a:ext cx="8242200" cy="387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.В. Азарова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У г. Омс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Гимназия № 115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6a3"/>
                </a:solidFill>
                <a:latin typeface="Calibri"/>
              </a:rPr>
              <a:t>Суть дела не в полноте знания,</a:t>
            </a:r>
            <a:br>
              <a:rPr sz="6000"/>
            </a:br>
            <a:r>
              <a:rPr b="0" lang="ru-RU" sz="6000" spc="-1" strike="noStrike">
                <a:solidFill>
                  <a:srgbClr val="0076a3"/>
                </a:solidFill>
                <a:latin typeface="Calibri"/>
              </a:rPr>
              <a:t>а в полноте разумения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76a3"/>
                </a:solidFill>
                <a:latin typeface="Calibri"/>
              </a:rPr>
              <a:t>                        </a:t>
            </a:r>
            <a:r>
              <a:rPr b="0" i="1" lang="ru-RU" sz="6000" spc="-1" strike="noStrike">
                <a:solidFill>
                  <a:srgbClr val="0076a3"/>
                </a:solidFill>
                <a:latin typeface="Calibri"/>
              </a:rPr>
              <a:t>Демокрит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Calibri"/>
              </a:rPr>
              <a:t>Литератур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скунова Е. Н. Культура мышления и культура речи как определяющие факторы формирования лингвистической компетентности студентов [Текст] / Е. Н. Пискунова // Проблемы и перспективы развития образования: материалы междунар. заоч. науч. конф. (г. Пермь, апрель 2011 г.).Т. II.  — Пермь: Меркурий, 2011. — С. 119-12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борник олимпиадных заданий по русскому языку. 9-11 классы. Выпуск 2 / Авт.-сост. Г.М. Вялкова. – М.: Планета, 2012. – 144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2828880"/>
            <a:ext cx="82425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076a3"/>
                </a:solidFill>
                <a:latin typeface="Calibri"/>
              </a:rPr>
              <a:t>Компетентность –</a:t>
            </a:r>
            <a:br>
              <a:rPr sz="3200"/>
            </a:br>
            <a:r>
              <a:rPr b="0" lang="ru-RU" sz="32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ладение соответствующими определенной  сфере знаниями, умениями, навыка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25909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a3"/>
                </a:solidFill>
                <a:latin typeface="Constantia"/>
              </a:rPr>
              <a:t>Лингвистическая компетентность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системное качество личности, интегрирующее в себе личностные коммуникативные качества, знания о системе языка, владение основными языковыми понятиями и средствами, культурой общения как в социальной жизни, так и в профессиональной сфере, осознание личностью своих потребностей, ценностных ориентаций и мотивов личностной коммуникации и её развит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6a3"/>
                </a:solidFill>
                <a:latin typeface="Calibri"/>
              </a:rPr>
              <a:t>Задания повышенной трудност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пираются на межпредметные знания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осят творческий характер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едполагают несколько вариантов решения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ыходят за пределы школьного курса русского языка (их используем во внеурочной подготовке к олимпиадам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Calibri"/>
              </a:rPr>
              <a:t>ЛЕКСИКА И ФРАЗЕОЛОГИЯ, 5 кл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зовите русские слова, соответствующие данным иностранным, объясните причины сходст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ьск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głow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англ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o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укр.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ат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нем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Mann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гл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ose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анц.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nuit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зовите русские фразеологизмы, соответствующие иностранным, поясните их значение, составьте с ними предлож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ьск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hodzić na głowi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укр.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ерти голов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ольск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o góry nogam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англ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hands on hips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р.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ахати руками,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гл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without a he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Calibri"/>
              </a:rPr>
              <a:t>ЛЕКСИКА И ФРАЗЕОЛОГИЯ, 10-11 кл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ределите данные слова на группы по происхождению (иконно русские слова и заимствованные), у заимствований выделите признаки и  укажите язык-источни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иниатюра, байкер, карандаш, мощь, жюри, смородина, экономия, сын, шлем, осень, восемь, благо, поэзия, канап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солнце,  миля, одинокий, иллюминация, домашний, надежда, миллион, норматив, ладья, айсберг, водолечебница, базис, юродивый, видеоряд, диссертация, сканировать, ягненок, лод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Calibri"/>
              </a:rPr>
              <a:t>ЛЕКСИКА И ФРАЗЕОЛОГИЯ, 10-11 кл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3160" indent="-26316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читайте буквальные переводы иноязычных фразеологизмов. Каким русским оборотам они соответствую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Объясните значение эквивалентных фразеологизмов, сопоставьте их компонентный состав. Почему одно и то же значение выражено в разных языках единицами с разным компонентным составо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Одним камнем дважды удари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Жить как петух на откор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роль не кузе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инять пузыри за фонар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ока яйцо не снес – не кудахта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Calibri"/>
              </a:rPr>
              <a:t>ЛЕКСИКА И ФРАЗЕОЛОГИЯ, 10-11 кл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880" y="15235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читайте иностранные фразеологизмы, назовите русские эквиваленты, сформулируйте их значение. Поясните причины наличия в разных языках подобных выражений? Прокомментируйте сходства и различия эквивалентных единиц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гл.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lpha and omeg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гл.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like a bee to hon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keep your pecker 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eels over h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ang up a h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м.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de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Beutel fuell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м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er verlorene Soh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ранц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voir la t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ê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e sur les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é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aules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Calibri"/>
              </a:rPr>
              <a:t>ЛЕКСИКА И ФРАЗЕОЛОГИЯ, 10-11 кл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82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данных заголовках газетных статей найдите фразеологизмы, переосмысленные авторами. Запишите их в словарной форме, поясните значение каждого. Каким образом и для чего авторы трансформируют фразеологические единицы? Поясни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ак три капли во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ретья сторона мед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ыгают в воду многие, немногие выходят сухими из во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«Короткие» день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ольшие деньги застилают вам гла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Calibri"/>
              </a:rPr>
              <a:t>ЛЕКСИКА И ФРАЗЕОЛОГИЯ, 10-11 кл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овите устойчивые сочетания, на основе которых созданы слоганы, определите их тип. Поясните их функции в тексте. Оцените уместность употребления в реч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упайтесь в роскоши!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борудование для ванных «Максвелл»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усть Ваши волосы не теряют головы!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шампунь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ve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ivag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по осени считаю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косметик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vag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арл Клару одевает в «Коралле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бутик «Коралл»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льному – Вольво! (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втомобили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vo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2T15:50:53Z</dcterms:modified>
  <cp:revision>96</cp:revision>
  <dc:subject/>
  <dc:title>ФОРМИРОВАНИЕ ЛИНГВИСТИЧЕСКОЙ КОНПЕТЕНТНОСТИ ЧЕРЕЗ ЗАДАНИЯ ПОВЫШЕННОЙ ТРУДНОСТИ</dc:title>
</cp:coreProperties>
</file>