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415-8D4E-451B-91EC-D2DEA5D8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130-ADEA-4A3A-BF36-8850A94B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B4A-6E98-47C9-B67D-5C827F75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1CE-07C4-4D63-9D3C-C9DA51A5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994-6242-4DC4-8124-D39E7738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3B3-D16D-40A7-A31E-E73E6152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501-E84D-4F3B-8CFC-CA00D185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AC7-566B-4C21-83AD-131E3ADA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A29-9044-4A0A-A898-A20CC961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F2E-DCBB-40C0-B68B-AAF7D356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1F3-7D9F-48BE-88A1-F37E3856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17A-B0F7-4BB4-AEC9-588F8B76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0FF2-9337-44B3-B4E9-43396AEAB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 rot="21106800">
            <a:off x="1137960" y="1184040"/>
            <a:ext cx="28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У «Осташевская средня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4716360" y="2276640"/>
            <a:ext cx="29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 Light"/>
              </a:rPr>
              <a:t>ПРЕДСТАВЛЯ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6"/>
          <p:cNvSpPr/>
          <p:nvPr/>
        </p:nvSpPr>
        <p:spPr>
          <a:xfrm rot="20191200">
            <a:off x="4834800" y="747000"/>
            <a:ext cx="186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Segoe Light"/>
              </a:rPr>
              <a:t>   </a:t>
            </a:r>
            <a:r>
              <a:rPr b="1" lang="ru-RU" sz="1600" spc="-1" strike="noStrike">
                <a:solidFill>
                  <a:srgbClr val="17375e"/>
                </a:solidFill>
                <a:latin typeface="Segoe Light"/>
              </a:rPr>
              <a:t>Краеведческая группа «ИСТО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никто.png"/>
          <p:cNvPicPr/>
          <p:nvPr/>
        </p:nvPicPr>
        <p:blipFill>
          <a:blip r:embed="rId1"/>
          <a:stretch/>
        </p:blipFill>
        <p:spPr>
          <a:xfrm rot="20105400">
            <a:off x="5640480" y="3125520"/>
            <a:ext cx="1836720" cy="13222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9"/>
          <p:cNvSpPr/>
          <p:nvPr/>
        </p:nvSpPr>
        <p:spPr>
          <a:xfrm rot="20859600">
            <a:off x="2719800" y="32983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Segoe Light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Конку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«МОЙ МУЗ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 rot="20740800">
            <a:off x="3001680" y="5148360"/>
            <a:ext cx="18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Segoe Light"/>
              </a:rPr>
              <a:t>   </a:t>
            </a:r>
            <a:r>
              <a:rPr b="1" lang="ru-RU" sz="1600" spc="-1" strike="noStrike">
                <a:solidFill>
                  <a:srgbClr val="17375e"/>
                </a:solidFill>
                <a:latin typeface="Segoe Light"/>
              </a:rPr>
              <a:t>201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4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 rot="20683800">
            <a:off x="2156400" y="3124080"/>
            <a:ext cx="324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Золо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музей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правила дл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 rot="21123000">
            <a:off x="1453680" y="1374840"/>
            <a:ext cx="158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Лист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памя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страниц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 rot="20349600">
            <a:off x="4843080" y="1139040"/>
            <a:ext cx="28479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есь мир – муз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едай добро по круг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дь носителем культу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гда культура идет вшир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на не идет в глуб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гресс обществ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развитии у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сследовательского начала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частье- это когда все лучшие стороны твоей личности передаются ребенк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 rot="20683800">
            <a:off x="2156400" y="3124080"/>
            <a:ext cx="324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Золо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музей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правила дл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 rot="21123000">
            <a:off x="1453680" y="1374840"/>
            <a:ext cx="158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Лист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памя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страниц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 rot="20349600">
            <a:off x="4929480" y="539280"/>
            <a:ext cx="2757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удь вандал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цепь зла прорв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теб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дает человеку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ерь всему на слово, учись анализировать 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и с постоянным желанием делать добро людям и не труби об э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 rot="20683800">
            <a:off x="2086920" y="4203720"/>
            <a:ext cx="32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ЭКСПОЗ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Segoe"/>
              </a:rPr>
              <a:t>МУЗ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 rot="21123000">
            <a:off x="1436400" y="1302840"/>
            <a:ext cx="15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Открой в себе 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 rot="20349600">
            <a:off x="4991400" y="448560"/>
            <a:ext cx="27558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еревенский быт 50-60 годов ХХ ве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Интерьер деревенского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В кухне деревенского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сташёво в годы В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Панфиловцы в Осташе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Партизанское движение в Осташе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Сороковые, роковы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Ветераны села Осташё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Дети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Учителя-участники 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Память серд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сташевская фабрика игру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История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 rot="20683800">
            <a:off x="2079000" y="4379760"/>
            <a:ext cx="324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Segoe"/>
              </a:rPr>
              <a:t>КРАЕВЕД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Segoe"/>
              </a:rPr>
              <a:t>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 rot="21123000">
            <a:off x="1436400" y="1302840"/>
            <a:ext cx="15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Открой в себе 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 rot="20349600">
            <a:off x="4995360" y="307800"/>
            <a:ext cx="27558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«Два портрета…  вся жизнь» (А. Муравьев); «Математическое общество Н. Муравьева и его участники- декабристы»- - Ермил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«Храмы села Осташева»- Золина 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«Осташевская поэзия К.Р.»- Шорникова 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«Места, связанные с декабристским движением»- Матюш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 rot="20683800">
            <a:off x="2086920" y="4203720"/>
            <a:ext cx="32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Темы лекций, экскурсий</a:t>
            </a:r>
            <a:r>
              <a:rPr b="1" i="1" lang="ru-RU" sz="2000" spc="-1" strike="noStrike">
                <a:solidFill>
                  <a:srgbClr val="c00000"/>
                </a:solidFill>
                <a:latin typeface="Sego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 rot="21123000">
            <a:off x="1436400" y="1302840"/>
            <a:ext cx="15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Открой в себе 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 rot="20349600">
            <a:off x="4985640" y="249480"/>
            <a:ext cx="27558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Деревенский быт 50-60 годов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Осташёво в годы 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«Имя героя- панфиловец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Партизанское движение в Осташе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Батальон легендарных солд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«Страницы из семейного альбо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Их имена носила наша школа»- О Толе Шумове и Володи Колядо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«Материнская боль»- о Е.С. Шум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Дети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Учителя-участники 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Осташевская фабрика игр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Летопись нашей  шко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История Осташё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5"/>
          <p:cNvSpPr/>
          <p:nvPr/>
        </p:nvSpPr>
        <p:spPr>
          <a:xfrm rot="20535000">
            <a:off x="1494720" y="1266840"/>
            <a:ext cx="23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еревенский  б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0-60-х      г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ХХ       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 rot="20452200">
            <a:off x="2929680" y="3418200"/>
            <a:ext cx="198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Интерь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дереве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В кух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дереве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 rot="20210400">
            <a:off x="5449680" y="4208400"/>
            <a:ext cx="29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Интерьер деревенского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1" descr="IMG_0441.JPG"/>
          <p:cNvPicPr/>
          <p:nvPr/>
        </p:nvPicPr>
        <p:blipFill>
          <a:blip r:embed="rId1"/>
          <a:stretch/>
        </p:blipFill>
        <p:spPr>
          <a:xfrm>
            <a:off x="5003640" y="476280"/>
            <a:ext cx="1706760" cy="2276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IMG_0437.JPG"/>
          <p:cNvPicPr/>
          <p:nvPr/>
        </p:nvPicPr>
        <p:blipFill>
          <a:blip r:embed="rId2"/>
          <a:stretch/>
        </p:blipFill>
        <p:spPr>
          <a:xfrm rot="20287200">
            <a:off x="5436720" y="2604600"/>
            <a:ext cx="2214720" cy="166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5"/>
          <p:cNvSpPr/>
          <p:nvPr/>
        </p:nvSpPr>
        <p:spPr>
          <a:xfrm rot="20359200">
            <a:off x="5559120" y="413388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10253f"/>
                </a:solidFill>
                <a:latin typeface="Arial"/>
              </a:rPr>
              <a:t>Осташёво в годы В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 rot="20702400">
            <a:off x="2925720" y="3816360"/>
            <a:ext cx="20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Панфилов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в Осташё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Партизан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дв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в Осташё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8" descr="IMG_0403.JPG"/>
          <p:cNvPicPr/>
          <p:nvPr/>
        </p:nvPicPr>
        <p:blipFill>
          <a:blip r:embed="rId1"/>
          <a:stretch/>
        </p:blipFill>
        <p:spPr>
          <a:xfrm>
            <a:off x="4716360" y="765000"/>
            <a:ext cx="2274840" cy="1706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IMG_0414.JPG"/>
          <p:cNvPicPr/>
          <p:nvPr/>
        </p:nvPicPr>
        <p:blipFill>
          <a:blip r:embed="rId2"/>
          <a:stretch/>
        </p:blipFill>
        <p:spPr>
          <a:xfrm rot="20350800">
            <a:off x="5160600" y="2324160"/>
            <a:ext cx="2506680" cy="1746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лента с гвоздикой.gif"/>
          <p:cNvPicPr/>
          <p:nvPr/>
        </p:nvPicPr>
        <p:blipFill>
          <a:blip r:embed="rId3"/>
          <a:stretch/>
        </p:blipFill>
        <p:spPr>
          <a:xfrm rot="20628600">
            <a:off x="1519200" y="1287360"/>
            <a:ext cx="2379600" cy="129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 rot="20683800">
            <a:off x="1851120" y="1254600"/>
            <a:ext cx="28479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Ветеран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се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сташё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Дети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Учител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участ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Вели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ечеств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 rot="20208000">
            <a:off x="5538600" y="4239720"/>
            <a:ext cx="28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Сороковые, роковы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 rot="20349600">
            <a:off x="4998960" y="2385000"/>
            <a:ext cx="27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5" descr="IMG_0415.JPG"/>
          <p:cNvPicPr/>
          <p:nvPr/>
        </p:nvPicPr>
        <p:blipFill>
          <a:blip r:embed="rId1"/>
          <a:srcRect l="2579" t="0" r="9555" b="0"/>
          <a:stretch/>
        </p:blipFill>
        <p:spPr>
          <a:xfrm rot="20359800">
            <a:off x="5308560" y="2048040"/>
            <a:ext cx="2448000" cy="22334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1941.png"/>
          <p:cNvPicPr/>
          <p:nvPr/>
        </p:nvPicPr>
        <p:blipFill>
          <a:blip r:embed="rId2"/>
          <a:srcRect l="17824" t="11889" r="12798" b="33237"/>
          <a:stretch/>
        </p:blipFill>
        <p:spPr>
          <a:xfrm>
            <a:off x="4788000" y="907920"/>
            <a:ext cx="2016000" cy="105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 rot="21123000">
            <a:off x="2908800" y="3554280"/>
            <a:ext cx="158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Segoe"/>
              </a:rPr>
              <a:t>Личный вкла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Segoe"/>
              </a:rPr>
              <a:t>в развит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Segoe"/>
              </a:rPr>
              <a:t>музейно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 rot="20349600">
            <a:off x="4804920" y="58104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Экскур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музей ост4"/>
          <p:cNvPicPr/>
          <p:nvPr/>
        </p:nvPicPr>
        <p:blipFill>
          <a:blip r:embed="rId1"/>
          <a:stretch/>
        </p:blipFill>
        <p:spPr>
          <a:xfrm>
            <a:off x="5148360" y="126828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8 класс в музее 001"/>
          <p:cNvPicPr/>
          <p:nvPr/>
        </p:nvPicPr>
        <p:blipFill>
          <a:blip r:embed="rId2"/>
          <a:stretch/>
        </p:blipFill>
        <p:spPr>
          <a:xfrm rot="20646000">
            <a:off x="5487480" y="2635200"/>
            <a:ext cx="2340000" cy="1755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 rot="20683800">
            <a:off x="2086920" y="4203720"/>
            <a:ext cx="32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Уро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крае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 rot="21123000">
            <a:off x="1436400" y="1447200"/>
            <a:ext cx="15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Открой в себ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Блокада 015"/>
          <p:cNvPicPr/>
          <p:nvPr/>
        </p:nvPicPr>
        <p:blipFill>
          <a:blip r:embed="rId1"/>
          <a:stretch/>
        </p:blipFill>
        <p:spPr>
          <a:xfrm>
            <a:off x="4716360" y="836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музей ост1"/>
          <p:cNvPicPr/>
          <p:nvPr/>
        </p:nvPicPr>
        <p:blipFill>
          <a:blip r:embed="rId2"/>
          <a:stretch/>
        </p:blipFill>
        <p:spPr>
          <a:xfrm rot="20271600">
            <a:off x="5508360" y="2781000"/>
            <a:ext cx="2114280" cy="159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8" descr="никто.png"/>
          <p:cNvPicPr/>
          <p:nvPr/>
        </p:nvPicPr>
        <p:blipFill>
          <a:blip r:embed="rId1"/>
          <a:stretch/>
        </p:blipFill>
        <p:spPr>
          <a:xfrm rot="20105400">
            <a:off x="5744880" y="3379680"/>
            <a:ext cx="1836720" cy="11098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9"/>
          <p:cNvSpPr/>
          <p:nvPr/>
        </p:nvSpPr>
        <p:spPr>
          <a:xfrm rot="20534400">
            <a:off x="1428840" y="852480"/>
            <a:ext cx="5762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Год создания     музея:  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Segoe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Профиль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Segoe"/>
              </a:rPr>
              <a:t>историко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музея: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Segoe"/>
              </a:rPr>
              <a:t>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Segoe"/>
              </a:rPr>
              <a:t>краеведческий</a:t>
            </a:r>
            <a:r>
              <a:rPr b="0" i="1" lang="ru-RU" sz="2000" spc="-1" strike="noStrike">
                <a:solidFill>
                  <a:srgbClr val="000000"/>
                </a:solidFill>
                <a:latin typeface="Sego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 rot="19001400">
            <a:off x="2405880" y="3857040"/>
            <a:ext cx="2724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Руководитель музея:                </a:t>
            </a: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Тернов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Антонина Павл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учитель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1"/>
          <p:cNvSpPr/>
          <p:nvPr/>
        </p:nvSpPr>
        <p:spPr>
          <a:xfrm rot="20257200">
            <a:off x="4890960" y="1695960"/>
            <a:ext cx="261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egoe"/>
              </a:rPr>
              <a:t>Память – это тот посох, на который человек опирается в своем жизненном пути, она делает его зрячим.» В.П. Астафь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 rot="20683800">
            <a:off x="2086920" y="4203720"/>
            <a:ext cx="32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Печа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 rot="20349600">
            <a:off x="4785480" y="366120"/>
            <a:ext cx="28195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«Дети войны», «Материнская боль»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альманахе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Наследие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0253f"/>
                </a:solidFill>
                <a:latin typeface="Arial"/>
              </a:rPr>
              <a:t>Группа   учащихся 9 класса, руководитель Качайкина Н.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«Память о войне. Батальон легендарных солдат» </a:t>
            </a:r>
            <a:r>
              <a:rPr b="1" lang="ru-RU" sz="1400" spc="-1" strike="noStrike">
                <a:solidFill>
                  <a:srgbClr val="17375e"/>
                </a:solidFill>
                <a:latin typeface="Arial"/>
              </a:rPr>
              <a:t>в сборнике научных трудов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«Ценности Российского общества и роль ВОв в их развитии» </a:t>
            </a:r>
            <a:r>
              <a:rPr b="1" lang="ru-RU" sz="1400" spc="-1" strike="noStrike">
                <a:solidFill>
                  <a:srgbClr val="10253f"/>
                </a:solidFill>
                <a:latin typeface="Arial"/>
              </a:rPr>
              <a:t>Терновская А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«Осташевская поэзия К.Р.» и «Храмы Осташёва»  </a:t>
            </a:r>
            <a:r>
              <a:rPr b="1" lang="ru-RU" sz="1400" spc="-1" strike="noStrike">
                <a:solidFill>
                  <a:srgbClr val="10253f"/>
                </a:solidFill>
                <a:latin typeface="Arial"/>
              </a:rPr>
              <a:t>в историко-краеведческом альманахе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«Подмосковный летописец» </a:t>
            </a:r>
            <a:r>
              <a:rPr b="1" lang="ru-RU" sz="1400" spc="-1" strike="noStrike">
                <a:solidFill>
                  <a:srgbClr val="10253f"/>
                </a:solidFill>
                <a:latin typeface="Arial"/>
              </a:rPr>
              <a:t>группа уч-ся. Руководитель Тишак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 rot="20683800">
            <a:off x="2085840" y="3741840"/>
            <a:ext cx="324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Лич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в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в 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музей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 rot="20349600">
            <a:off x="4811040" y="361440"/>
            <a:ext cx="2819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новская А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тификат </a:t>
            </a: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участие в работе региональной научно-практической конференции для руководителей школьных музеев «Патриотизм нардов России: традиции и современно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ственное пись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активное участие в 5 Межрегиональной научно-практической конференции «Ценности Российского общества и роль ВОв в их развит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тификат </a:t>
            </a: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участие в районном семинаре руководителей ОУ . Тема: «Музейная работа в школе как компонент гражданско-патриотического воспитания детей и молодежи. Опыт рабо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ность </a:t>
            </a: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 лица Фонда «Инновационные технологии и социум» за помощь в проведении программы «Помни имя сво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 rot="20683800">
            <a:off x="2085840" y="3741840"/>
            <a:ext cx="324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Лич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в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в 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музей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 rot="20349600">
            <a:off x="4777200" y="90000"/>
            <a:ext cx="2819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плом Дыленок А. </a:t>
            </a: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активное  участие во второй районной научно-практической конференции «Наследие». Тема «Материнская боль». Научный рукводитель: Терновская А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тификат   Семенковой Е.и Барабаш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активное участие в 5 Межрегиональной научно-практической конференции «Ценности Российского общества и роль ВОв в их развитии». Тема выступления «Батальон легендарных солдат» Руководитель: Терновская А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плом  Ермиловой А. </a:t>
            </a: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участие во Всероссийском конкурсе Товарищ, верь!», посвященном 185-летию восстания декабр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ность Тишаковой Н.А. </a:t>
            </a: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 Международного союза «Мужества и гуманизм» за бескорыстное служение Отчизне и поддержку Сою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 rot="20683800">
            <a:off x="2085840" y="3741840"/>
            <a:ext cx="324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Лич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в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в 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музей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 rot="20349600">
            <a:off x="4839120" y="725040"/>
            <a:ext cx="2819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мота  членам краеведческой группы «Истоки»  </a:t>
            </a:r>
            <a:r>
              <a:rPr b="1" lang="ru-RU" sz="1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т начальника Московского областного филиала МосУ МВД России В.М. Исакова </a:t>
            </a: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участие в проведении выставки «Версты Победы», за изучение истории России и творческое отношение к работе, что является примером достойного исполнения гражданского долга и патрио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ность членам краеведческой группы «Истоки»  </a:t>
            </a:r>
            <a:r>
              <a:rPr b="1" lang="ru-RU" sz="1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т руководства и Совета ветеранов Рузского ОВД «Боевое братство» за активное участие в пропаганде подвига советского народа в В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плом Крыловой Л.</a:t>
            </a:r>
            <a:r>
              <a:rPr b="1" lang="ru-RU" sz="1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За 2 место в районном творческом конкурсе «Летопись ветерана» в номинации «Видеорол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 rot="20683800">
            <a:off x="2085840" y="3741840"/>
            <a:ext cx="324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Лич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в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в 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музей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 rot="20349600">
            <a:off x="4837680" y="309240"/>
            <a:ext cx="28195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мота Семенковой Е и Ермиловой А. 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4 место в районной краеведческой конференции «Этих дней немеркнущая слава». Тема «работа краеведческой группы «Истоки» в номинации «Военная история. Герои войн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мота  членам краеведческой группы «Истоки» 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любовь к Родине, память о великой исторической миссии, о подвигах своих предков, верность их заветам, великим традициям России, традициям мужества, стойкости и доблести и достойное участие в районной молодежной конференции «Великая Отечественная война. Взгляд из ХХ</a:t>
            </a:r>
            <a:r>
              <a:rPr b="1" lang="en-US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I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век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9"/>
          <p:cNvSpPr/>
          <p:nvPr/>
        </p:nvSpPr>
        <p:spPr>
          <a:xfrm rot="20683800">
            <a:off x="4407840" y="553320"/>
            <a:ext cx="32432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Segoe"/>
              </a:rPr>
              <a:t>Пусть дни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Segoe"/>
              </a:rPr>
              <a:t>тянулись очень долг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Пусть быстро мчалис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мирны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Победы под Москв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под курском и на Вол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История запомнит навсе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Пусть вам сейчас, отцы и дед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Виски посеребрила сед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Вовек вам не забы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весну Побед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Тот ден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когда закончилась вой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Пусть многие сегодня не в стро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Мы помним вс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что делалось т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И обещаем Родину св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Сберечь для дел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мира и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0" descr="обои.jpg"/>
          <p:cNvPicPr/>
          <p:nvPr/>
        </p:nvPicPr>
        <p:blipFill>
          <a:blip r:embed="rId1"/>
          <a:stretch/>
        </p:blipFill>
        <p:spPr>
          <a:xfrm rot="511800">
            <a:off x="2939760" y="2937960"/>
            <a:ext cx="1336680" cy="237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4"/>
          <p:cNvSpPr/>
          <p:nvPr/>
        </p:nvSpPr>
        <p:spPr>
          <a:xfrm rot="20664600">
            <a:off x="2721600" y="474984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Segoe"/>
              </a:rPr>
              <a:t>Роль и зна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Segoe"/>
              </a:rPr>
              <a:t>музейной педагог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 rot="20178000">
            <a:off x="5004360" y="207000"/>
            <a:ext cx="2560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Segoe"/>
              </a:rPr>
              <a:t>  </a:t>
            </a:r>
            <a:r>
              <a:rPr b="1" lang="ru-RU" sz="1400" spc="-1" strike="noStrike">
                <a:solidFill>
                  <a:srgbClr val="17375e"/>
                </a:solidFill>
                <a:latin typeface="Segoe"/>
              </a:rPr>
              <a:t>Чувство настоящего времени не приходит извне, оно возникает внутри человека тогда, когда для него важно происходящее вокруг и когда он сам важен и значим для окружающего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Segoe"/>
              </a:rPr>
              <a:t>В этом смысле музейная педагогика стала весьма значимой, ведь встреча с прошлым  открывает для учащегося его настоящее. Особую роль сыграло создание  собственными руками музея школы, творческой группой учителей, родителей и  самих уче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 rot="20683800">
            <a:off x="1437840" y="972000"/>
            <a:ext cx="561168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Segoe"/>
              </a:rPr>
              <a:t>ПРЕЗЕН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Segoe"/>
              </a:rPr>
              <a:t>ПОДГОТОВИЛИ:</a:t>
            </a:r>
            <a:r>
              <a:rPr b="1" i="1" lang="ru-RU" sz="1200" spc="-1" strike="noStrike">
                <a:solidFill>
                  <a:srgbClr val="c00000"/>
                </a:solidFill>
                <a:latin typeface="Segoe"/>
              </a:rPr>
              <a:t>                                             </a:t>
            </a: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Семенкова Евг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                                                                 </a:t>
            </a: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Дыленок Ан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                                                                 </a:t>
            </a: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Ермилова Анаста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                                                                 </a:t>
            </a: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Соболе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                                                                 </a:t>
            </a: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Кирпиченков Серг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                                                                 </a:t>
            </a:r>
            <a:r>
              <a:rPr b="1" i="1" lang="ru-RU" sz="1400" spc="-1" strike="noStrike">
                <a:solidFill>
                  <a:srgbClr val="10253f"/>
                </a:solidFill>
                <a:latin typeface="Segoe"/>
              </a:rPr>
              <a:t>Крылова Ле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 rot="20664600">
            <a:off x="2550240" y="4392720"/>
            <a:ext cx="566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Segoe"/>
              </a:rPr>
              <a:t>КОНСУЛЬТАНТ</a:t>
            </a:r>
            <a:r>
              <a:rPr b="1" lang="ru-RU" sz="1400" spc="-1" strike="noStrike">
                <a:solidFill>
                  <a:srgbClr val="c00000"/>
                </a:solidFill>
                <a:latin typeface="Segoe"/>
              </a:rPr>
              <a:t>:                                                  </a:t>
            </a:r>
            <a:r>
              <a:rPr b="1" lang="ru-RU" sz="1400" spc="-1" strike="noStrike">
                <a:solidFill>
                  <a:srgbClr val="10253f"/>
                </a:solidFill>
                <a:latin typeface="Segoe"/>
              </a:rPr>
              <a:t>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0253f"/>
                </a:solidFill>
                <a:latin typeface="Segoe"/>
              </a:rPr>
              <a:t>                                                                        </a:t>
            </a:r>
            <a:r>
              <a:rPr b="1" lang="ru-RU" sz="1400" spc="-1" strike="noStrike">
                <a:solidFill>
                  <a:srgbClr val="10253f"/>
                </a:solidFill>
                <a:latin typeface="Segoe"/>
              </a:rPr>
              <a:t>школьного муз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0253f"/>
                </a:solidFill>
                <a:latin typeface="Segoe"/>
              </a:rPr>
              <a:t>                                                                  </a:t>
            </a:r>
            <a:r>
              <a:rPr b="1" lang="ru-RU" sz="1400" spc="-1" strike="noStrike">
                <a:solidFill>
                  <a:srgbClr val="10253f"/>
                </a:solidFill>
                <a:latin typeface="Segoe"/>
              </a:rPr>
              <a:t>Терновская А.П</a:t>
            </a:r>
            <a:r>
              <a:rPr b="1" lang="ru-RU" sz="1400" spc="-1" strike="noStrike">
                <a:solidFill>
                  <a:srgbClr val="c00000"/>
                </a:solidFill>
                <a:latin typeface="Sego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IMG_1802"/>
          <p:cNvPicPr/>
          <p:nvPr/>
        </p:nvPicPr>
        <p:blipFill>
          <a:blip r:embed="rId1"/>
          <a:stretch/>
        </p:blipFill>
        <p:spPr>
          <a:xfrm rot="20854200">
            <a:off x="5280120" y="2391840"/>
            <a:ext cx="190332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SAM_0650"/>
          <p:cNvPicPr/>
          <p:nvPr/>
        </p:nvPicPr>
        <p:blipFill>
          <a:blip r:embed="rId2"/>
          <a:stretch/>
        </p:blipFill>
        <p:spPr>
          <a:xfrm rot="20670600">
            <a:off x="5303520" y="2363400"/>
            <a:ext cx="19191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0"/>
          <p:cNvSpPr/>
          <p:nvPr/>
        </p:nvSpPr>
        <p:spPr>
          <a:xfrm rot="20844000">
            <a:off x="2368800" y="2692440"/>
            <a:ext cx="272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Рабоч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груп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по созд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шко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музе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 rot="20257200">
            <a:off x="4965480" y="156960"/>
            <a:ext cx="2611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Segoe"/>
              </a:rPr>
              <a:t>Кузнецова Зоя Александровна, </a:t>
            </a:r>
            <a:r>
              <a:rPr b="0" i="1" lang="ru-RU" sz="1600" spc="-1" strike="noStrike">
                <a:solidFill>
                  <a:srgbClr val="000000"/>
                </a:solidFill>
                <a:latin typeface="Segoe"/>
              </a:rPr>
              <a:t>учитель истории и обществ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egoe"/>
              </a:rPr>
              <a:t>Тишакова Нина Александровна, учитель русского языка и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Segoe"/>
              </a:rPr>
              <a:t>Терновская Антонина Павловна,</a:t>
            </a:r>
            <a:r>
              <a:rPr b="0" i="1" lang="ru-RU" sz="1600" spc="-1" strike="noStrike">
                <a:solidFill>
                  <a:srgbClr val="000000"/>
                </a:solidFill>
                <a:latin typeface="Segoe"/>
              </a:rPr>
              <a:t> учитель истории и обществ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Segoe"/>
              </a:rPr>
              <a:t>Писарева Людмила Александровна, </a:t>
            </a:r>
            <a:r>
              <a:rPr b="0" i="1" lang="ru-RU" sz="1600" spc="-1" strike="noStrike">
                <a:solidFill>
                  <a:srgbClr val="000000"/>
                </a:solidFill>
                <a:latin typeface="Segoe"/>
              </a:rPr>
              <a:t>директор школы, 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 rot="20740800">
            <a:off x="1423800" y="141444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Segoe Light"/>
              </a:rPr>
              <a:t>   </a:t>
            </a:r>
            <a:r>
              <a:rPr b="1" lang="ru-RU" sz="1800" spc="-1" strike="noStrike">
                <a:solidFill>
                  <a:srgbClr val="17375e"/>
                </a:solidFill>
                <a:latin typeface="Segoe Light"/>
              </a:rPr>
              <a:t>200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0"/>
          <p:cNvSpPr/>
          <p:nvPr/>
        </p:nvSpPr>
        <p:spPr>
          <a:xfrm rot="20844000">
            <a:off x="2444400" y="3343320"/>
            <a:ext cx="272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содей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организации шко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музе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 rot="20329200">
            <a:off x="4902480" y="539280"/>
            <a:ext cx="26780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Segoe"/>
              </a:rPr>
              <a:t>Администрация сельского поселения Осташев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Segoe"/>
              </a:rPr>
              <a:t>Предприним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Segoe"/>
              </a:rPr>
              <a:t>Управляющий совет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Segoe"/>
              </a:rPr>
              <a:t>Родительский ком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Segoe"/>
              </a:rPr>
              <a:t>Коллективы 1-11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 rot="20712600">
            <a:off x="2324160" y="3151080"/>
            <a:ext cx="27241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ПРОЕКТ     С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МУЗЕЯ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«О подви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о мужеств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о сл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 rot="21123000">
            <a:off x="1453680" y="1374840"/>
            <a:ext cx="158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Лист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памя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страниц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 rot="20280600">
            <a:off x="4929840" y="251280"/>
            <a:ext cx="2725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Segoe"/>
              </a:rPr>
              <a:t>ПЛАН  ПРОЕК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Segoe"/>
              </a:rPr>
              <a:t>2007-2008- создание творческ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Segoe"/>
              </a:rPr>
              <a:t>2008-2009- поисковая работа, сбор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Segoe"/>
              </a:rPr>
              <a:t>2009-2010- проектно-исследовательская 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Segoe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Segoe"/>
              </a:rPr>
              <a:t>2010-2011-музейные уроки, экскурсии, конферен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 rot="20712600">
            <a:off x="2261880" y="4040280"/>
            <a:ext cx="27241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      </a:t>
            </a:r>
            <a:r>
              <a:rPr b="1" lang="ru-RU" sz="1600" spc="-1" strike="noStrike">
                <a:solidFill>
                  <a:srgbClr val="10253f"/>
                </a:solidFill>
                <a:latin typeface="Segoe"/>
              </a:rPr>
              <a:t>ПО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«О школьном музе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Segoe"/>
              </a:rPr>
              <a:t>от 01.09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 rot="21123000">
            <a:off x="1453680" y="1374840"/>
            <a:ext cx="158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Лист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памя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страниц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 rot="20280600">
            <a:off x="4922640" y="199800"/>
            <a:ext cx="2638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Segoe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иобщение к историческому и духовному  наследию Осташе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Segoe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содействие в организации и проведении учебно-воспитательного проце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активная экскурсионно-массовая работа, связь с ветеранами и общественными объединени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воспитание патриотизма, гражданственности, бережного отношения  истории свое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 rot="20712600">
            <a:off x="2261880" y="4040280"/>
            <a:ext cx="27241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egoe"/>
              </a:rPr>
              <a:t>      </a:t>
            </a:r>
            <a:r>
              <a:rPr b="1" lang="ru-RU" sz="1600" spc="-1" strike="noStrike">
                <a:solidFill>
                  <a:srgbClr val="10253f"/>
                </a:solidFill>
                <a:latin typeface="Segoe"/>
              </a:rPr>
              <a:t>ПО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Segoe"/>
              </a:rPr>
              <a:t>«О школьном музе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Segoe"/>
              </a:rPr>
              <a:t>от 01.09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 rot="21123000">
            <a:off x="1453680" y="1374840"/>
            <a:ext cx="158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Лист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памя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страниц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 rot="20280600">
            <a:off x="4924080" y="431640"/>
            <a:ext cx="263844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Segoe"/>
              </a:rPr>
              <a:t>Наш музей в своей деятельности руководств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Segoe"/>
              </a:rPr>
              <a:t>Закон РФ «Об образован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Segoe"/>
              </a:rPr>
              <a:t>Письмо Минобразования РФ «О деятельности музеев 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Segoe"/>
              </a:rPr>
              <a:t>Нормативными документами о фондах государственных музее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Segoe"/>
              </a:rPr>
              <a:t>Закон РФ»Основы законодательства РФ о культур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 rot="20728200">
            <a:off x="2689920" y="2620800"/>
            <a:ext cx="20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Segoe"/>
              </a:rPr>
              <a:t>АКТИ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Segoe"/>
              </a:rPr>
              <a:t>МУЗ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 rot="21123000">
            <a:off x="1453680" y="1374840"/>
            <a:ext cx="158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Лист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памя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страниц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 rot="20280600">
            <a:off x="4924080" y="431640"/>
            <a:ext cx="263844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Segoe"/>
              </a:rPr>
              <a:t>Наш музей в своей деятельности руководств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Segoe"/>
              </a:rPr>
              <a:t>Закон РФ «Об образован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Segoe"/>
              </a:rPr>
              <a:t>Письмо Минобразования РФ «О деятельности музеев 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Segoe"/>
              </a:rPr>
              <a:t>Нормативными документами о фондах государственных музее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e1c11"/>
                </a:solidFill>
                <a:latin typeface="Segoe"/>
              </a:rPr>
              <a:t>Закон РФ»Основы законодательства РФ о культур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 rot="20690400">
            <a:off x="2999160" y="3332160"/>
            <a:ext cx="200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6092"/>
                </a:solidFill>
                <a:latin typeface="Segoe"/>
              </a:rPr>
              <a:t>Терновская А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6092"/>
                </a:solidFill>
                <a:latin typeface="Segoe"/>
              </a:rPr>
              <a:t>Корнеева Л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6092"/>
                </a:solidFill>
                <a:latin typeface="Segoe"/>
              </a:rPr>
              <a:t>Тишак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6092"/>
                </a:solidFill>
                <a:latin typeface="Segoe"/>
              </a:rPr>
              <a:t>Кухтина И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6092"/>
                </a:solidFill>
                <a:latin typeface="Segoe"/>
              </a:rPr>
              <a:t>Дыленок Ан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6092"/>
                </a:solidFill>
                <a:latin typeface="Segoe"/>
              </a:rPr>
              <a:t>Ермилова А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6092"/>
                </a:solidFill>
                <a:latin typeface="Segoe"/>
              </a:rPr>
              <a:t>Семенкова 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6092"/>
                </a:solidFill>
                <a:latin typeface="Segoe"/>
              </a:rPr>
              <a:t>Соболе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6092"/>
                </a:solidFill>
                <a:latin typeface="Segoe"/>
              </a:rPr>
              <a:t>Кирпиченков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 rot="18026400">
            <a:off x="1995480" y="3218400"/>
            <a:ext cx="32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egoe"/>
              </a:rPr>
              <a:t>Темы исследовательски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 rot="21123000">
            <a:off x="1453680" y="1374840"/>
            <a:ext cx="158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Лист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памя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76092"/>
                </a:solidFill>
                <a:latin typeface="Segoe"/>
              </a:rPr>
              <a:t>страниц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 rot="20472000">
            <a:off x="5035320" y="469800"/>
            <a:ext cx="2886120" cy="52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в твоем доме» (этнография: быт, односельчане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ницы ис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шево» (партизанское дви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-комсомольцы, батальон легендарных солда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и войн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льцы земли подмосковной» (труженики села, Осташевская фабрика игруше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нашей школы» (детские движения, учителя, летопись школ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9:14:47Z</dcterms:created>
  <dc:creator>Учитель</dc:creator>
  <dc:description/>
  <dc:language>en-US</dc:language>
  <cp:lastModifiedBy>Учитель</cp:lastModifiedBy>
  <dcterms:modified xsi:type="dcterms:W3CDTF">2012-11-11T22:04:24Z</dcterms:modified>
  <cp:revision>7</cp:revision>
  <dc:subject/>
  <dc:title>Слайд 1</dc:title>
</cp:coreProperties>
</file>