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58A9-8FF6-4D3B-A07B-7A287838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E883-7509-47F2-A8FC-17FA3E4E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D6C4-3F8B-41B0-A332-08D96955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02C2-659A-4A0E-9A05-3E12204B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02A7-30E3-46D6-81C4-787B2319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DD66-4F30-4224-8320-55A9EE82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F68-7429-422F-A436-9409AE92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CD9-1846-4111-9E64-5D7353C9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88C1-330C-4E9A-BD7B-0E7B44F1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1C83-1251-40A8-AAB4-B0117A91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8A15-3C79-471E-A2EB-D18714A8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A1D7-462F-4D82-9184-5C32B233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A958-738C-4FC4-976C-32E9B649AC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.nanonewsnet.ru/articles?page=1&amp;year=2007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3009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00"/>
                </a:solidFill>
                <a:uFillTx/>
                <a:latin typeface="Impact"/>
              </a:rPr>
              <a:t>Нервная система челове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85840" y="5143320"/>
            <a:ext cx="8423280" cy="1439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99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</a:rPr>
              <a:t>презентация  ученицы 4а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</a:rPr>
              <a:t>Гасановой А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презентации использовались иллюстрации следующих сай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.nanonewsnet.ru/articles?page=1&amp;year=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http://community.livejournal.com/golden_mean2009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http://www.hais.ru/index.php?newsid=243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http://nevrolog2009.narod2.ru/Kratko_ob_anatomii_nervnoi_sistem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516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Impact"/>
              </a:rPr>
              <a:t>Нервная система чело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5699160" cy="4997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99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Black"/>
              </a:rPr>
              <a:t>Всё тело человека пронизано нервами, несущими информацию от его частей к мозгу и обратно. Спинной и головной мозг составляют центральную нервную систему, а нервы – периферическу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30"/>
          <p:cNvPicPr/>
          <p:nvPr/>
        </p:nvPicPr>
        <p:blipFill>
          <a:blip r:embed="rId2"/>
          <a:srcRect l="7321" t="2451" r="5450" b="5800"/>
          <a:stretch/>
        </p:blipFill>
        <p:spPr>
          <a:xfrm>
            <a:off x="6084720" y="189000"/>
            <a:ext cx="259092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68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00"/>
                </a:solidFill>
                <a:uFillTx/>
                <a:latin typeface="Impact"/>
              </a:rPr>
              <a:t>Нейроны – нервные клет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51280" y="1628640"/>
            <a:ext cx="3492360" cy="5229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99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Нервная система состоит из нервов, которые проникают во все части нашего т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Neuron_rus"/>
          <p:cNvPicPr/>
          <p:nvPr/>
        </p:nvPicPr>
        <p:blipFill>
          <a:blip r:embed="rId1"/>
          <a:stretch/>
        </p:blipFill>
        <p:spPr>
          <a:xfrm>
            <a:off x="324000" y="1557360"/>
            <a:ext cx="5256000" cy="49323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80000" cy="1125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 u="sng">
                <a:solidFill>
                  <a:srgbClr val="000000"/>
                </a:solidFill>
                <a:uFillTx/>
                <a:latin typeface="Impact"/>
              </a:rPr>
              <a:t>Типы нейронов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4968720" cy="5732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99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Arial Black"/>
              </a:rPr>
              <a:t>Сенсорные нейроны</a:t>
            </a: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 – собирают информацию от органов чувств и посылают её в головной мозг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Arial Black"/>
              </a:rPr>
              <a:t>Моторные нейроны</a:t>
            </a: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 – передают команды головного мозга мышца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Arial Black"/>
              </a:rPr>
              <a:t>Промежуточные нейроны</a:t>
            </a: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 – находятся в головном и спинном мозге, перерабатывают информацию и передают её другим нейрона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76720" y="2852640"/>
            <a:ext cx="3743280" cy="4005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99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 Black"/>
              </a:rPr>
              <a:t>В нашем теле  около 100 миллиардов нейрон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 Black"/>
              </a:rPr>
              <a:t>Самые длинные клетки нашего тела – нейроны, находятся в спинном мозге, они посылают свои отростки к пальцам ног. Их длина – 1 м 20 с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Neuron-birth"/>
          <p:cNvPicPr/>
          <p:nvPr/>
        </p:nvPicPr>
        <p:blipFill>
          <a:blip r:embed="rId1"/>
          <a:stretch/>
        </p:blipFill>
        <p:spPr>
          <a:xfrm>
            <a:off x="5508720" y="333360"/>
            <a:ext cx="3095640" cy="23223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508720" cy="1197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Impact"/>
              </a:rPr>
              <a:t>Скоростные сигна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5329080" cy="5732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99"/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Нервные сигналы распространяются по нервной системе в виде электрических импульсов со скоростью до 430 км/ч. Каждый нейрон головного мозга образует контакты   с тысячами нервных клеток и ежесекундно получает от них более 100000 нервных сигна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35280" y="3716280"/>
            <a:ext cx="3529080" cy="2952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99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От головного мозга до пальцев ног сигнал доходит примерно за 1/50 секун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539661d52d8ea6ab6fd9d824cbff4726"/>
          <p:cNvPicPr/>
          <p:nvPr/>
        </p:nvPicPr>
        <p:blipFill>
          <a:blip r:embed="rId1"/>
          <a:stretch/>
        </p:blipFill>
        <p:spPr>
          <a:xfrm>
            <a:off x="5508720" y="333360"/>
            <a:ext cx="3306600" cy="304812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 u="sng">
                <a:solidFill>
                  <a:srgbClr val="000000"/>
                </a:solidFill>
                <a:uFillTx/>
                <a:latin typeface="Impact"/>
              </a:rPr>
              <a:t>Головной мозг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528560"/>
            <a:ext cx="3419640" cy="5329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99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ри главные части головного мозг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нечный моз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озжеч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тв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2fdfd63d2964"/>
          <p:cNvPicPr/>
          <p:nvPr/>
        </p:nvPicPr>
        <p:blipFill>
          <a:blip r:embed="rId1"/>
          <a:stretch/>
        </p:blipFill>
        <p:spPr>
          <a:xfrm>
            <a:off x="3419640" y="1268280"/>
            <a:ext cx="5400360" cy="52372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 u="sng">
                <a:solidFill>
                  <a:srgbClr val="000000"/>
                </a:solidFill>
                <a:uFillTx/>
                <a:latin typeface="Impact"/>
              </a:rPr>
              <a:t>Спинной мозг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6720" y="1196640"/>
            <a:ext cx="3743280" cy="5661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99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ередаёт нервные сигналы от всех частей тела в головной мозг и его команды в обратном направ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481640" y="2971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спина"/>
          <p:cNvPicPr/>
          <p:nvPr/>
        </p:nvPicPr>
        <p:blipFill>
          <a:blip r:embed="rId1"/>
          <a:srcRect l="8837" t="2195" r="0" b="0"/>
          <a:stretch/>
        </p:blipFill>
        <p:spPr>
          <a:xfrm>
            <a:off x="324000" y="1052640"/>
            <a:ext cx="4917960" cy="547344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 u="sng">
                <a:solidFill>
                  <a:srgbClr val="000000"/>
                </a:solidFill>
                <a:uFillTx/>
                <a:latin typeface="Impact"/>
              </a:rPr>
              <a:t>Укажи реакцию организм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684360" y="1484280"/>
            <a:ext cx="3527280" cy="187344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  <a:effectLst>
            <a:outerShdw dist="17819" dir="27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ад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пас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ред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684360" y="4365720"/>
            <a:ext cx="3527280" cy="194292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  <a:effectLst>
            <a:outerShdw dist="17819" dir="27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ад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хруп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ред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5003640" y="4365720"/>
            <a:ext cx="3598920" cy="2016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  <a:effectLst>
            <a:outerShdw dist="17819" dir="27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у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тдергив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т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5003640" y="1484280"/>
            <a:ext cx="3672000" cy="187344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  <a:effectLst>
            <a:outerShdw dist="17819" dir="27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у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ротягив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 предме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4"/>
          <p:cNvSpPr/>
          <p:nvPr/>
        </p:nvSpPr>
        <p:spPr>
          <a:xfrm rot="3031800">
            <a:off x="3759480" y="3474000"/>
            <a:ext cx="1590480" cy="538200"/>
          </a:xfrm>
          <a:prstGeom prst="leftRightArrow">
            <a:avLst>
              <a:gd name="adj1" fmla="val 50000"/>
              <a:gd name="adj2" fmla="val 58830"/>
            </a:avLst>
          </a:prstGeom>
          <a:solidFill>
            <a:srgbClr val="ff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5"/>
          <p:cNvSpPr/>
          <p:nvPr/>
        </p:nvSpPr>
        <p:spPr>
          <a:xfrm rot="18432000">
            <a:off x="3762000" y="3472920"/>
            <a:ext cx="1582920" cy="566640"/>
          </a:xfrm>
          <a:prstGeom prst="leftRightArrow">
            <a:avLst>
              <a:gd name="adj1" fmla="val 50000"/>
              <a:gd name="adj2" fmla="val 55611"/>
            </a:avLst>
          </a:prstGeom>
          <a:solidFill>
            <a:srgbClr val="ff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Impact"/>
              </a:rPr>
              <a:t>Восстанови  цепочку  реакции организма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Impact"/>
              </a:rPr>
              <a:t>(падает хрупкий предм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63640" y="2797200"/>
            <a:ext cx="6778800" cy="4060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99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Мозг отправил сигнал мышц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Рука отдёрнулас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Глаз увид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Рука потянулась к падающему предме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042920" y="3068640"/>
            <a:ext cx="865080" cy="503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  <a:effectLst>
            <a:outerShdw dist="17819" dir="27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042920" y="4005360"/>
            <a:ext cx="865080" cy="503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  <a:effectLst>
            <a:outerShdw dist="17819" dir="27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042920" y="4869000"/>
            <a:ext cx="865080" cy="503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  <a:effectLst>
            <a:outerShdw dist="17819" dir="27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042920" y="5661000"/>
            <a:ext cx="865080" cy="503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  <a:effectLst>
            <a:outerShdw dist="17819" dir="27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5280" y="1773360"/>
            <a:ext cx="8424720" cy="100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99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Укажи последовательность происходящих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5:20:39Z</dcterms:created>
  <dc:creator>1</dc:creator>
  <dc:description/>
  <dc:language>en-US</dc:language>
  <cp:lastModifiedBy>User</cp:lastModifiedBy>
  <dcterms:modified xsi:type="dcterms:W3CDTF">2012-09-16T11:01:40Z</dcterms:modified>
  <cp:revision>8</cp:revision>
  <dc:subject/>
  <dc:title>Слайд 1</dc:title>
</cp:coreProperties>
</file>