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A818-2549-4D9D-9BC7-8B82047A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E2AC-F75B-41D0-8AF0-62CD0495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38A2-F48D-4D2A-A23C-68D5F0A2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EEC53-EA34-4C6A-8BA9-026561CF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41B2-58AA-475E-ABF8-50D4EF65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AC7D-7A2B-4B7F-8C22-E1D53747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B647-10D9-46CB-9F18-4B3BB5EC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CE5-62FD-4555-A2CE-D4B0CD23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3CE6-F85A-4547-951B-5E0BEAB1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AB95-9AF8-4286-B8FC-19500265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AB36-7226-48CF-8E6E-1DEAE4B0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FF3E-8EDE-4BA6-8F1A-8301D608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F1F6-CBB3-4D81-B3A3-B9EF9E7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E2C7-F98B-41A9-B6F9-3E2EDADB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A920-482A-4FDC-9A2B-65CCDA2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1E69-CB10-4848-89DB-588909A0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0AEA-15CF-43BA-A4A6-0FDC6420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4DBC-7A5A-427D-8B6A-B30D847C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808C-352B-45B7-916E-B1B09DC4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5F12-D856-463F-A4EF-52124796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FA1F8-6507-4910-90B4-105C1C1A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583E-9116-43C3-A552-D097F58C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2108-F1A6-4B19-ACC1-92E616B8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A35C-B1A8-4299-8636-627BF584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6C34-EDC3-4569-88E6-864C3D5BFD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7CAF-B69B-43C0-B8F4-3DE44094EE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ая и логическая структура носителя информ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97360"/>
            <a:ext cx="601992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мназия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род Май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-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Таблица размещения файлов (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FAT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 - </a:t>
            </a: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file allocation tabl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полную информацию о кластерах, которые занимают фай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тся в двух идентичных копиях с целью более надежного сохранения этой важ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ячее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ет количеству кластеров на диске, а значениями ячеек являются цепочки размещения файлов – последовательности адресов кластеров, в которых хранятся фай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3789360"/>
          <a:ext cx="9144000" cy="1884240"/>
        </p:xfrm>
        <a:graphic>
          <a:graphicData uri="http://schemas.openxmlformats.org/drawingml/2006/table">
            <a:tbl>
              <a:tblPr/>
              <a:tblGrid>
                <a:gridCol w="614520"/>
                <a:gridCol w="460080"/>
                <a:gridCol w="462240"/>
                <a:gridCol w="460080"/>
                <a:gridCol w="462240"/>
                <a:gridCol w="461880"/>
                <a:gridCol w="460440"/>
                <a:gridCol w="460440"/>
                <a:gridCol w="461880"/>
                <a:gridCol w="536400"/>
                <a:gridCol w="538200"/>
                <a:gridCol w="460440"/>
                <a:gridCol w="461880"/>
                <a:gridCol w="460440"/>
                <a:gridCol w="461880"/>
                <a:gridCol w="461880"/>
                <a:gridCol w="460440"/>
                <a:gridCol w="460440"/>
                <a:gridCol w="53820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1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Фрагмент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2520" y="1557360"/>
          <a:ext cx="8782200" cy="11858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414360"/>
                <a:gridCol w="415800"/>
                <a:gridCol w="414360"/>
                <a:gridCol w="416160"/>
                <a:gridCol w="415800"/>
                <a:gridCol w="414360"/>
                <a:gridCol w="414360"/>
                <a:gridCol w="415800"/>
                <a:gridCol w="482760"/>
                <a:gridCol w="484200"/>
                <a:gridCol w="414360"/>
                <a:gridCol w="415800"/>
                <a:gridCol w="414360"/>
                <a:gridCol w="415800"/>
                <a:gridCol w="416160"/>
                <a:gridCol w="414360"/>
                <a:gridCol w="414360"/>
                <a:gridCol w="48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FAT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овая система для О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ет 12 битов для хранения адреса клас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адресовать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4096 клас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дискет, в них объем одного кластера равен одному сектору (512 байт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ый объе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12 байт * 4096 = 2  097 152  байт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48 Кбайт =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Мб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5805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спользуется только для диск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59640" y="53751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FAT1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овая система для О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ет 16 битов для хранения адреса клас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адресовать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65536 клас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м кластера не может быть больше 128 секторов (64 Кбай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ый объе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4  Кбайт * 65536 = 4 194 304  Кбайт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96 Мбайт =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 Гб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5805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спользуется для  некоторых видов флэш-памя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9640" y="53751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FAT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овая система для 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ет 32 бита для хранения адреса клас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адресова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 294 967 296  класт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кластера по умолчанию составляет 8 секторов (4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использоваться для носителей объем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 Кбайт * 4 294 967 296 = 17 179 869 184  Кбайт=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 777 216 Мбайт = 16 384 Гбайт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 Т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551664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жет использоваться для жестких дисков самого большого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9640" y="53751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Журналируемые файловые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565360"/>
            <a:ext cx="8209080" cy="2113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Журналируемая файловая система сохраняет список изменений, которые она будет проводить с файловой системой, перед фактической записью измене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и записи хранятся в отдельной части файловой системы, называемой «журналом» или «лого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NT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овая система для 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устанавливать различный объем кластера – от 512 байтов дл 64 К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равнению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величивает надежность и эффективность использования дисков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используется систе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журна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учае сбоя компьютера целостность файловой системы восстанавливается с помощью файла журнала NTFS и данных о контрольных точ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Windows 2000 и Windows XP файловая система NTFS также обеспечивает такие дополнительные возможности, как разрешения для файлов и папок, шифрование, дисковые квоты и сжа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494480" y="411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ext3 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eiser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налируемые файловые систем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О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 (Apple Compu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ер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ет быть от 1 до 8 Кб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serF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ысоконадежная файловая система, хорошо приспособленная для хранения большого количества маленьких файлов, для этого в одном кластере  могут быть размещены данные нескольких файлов. Максимальный размер файловой системы – 16 Тбай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362720" y="5013360"/>
            <a:ext cx="13748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урналируемая  файловая систем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 Ма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(Apple Compu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330720" y="3114720"/>
            <a:ext cx="20239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D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йловая система для работы 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исками, базирующаяся на стандар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-966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этому стандарту имя файла не может превышать 32 символа, а глубина вложения – не более 8 уров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Структура внешней памя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1916280"/>
            <a:ext cx="2286000" cy="82548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нешняя пам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4005360"/>
            <a:ext cx="1440000" cy="7038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есткие ди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4005360"/>
            <a:ext cx="1368720" cy="7038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ибкие ди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4005360"/>
            <a:ext cx="1584360" cy="7038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азерные ди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4005360"/>
            <a:ext cx="1692360" cy="7038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Verdana"/>
              </a:rPr>
              <a:t>магнитные л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4005360"/>
            <a:ext cx="1584360" cy="7038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sh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мя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116000" y="2852640"/>
            <a:ext cx="3384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00000" y="2852640"/>
            <a:ext cx="1800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27280" y="2852640"/>
            <a:ext cx="730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2852640"/>
            <a:ext cx="1655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852640"/>
            <a:ext cx="3456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0,80,-1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0,80,-1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9280" y="1914480"/>
            <a:ext cx="6334200" cy="4943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676760" cy="2905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D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U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системная файловая система для работы  с файлами на оптических дис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ет на перезаписываемы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-RW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D-R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далять, копировать и сохранять отдельные фай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Объем файла в разных файловых систе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2038320"/>
            <a:ext cx="3467160" cy="481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700360" y="2028960"/>
            <a:ext cx="3495600" cy="4829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57760" y="2028960"/>
            <a:ext cx="3486240" cy="4829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1916280"/>
            <a:ext cx="270036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сткий дис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16280"/>
            <a:ext cx="284328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эш-брел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1916280"/>
            <a:ext cx="341964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ис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50864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450864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450864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5877000"/>
            <a:ext cx="8569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колько места будут занимать  эти файлы на дискете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8120" y="685800"/>
            <a:ext cx="6095880" cy="61722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41400"/>
            <a:ext cx="8893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Форматирование из командной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4000" y="145260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6068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680" y="1450800"/>
            <a:ext cx="29638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format A:  /A:1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286000"/>
            <a:ext cx="29638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format A:  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4365720"/>
            <a:ext cx="87631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Быстрое форматирова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роизводит  очистку корневого каталога и таблиц размещения фай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Times New Roman"/>
              </a:rPr>
              <a:t>После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быстрого</a:t>
            </a:r>
            <a:r>
              <a:rPr b="0" i="1" lang="en-US" sz="2400" spc="-1" strike="noStrike">
                <a:solidFill>
                  <a:srgbClr val="cc00cc"/>
                </a:solidFill>
                <a:latin typeface="Times New Roman"/>
              </a:rPr>
              <a:t> форматирования информация, то есть сами файлы, сохранятся, и в принципе возможно восстановление файловой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914400"/>
            <a:ext cx="883908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Полное форматир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ключает в себя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физическ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логическ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орма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ru-RU" sz="2400" spc="-1" strike="noStrike">
                <a:solidFill>
                  <a:srgbClr val="3333ff"/>
                </a:solidFill>
                <a:latin typeface="Times New Roman"/>
              </a:rPr>
              <a:t>физическом</a:t>
            </a:r>
            <a:r>
              <a:rPr b="0" i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атировании происходит проверка качества магнитного покрытия дискеты и ее разметка на дорожки и секто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ru-RU" sz="2400" spc="-1" strike="noStrike">
                <a:solidFill>
                  <a:srgbClr val="3333ff"/>
                </a:solidFill>
                <a:latin typeface="Times New Roman"/>
              </a:rPr>
              <a:t>логическо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атировании создаются корневой каталог и таблица размещения фай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осл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ного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форматирования вся хранившаяся на диске информация будет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уничтожена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3333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Виды форма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запись производится на незаполненный диск, то кластеры, принадлежащие одному файлу, записываются подря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диск переполнен, на нем может не быть непрерывной области, достаточной  для размещения файла – и файл запишется в виде нескольких фраг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гментация файлов (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т.е. фрагменты файлов хранятся в различных удаленных друг от друга класт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возрастает с течением времени в процессе удаления одних и записи друг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фрагментации файл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происходит замедление скорости обмена данными с носите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гнитным головкам в процессе чтения файла приходится постоянно перемещаться с дорожки на дорожку, что ведет к увеличению количества ошибок и преждевременному износу жесткого дис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комендуется периодически проводить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ефрагментацию дис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 процессе которой файлы записываются в кластеры, последовательно идущие друг за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38360" y="1682640"/>
            <a:ext cx="34578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9200" y="1616040"/>
            <a:ext cx="7686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1120" y="1935000"/>
            <a:ext cx="77058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9640" y="549360"/>
            <a:ext cx="8299440" cy="11912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Форматировани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создание </a:t>
            </a: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физ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логическо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структуры дис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773360"/>
            <a:ext cx="374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рмирование </a:t>
            </a:r>
            <a:r>
              <a:rPr b="1" lang="en-US" sz="3200" spc="-1" strike="noStrike">
                <a:solidFill>
                  <a:srgbClr val="9999cc"/>
                </a:solidFill>
                <a:latin typeface="Times New Roman"/>
              </a:rPr>
              <a:t>физической структуры ди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стоит в создании на диске концентрических дорожек, которые в свою очередь, делятся на секто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838680" cy="2886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5084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роцессе форматирования магнитная головка дисковода расставляет в определенных местах диска  магнитные метки дорожек и секто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60360" y="1557360"/>
            <a:ext cx="7658280" cy="4429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981680" y="5743440"/>
            <a:ext cx="41623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9680" y="284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Проверка файловой системы д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55560"/>
            <a:ext cx="822960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неправильного завершения приложений, внезапного отключения питания могут возникать повреждения отдельных кластеров и фай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бойные (нечитаемые) класт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шибки в именах фай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нарушения в цепочке размещения файлов – потерянные кластеры и кластеры, принадлежащие одновременно нескольким фай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осстановления файловой системы можно использовать служебную программу «Проверка диска» (она автоматически запускается при загрузке 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неправильного завершения работы или может быть запущена пользователем в произвольный мо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9680" y="284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Проверка файловой системы д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3120" y="1173240"/>
            <a:ext cx="6696000" cy="4822920"/>
            <a:chOff x="303120" y="1173240"/>
            <a:chExt cx="6696000" cy="48229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303120" y="1424160"/>
              <a:ext cx="6696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801960" y="1173240"/>
              <a:ext cx="2522520" cy="9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421080" y="2770200"/>
            <a:ext cx="685800" cy="212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675400" y="4707000"/>
            <a:ext cx="32385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Иерархическая 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003400" y="1467000"/>
            <a:ext cx="6649920" cy="992880"/>
            <a:chOff x="2003400" y="1467000"/>
            <a:chExt cx="6649920" cy="992880"/>
          </a:xfrm>
        </p:grpSpPr>
        <p:sp>
          <p:nvSpPr>
            <p:cNvPr id="239" name=""/>
            <p:cNvSpPr/>
            <p:nvPr/>
          </p:nvSpPr>
          <p:spPr>
            <a:xfrm>
              <a:off x="2003400" y="1828800"/>
              <a:ext cx="3467160" cy="37800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оситель (диск, флэш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26080" y="1467000"/>
              <a:ext cx="67788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04080" y="1590840"/>
              <a:ext cx="174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физические дис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3160" y="2222640"/>
            <a:ext cx="7931160" cy="1800720"/>
            <a:chOff x="803160" y="2222640"/>
            <a:chExt cx="7931160" cy="1800720"/>
          </a:xfrm>
        </p:grpSpPr>
        <p:sp>
          <p:nvSpPr>
            <p:cNvPr id="243" name=""/>
            <p:cNvSpPr/>
            <p:nvPr/>
          </p:nvSpPr>
          <p:spPr>
            <a:xfrm>
              <a:off x="803160" y="2901960"/>
              <a:ext cx="1482840" cy="50472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20960" y="2901960"/>
              <a:ext cx="1482840" cy="50472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0440" y="2855880"/>
              <a:ext cx="1482840" cy="50472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46880" y="2616120"/>
              <a:ext cx="67788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85080" y="2709720"/>
              <a:ext cx="1749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зделы, тома, логические дис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07760" y="2222640"/>
              <a:ext cx="1970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578400" y="2222640"/>
              <a:ext cx="1584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10080" y="2222640"/>
              <a:ext cx="1923840" cy="5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08120" y="3389400"/>
            <a:ext cx="8070840" cy="1843560"/>
            <a:chOff x="708120" y="3389400"/>
            <a:chExt cx="8070840" cy="1843560"/>
          </a:xfrm>
        </p:grpSpPr>
        <p:sp>
          <p:nvSpPr>
            <p:cNvPr id="252" name=""/>
            <p:cNvSpPr/>
            <p:nvPr/>
          </p:nvSpPr>
          <p:spPr>
            <a:xfrm>
              <a:off x="708120" y="4508640"/>
              <a:ext cx="2050920" cy="55080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апка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81320" y="4492800"/>
              <a:ext cx="2129040" cy="55080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пка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06800" y="4176720"/>
              <a:ext cx="992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1860120" y="3405240"/>
              <a:ext cx="1497240" cy="10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89400" y="3389400"/>
              <a:ext cx="1876320" cy="10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88000" y="4240080"/>
              <a:ext cx="67788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29360" y="4570560"/>
              <a:ext cx="17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аталог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95400" y="5029200"/>
            <a:ext cx="9048600" cy="1323000"/>
            <a:chOff x="95400" y="5029200"/>
            <a:chExt cx="9048600" cy="1323000"/>
          </a:xfrm>
        </p:grpSpPr>
        <p:sp>
          <p:nvSpPr>
            <p:cNvPr id="260" name=""/>
            <p:cNvSpPr/>
            <p:nvPr/>
          </p:nvSpPr>
          <p:spPr>
            <a:xfrm>
              <a:off x="95400" y="5691240"/>
              <a:ext cx="1118880" cy="425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айл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39920" y="5691240"/>
              <a:ext cx="1119240" cy="425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айл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48040" y="5707080"/>
              <a:ext cx="1119240" cy="425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айл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24360" y="5675400"/>
              <a:ext cx="1119240" cy="425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айл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62160" y="5202360"/>
              <a:ext cx="992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19760" y="5138640"/>
              <a:ext cx="992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14520" y="5076720"/>
              <a:ext cx="100944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39800" y="5092560"/>
              <a:ext cx="12146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303440" y="5029200"/>
              <a:ext cx="78876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76720" y="5045040"/>
              <a:ext cx="116676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40360" y="5359320"/>
              <a:ext cx="67788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94400" y="5721480"/>
              <a:ext cx="17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фай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114800" y="6429240"/>
            <a:ext cx="42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 корневой каталог (папка)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Структура записей в каталоге 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(в системе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FA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3360" y="1981080"/>
          <a:ext cx="8942040" cy="2132280"/>
        </p:xfrm>
        <a:graphic>
          <a:graphicData uri="http://schemas.openxmlformats.org/drawingml/2006/table">
            <a:tbl>
              <a:tblPr/>
              <a:tblGrid>
                <a:gridCol w="1490400"/>
                <a:gridCol w="1490760"/>
                <a:gridCol w="1321920"/>
                <a:gridCol w="1657800"/>
                <a:gridCol w="1499040"/>
                <a:gridCol w="148212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первого клас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файла (Кбай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соз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соз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рибу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1.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_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3.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42920" y="5356080"/>
          <a:ext cx="8843760" cy="1185840"/>
        </p:xfrm>
        <a:graphic>
          <a:graphicData uri="http://schemas.openxmlformats.org/drawingml/2006/table">
            <a:tbl>
              <a:tblPr/>
              <a:tblGrid>
                <a:gridCol w="555120"/>
                <a:gridCol w="557280"/>
                <a:gridCol w="417600"/>
                <a:gridCol w="420840"/>
                <a:gridCol w="415800"/>
                <a:gridCol w="417600"/>
                <a:gridCol w="420480"/>
                <a:gridCol w="417600"/>
                <a:gridCol w="417600"/>
                <a:gridCol w="415800"/>
                <a:gridCol w="487440"/>
                <a:gridCol w="485640"/>
                <a:gridCol w="417600"/>
                <a:gridCol w="422280"/>
                <a:gridCol w="415800"/>
                <a:gridCol w="417600"/>
                <a:gridCol w="420840"/>
                <a:gridCol w="417240"/>
                <a:gridCol w="417600"/>
                <a:gridCol w="48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3357720" y="487188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рагмен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2360" y="4210200"/>
            <a:ext cx="88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рибуты: а – архивный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олько чтение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крытый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Физическая структура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гибкого д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771640" cy="27813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3058920" y="4221000"/>
            <a:ext cx="1729080" cy="1365840"/>
            <a:chOff x="3058920" y="4221000"/>
            <a:chExt cx="1729080" cy="1365840"/>
          </a:xfrm>
        </p:grpSpPr>
        <p:sp>
          <p:nvSpPr>
            <p:cNvPr id="128" name=""/>
            <p:cNvSpPr/>
            <p:nvPr/>
          </p:nvSpPr>
          <p:spPr>
            <a:xfrm>
              <a:off x="3492360" y="4724280"/>
              <a:ext cx="1295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екто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12 бай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058920" y="4221000"/>
              <a:ext cx="8650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843280" y="2060640"/>
            <a:ext cx="2233440" cy="792000"/>
            <a:chOff x="2843280" y="2060640"/>
            <a:chExt cx="2233440" cy="792000"/>
          </a:xfrm>
        </p:grpSpPr>
        <p:sp>
          <p:nvSpPr>
            <p:cNvPr id="131" name=""/>
            <p:cNvSpPr/>
            <p:nvPr/>
          </p:nvSpPr>
          <p:spPr>
            <a:xfrm>
              <a:off x="2987640" y="206064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орож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843280" y="2349360"/>
              <a:ext cx="720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364000" y="692280"/>
            <a:ext cx="3571920" cy="52156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нформационный объем гибких диск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V = p</a:t>
            </a:r>
            <a:r>
              <a:rPr b="1" i="1" lang="ru-RU" sz="3200" spc="-1" strike="noStrike">
                <a:solidFill>
                  <a:srgbClr val="cc00cc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cc00cc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k</a:t>
            </a:r>
            <a:r>
              <a:rPr b="1" i="1" lang="ru-RU" sz="3200" spc="-1" strike="noStrike">
                <a:solidFill>
                  <a:srgbClr val="cc00cc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количество поверхностей диска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cc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количество дорожек на поверх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количество секторов на дорож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cc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мкость сек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1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бай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6093000"/>
            <a:ext cx="556236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 = 2 * 80 * 18 * 512 = 144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Кбай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916280"/>
            <a:ext cx="3816360" cy="1081080"/>
          </a:xfrm>
          <a:prstGeom prst="wedgeRectCallout">
            <a:avLst>
              <a:gd name="adj1" fmla="val 21879"/>
              <a:gd name="adj2" fmla="val 1655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инимальный элемент хранения информации диск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Логическая структура  носителя в файловой системе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AT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имеет следующие разде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грузочный класт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размещения файлов (содержит в своих ячейках цепочку номеров кластеров для каждого файл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невой кат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й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Организация хранения в файловой системе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F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мальный адресуемый элемент носителя информации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АСТ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может включать в себя от 1 до нескольких сектор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 кластера (от 512 байт до 64 Кбайт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т от типа используемой файловой системы и (часто) от информационного объема нос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Нумерация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353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теры нумеруются в линейной последов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магнитных дисках – от первого кластера нулевой дорожки до последнего кластера последней доро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4437000"/>
          <a:ext cx="9144000" cy="1825560"/>
        </p:xfrm>
        <a:graphic>
          <a:graphicData uri="http://schemas.openxmlformats.org/drawingml/2006/table">
            <a:tbl>
              <a:tblPr/>
              <a:tblGrid>
                <a:gridCol w="614520"/>
                <a:gridCol w="460080"/>
                <a:gridCol w="463680"/>
                <a:gridCol w="460440"/>
                <a:gridCol w="458640"/>
                <a:gridCol w="465120"/>
                <a:gridCol w="460440"/>
                <a:gridCol w="459000"/>
                <a:gridCol w="461880"/>
                <a:gridCol w="536400"/>
                <a:gridCol w="536760"/>
                <a:gridCol w="460440"/>
                <a:gridCol w="463320"/>
                <a:gridCol w="460440"/>
                <a:gridCol w="463680"/>
                <a:gridCol w="460080"/>
                <a:gridCol w="460440"/>
                <a:gridCol w="459000"/>
                <a:gridCol w="53964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1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е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Файловая система организует кластеры в файлы и каталог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146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йловая система отслеживает, какие из кластеров в настоящее время используются, какие свободны, какие помечены как неиспра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записи файлов будет всегда занято целое число класт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ый размер файла равен размеру одного клас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симальный размер файла соответствует общему количеству кластеров на ди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йл записывается в произвольные свободные класт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алог – это тот же файл, в котором содержится список файлов этого ката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549360"/>
            <a:ext cx="868680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                             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Файл_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нимает на диске  4 кластер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(например,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34,  35,  47,  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Times New Roman"/>
              </a:rPr>
              <a:t>Файл_2</a:t>
            </a:r>
            <a:r>
              <a:rPr b="0" lang="en-US" sz="28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нимает на диске 2 кластер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(например, </a:t>
            </a:r>
            <a:r>
              <a:rPr b="1" lang="en-US" sz="2800" spc="-1" strike="noStrike">
                <a:solidFill>
                  <a:srgbClr val="6666ff"/>
                </a:solidFill>
                <a:latin typeface="Times New Roman"/>
              </a:rPr>
              <a:t>36 и 4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3789360"/>
          <a:ext cx="9144000" cy="1884240"/>
        </p:xfrm>
        <a:graphic>
          <a:graphicData uri="http://schemas.openxmlformats.org/drawingml/2006/table">
            <a:tbl>
              <a:tblPr/>
              <a:tblGrid>
                <a:gridCol w="614520"/>
                <a:gridCol w="460080"/>
                <a:gridCol w="462240"/>
                <a:gridCol w="460080"/>
                <a:gridCol w="462240"/>
                <a:gridCol w="461880"/>
                <a:gridCol w="460440"/>
                <a:gridCol w="460440"/>
                <a:gridCol w="461880"/>
                <a:gridCol w="536400"/>
                <a:gridCol w="538200"/>
                <a:gridCol w="460440"/>
                <a:gridCol w="461880"/>
                <a:gridCol w="460440"/>
                <a:gridCol w="461880"/>
                <a:gridCol w="461880"/>
                <a:gridCol w="460440"/>
                <a:gridCol w="460440"/>
                <a:gridCol w="53820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1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е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6588000" y="3141720"/>
            <a:ext cx="2160720" cy="2302920"/>
            <a:chOff x="6588000" y="3141720"/>
            <a:chExt cx="2160720" cy="2302920"/>
          </a:xfrm>
        </p:grpSpPr>
        <p:sp>
          <p:nvSpPr>
            <p:cNvPr id="148" name=""/>
            <p:cNvSpPr/>
            <p:nvPr/>
          </p:nvSpPr>
          <p:spPr>
            <a:xfrm>
              <a:off x="6588000" y="3141720"/>
              <a:ext cx="2160720" cy="170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88000" y="3141720"/>
              <a:ext cx="71640" cy="23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5640" y="2060640"/>
            <a:ext cx="2339640" cy="3384000"/>
            <a:chOff x="5795640" y="2060640"/>
            <a:chExt cx="2339640" cy="3384000"/>
          </a:xfrm>
        </p:grpSpPr>
        <p:sp>
          <p:nvSpPr>
            <p:cNvPr id="151" name=""/>
            <p:cNvSpPr/>
            <p:nvPr/>
          </p:nvSpPr>
          <p:spPr>
            <a:xfrm>
              <a:off x="6860520" y="2060640"/>
              <a:ext cx="1274760" cy="28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795640" y="2060640"/>
              <a:ext cx="1024920" cy="33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V="1">
            <a:off x="900000" y="479736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59500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тые класте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667640" y="5516640"/>
            <a:ext cx="649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0000" y="6021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ободные класте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6381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режденные класте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779640" y="5516280"/>
            <a:ext cx="431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13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грузочный класт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3500280"/>
            <a:ext cx="144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8:11:27Z</dcterms:created>
  <dc:creator>Пономаренко Н.В.</dc:creator>
  <dc:description/>
  <dc:language>en-US</dc:language>
  <cp:lastModifiedBy>учитель</cp:lastModifiedBy>
  <dcterms:modified xsi:type="dcterms:W3CDTF">2009-04-01T15:02:43Z</dcterms:modified>
  <cp:revision>93</cp:revision>
  <dc:subject/>
  <dc:title>Презентация PowerPoint</dc:title>
</cp:coreProperties>
</file>