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1F01-9747-4BD2-B6E2-F62EEF24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CF50-6500-4699-90C9-BF730B4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BE7E-3E3F-4980-AA52-FB634376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67010-C19A-4605-A755-55BB5397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DE18-A6F2-4395-B009-D0F8FE62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91D-0F32-436E-95D1-78392A3B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092F-19C4-415E-B6D2-4E54898B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4A5A-9369-4B32-A751-751E896D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556-0181-49DF-BAC3-218E549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331-34E5-492B-97A0-CB99CE33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A63E-1238-4815-8270-FEDE768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20AD-A953-4AE9-AD5D-11678DF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7D8A-0C04-4BBF-B8FE-903A02F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880B-5E1E-4DE8-8B18-46F1852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C548-50B3-4C9A-82F4-2BC07410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E85-8898-48CF-8DD3-9DCFA955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B9E-0653-4C12-9D0D-4197B9C0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20FC-55A3-4E3C-82FF-A3D645E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761F-F8EB-4384-A9C6-A185A0A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A181-5CCD-49BA-BFC6-E0EA928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6FF6-5F60-4C4E-B38D-64F2F54B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7741-FA53-43BD-B028-CCB6203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C2FA-8A04-417E-BC67-41A4988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BD7D-CFB0-4F45-B4AD-FE000CE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135-BF58-424A-813E-A3FC80E1C7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D152-0F3D-4473-99F2-1A7B8BB5F0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ая и логическая структура носителя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360"/>
            <a:ext cx="601992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мназия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од Май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-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Таблица размещения файлов (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-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file allocation tabl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олную информацию о кластерах, которые занимают фай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ся в двух идентичных копиях с целью более надежного сохранения этой важ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ячее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количеству кластеров на диске, а значениями ячеек являются цепочки размещения файлов – последовательности адресов кластеров, в которых хранятся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3789360"/>
          <a:ext cx="9144000" cy="188424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2240"/>
                <a:gridCol w="460080"/>
                <a:gridCol w="462240"/>
                <a:gridCol w="461880"/>
                <a:gridCol w="460440"/>
                <a:gridCol w="460440"/>
                <a:gridCol w="461880"/>
                <a:gridCol w="536400"/>
                <a:gridCol w="538200"/>
                <a:gridCol w="460440"/>
                <a:gridCol w="461880"/>
                <a:gridCol w="460440"/>
                <a:gridCol w="461880"/>
                <a:gridCol w="461880"/>
                <a:gridCol w="460440"/>
                <a:gridCol w="460440"/>
                <a:gridCol w="5382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Фрагмент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2520" y="1557360"/>
          <a:ext cx="8782200" cy="118584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414360"/>
                <a:gridCol w="415800"/>
                <a:gridCol w="414360"/>
                <a:gridCol w="416160"/>
                <a:gridCol w="415800"/>
                <a:gridCol w="414360"/>
                <a:gridCol w="414360"/>
                <a:gridCol w="415800"/>
                <a:gridCol w="482760"/>
                <a:gridCol w="484200"/>
                <a:gridCol w="414360"/>
                <a:gridCol w="415800"/>
                <a:gridCol w="414360"/>
                <a:gridCol w="415800"/>
                <a:gridCol w="416160"/>
                <a:gridCol w="414360"/>
                <a:gridCol w="414360"/>
                <a:gridCol w="48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12 битов для хранения адреса кл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адресовать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4096 клас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дискет, в них объем одного кластера равен одному сектору (512 бай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ый объ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12 байт * 4096 = 2  097 152  байт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48 Кбайт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М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580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ользуется только для диск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1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т 16 битов для хранения адреса клас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адресовать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5536 клас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кластера не может быть больше 128 секторов (64 Кбай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ый объ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  Кбайт * 65536 = 4 194 304  Кбайт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096 Мбайт =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Г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5805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ользуется для  некоторых видов флэш-памя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ет 32 бита для хранения адреса клас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адресов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294 967 296  класт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кластера по умолчанию составляет 8 секторов (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использоваться для носителей объем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 Кбайт * 4 294 967 296 = 17 179 869 184  Кбайт=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777 216 Мбайт = 16 384 Гбайт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 Т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51664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ет использоваться для жестких дисков самого большого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9640" y="53751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Журналируемые файловы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565360"/>
            <a:ext cx="8209080" cy="2113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урналируемая файловая система сохраняет список изменений, которые она будет проводить с файловой системой, перед фактической записью измен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 записи хранятся в отдельной части файловой системы, называемой «журналом» или «лог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NT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ая система для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устанавливать различный объем кластера – от 512 байтов дл 64 К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равнению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еличивает надежность и эффективность использования дисков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этого используется систе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урна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е сбоя компьютера целостность файловой системы восстанавливается с помощью файла журнала NTFS и данных о контрольных точ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Windows 2000 и Windows XP файловая система NTFS также обеспечивает такие дополнительные возможности, как разрешения для файлов и папок, шифрование, дисковые квоты и сжа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494480" y="411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ext3 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Reise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налируемые файловые систем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 (Apple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т быть от 1 до 8 К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serF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соконадежная файловая система, хорошо приспособленная для хранения большого количества маленьких файлов, для этого в одном кластере  могут быть размещены данные нескольких файлов. Максимальный размер файловой системы – 16 Тбай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62720" y="5013360"/>
            <a:ext cx="13748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H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урналируемая  файловая систе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 Ма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(Apple Compu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30720" y="3114720"/>
            <a:ext cx="20239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йловая система для работы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исками, базирующаяся на стандар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-966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этому стандарту имя файла не может превышать 32 символа, а глубина вложения – не более 8 уров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Структура внешней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1916280"/>
            <a:ext cx="2286000" cy="82548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нешняя памя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005360"/>
            <a:ext cx="144000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естки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4005360"/>
            <a:ext cx="136872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ибки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005360"/>
            <a:ext cx="1584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азерные д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005360"/>
            <a:ext cx="1692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Verdana"/>
              </a:rPr>
              <a:t>магнитные л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4005360"/>
            <a:ext cx="1584360" cy="70380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16000" y="2852640"/>
            <a:ext cx="338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00000" y="2852640"/>
            <a:ext cx="1800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2852640"/>
            <a:ext cx="730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852640"/>
            <a:ext cx="1655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852640"/>
            <a:ext cx="345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80,8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80,8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914480"/>
            <a:ext cx="6334200" cy="494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676760" cy="2905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C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U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системная файловая система для работы  с файлами на оптических дис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на перезаписываем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-RW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D-R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далять, копировать и сохранять отдельные фай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Объем файла в разных файловых систе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2038320"/>
            <a:ext cx="3467160" cy="481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00360" y="2028960"/>
            <a:ext cx="3495600" cy="4829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57760" y="2028960"/>
            <a:ext cx="3486240" cy="4829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916280"/>
            <a:ext cx="270036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16280"/>
            <a:ext cx="284328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эш-брел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1916280"/>
            <a:ext cx="341964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и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450864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877000"/>
            <a:ext cx="8569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колько места будут занимать  эти файлы на дискет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685800"/>
            <a:ext cx="6095880" cy="6172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41400"/>
            <a:ext cx="8893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Форматирование из командной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145260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6068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680" y="1450800"/>
            <a:ext cx="29638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format A:  /A:1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286000"/>
            <a:ext cx="29638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format A: 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436572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Быстрое форматирова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оизводит  очистку корневого каталога и таблиц размещения фай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После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быстрого</a:t>
            </a: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 форматирования информация, то есть сами файлы, сохранятся, и в принципе возможно восстановление файловой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914400"/>
            <a:ext cx="883908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Полное форма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ключает в себя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физическ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логическ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а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физическом</a:t>
            </a: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тировании происходит проверка качества магнитного покрытия дискеты и ее разметка на дорожки и секто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2400" spc="-1" strike="noStrike">
                <a:solidFill>
                  <a:srgbClr val="3333ff"/>
                </a:solidFill>
                <a:latin typeface="Times New Roman"/>
              </a:rPr>
              <a:t>логическо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атировании создаются корневой каталог и таблица размещения фай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осл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ного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форматирования вся хранившаяся на диске информация будет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ничтожена</a:t>
            </a:r>
            <a:r>
              <a:rPr b="0" i="1" lang="ru-RU" sz="2400" spc="-1" strike="noStrike">
                <a:solidFill>
                  <a:srgbClr val="cc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3333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Виды форма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запись производится на незаполненный диск, то кластеры, принадлежащие одному файлу, записываются под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диск переполнен, на нем может не быть непрерывной области, достаточной  для размещения файла – и файл запишется в виде нескольких фраг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гментация файлов (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.е. фрагменты файлов хранятся в различных удаленных друг от друга класт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возрастает с течением времени в процессе удаления одних и записи друг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фрагментации фай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происходит замедление скорости обмена данными с нос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нитным головкам в процессе чтения файла приходится постоянно перемещаться с дорожки на дорожку, что ведет к увеличению количества ошибок и преждевременному износу жесткого ди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комендуется периодически проводит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фрагментацию ди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 процессе которой файлы записываются в кластеры, последовательно идущие друг за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38360" y="1682640"/>
            <a:ext cx="3457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9200" y="1616040"/>
            <a:ext cx="7686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1120" y="1935000"/>
            <a:ext cx="77058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9640" y="549360"/>
            <a:ext cx="8299440" cy="11912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Форматировани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создание </a:t>
            </a: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физ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логическо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структуры д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3360"/>
            <a:ext cx="374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r>
              <a:rPr b="1" lang="en-US" sz="3200" spc="-1" strike="noStrike">
                <a:solidFill>
                  <a:srgbClr val="9999cc"/>
                </a:solidFill>
                <a:latin typeface="Times New Roman"/>
              </a:rPr>
              <a:t>физической структуры ди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стоит в создании на диске концентрических дорожек, которые в свою очередь, делятся на сек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83868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508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оцессе форматирования магнитная головка дисковода расставляет в определенных местах диска  магнитные метки дорожек и секто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Дефрагментация д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0360" y="1557360"/>
            <a:ext cx="7658280" cy="4429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81680" y="5743440"/>
            <a:ext cx="41623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9680" y="284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роверка файловой систем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55560"/>
            <a:ext cx="8229600" cy="50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неправильного завершения приложений, внезапного отключения питания могут возникать повреждения отдельных кластеров и фай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бойные (нечитаемые) клас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шибки в именах фай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нарушения в цепочке размещения файлов – потерянные кластеры и кластеры, принадлежащие одновременно нескольким фай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осстановления файловой системы можно использовать служебную программу «Проверка диска» (она автоматически запускается при загрузке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неправильного завершения работы или может быть запущена пользователем в произволь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9680" y="284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Проверка файловой систем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3120" y="1173240"/>
            <a:ext cx="6696000" cy="4822920"/>
            <a:chOff x="303120" y="1173240"/>
            <a:chExt cx="6696000" cy="48229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303120" y="1424160"/>
              <a:ext cx="6696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801960" y="1173240"/>
              <a:ext cx="252252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421080" y="2770200"/>
            <a:ext cx="685800" cy="212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675400" y="4707000"/>
            <a:ext cx="32385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Иерархическая 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003400" y="1467000"/>
            <a:ext cx="6649920" cy="992880"/>
            <a:chOff x="2003400" y="1467000"/>
            <a:chExt cx="6649920" cy="992880"/>
          </a:xfrm>
        </p:grpSpPr>
        <p:sp>
          <p:nvSpPr>
            <p:cNvPr id="239" name=""/>
            <p:cNvSpPr/>
            <p:nvPr/>
          </p:nvSpPr>
          <p:spPr>
            <a:xfrm>
              <a:off x="2003400" y="1828800"/>
              <a:ext cx="3467160" cy="3780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ситель (диск, флэш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26080" y="146700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04080" y="1590840"/>
              <a:ext cx="174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изические дис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3160" y="2222640"/>
            <a:ext cx="7931160" cy="1800720"/>
            <a:chOff x="803160" y="2222640"/>
            <a:chExt cx="7931160" cy="1800720"/>
          </a:xfrm>
        </p:grpSpPr>
        <p:sp>
          <p:nvSpPr>
            <p:cNvPr id="243" name=""/>
            <p:cNvSpPr/>
            <p:nvPr/>
          </p:nvSpPr>
          <p:spPr>
            <a:xfrm>
              <a:off x="803160" y="290196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20960" y="290196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0440" y="2855880"/>
              <a:ext cx="1482840" cy="5047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6880" y="261612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5080" y="2709720"/>
              <a:ext cx="1749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делы, тома, логические дис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07760" y="2222640"/>
              <a:ext cx="1970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578400" y="2222640"/>
              <a:ext cx="1584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10080" y="2222640"/>
              <a:ext cx="1923840" cy="5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08120" y="3389400"/>
            <a:ext cx="8070840" cy="1843560"/>
            <a:chOff x="708120" y="3389400"/>
            <a:chExt cx="8070840" cy="1843560"/>
          </a:xfrm>
        </p:grpSpPr>
        <p:sp>
          <p:nvSpPr>
            <p:cNvPr id="252" name=""/>
            <p:cNvSpPr/>
            <p:nvPr/>
          </p:nvSpPr>
          <p:spPr>
            <a:xfrm>
              <a:off x="708120" y="4508640"/>
              <a:ext cx="2050920" cy="5508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пка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81320" y="4492800"/>
              <a:ext cx="2129040" cy="5508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п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6800" y="417672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860120" y="3405240"/>
              <a:ext cx="1497240" cy="10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89400" y="3389400"/>
              <a:ext cx="1876320" cy="10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88000" y="424008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29360" y="4570560"/>
              <a:ext cx="17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талог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5400" y="5029200"/>
            <a:ext cx="9048600" cy="1323000"/>
            <a:chOff x="95400" y="5029200"/>
            <a:chExt cx="9048600" cy="1323000"/>
          </a:xfrm>
        </p:grpSpPr>
        <p:sp>
          <p:nvSpPr>
            <p:cNvPr id="260" name=""/>
            <p:cNvSpPr/>
            <p:nvPr/>
          </p:nvSpPr>
          <p:spPr>
            <a:xfrm>
              <a:off x="95400" y="5691240"/>
              <a:ext cx="111888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39920" y="569124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48040" y="570708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24360" y="5675400"/>
              <a:ext cx="1119240" cy="42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айл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62160" y="520236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9760" y="5138640"/>
              <a:ext cx="99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14520" y="5076720"/>
              <a:ext cx="100944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9800" y="5092560"/>
              <a:ext cx="12146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303440" y="5029200"/>
              <a:ext cx="78876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6720" y="5045040"/>
              <a:ext cx="116676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40360" y="5359320"/>
              <a:ext cx="6778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94400" y="5721480"/>
              <a:ext cx="17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114800" y="6429240"/>
            <a:ext cx="42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 корневой каталог (папка)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Структура записей в каталоге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(в системе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F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3360" y="1981080"/>
          <a:ext cx="8942040" cy="2132280"/>
        </p:xfrm>
        <a:graphic>
          <a:graphicData uri="http://schemas.openxmlformats.org/drawingml/2006/table">
            <a:tbl>
              <a:tblPr/>
              <a:tblGrid>
                <a:gridCol w="1490400"/>
                <a:gridCol w="1490760"/>
                <a:gridCol w="1321920"/>
                <a:gridCol w="1657800"/>
                <a:gridCol w="1499040"/>
                <a:gridCol w="148212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первого клас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айла (Кбай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с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соз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_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1.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_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3.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42920" y="5356080"/>
          <a:ext cx="8843760" cy="1185840"/>
        </p:xfrm>
        <a:graphic>
          <a:graphicData uri="http://schemas.openxmlformats.org/drawingml/2006/table">
            <a:tbl>
              <a:tblPr/>
              <a:tblGrid>
                <a:gridCol w="555120"/>
                <a:gridCol w="557280"/>
                <a:gridCol w="417600"/>
                <a:gridCol w="420840"/>
                <a:gridCol w="415800"/>
                <a:gridCol w="417600"/>
                <a:gridCol w="420480"/>
                <a:gridCol w="417600"/>
                <a:gridCol w="417600"/>
                <a:gridCol w="415800"/>
                <a:gridCol w="487440"/>
                <a:gridCol w="485640"/>
                <a:gridCol w="417600"/>
                <a:gridCol w="422280"/>
                <a:gridCol w="415800"/>
                <a:gridCol w="417600"/>
                <a:gridCol w="420840"/>
                <a:gridCol w="417240"/>
                <a:gridCol w="417600"/>
                <a:gridCol w="4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3357720" y="487188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гмен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2360" y="4210200"/>
            <a:ext cx="88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рибуты: а – архивный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олько чтение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рытый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Физическая структура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гибкого д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771640" cy="27813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058920" y="4221000"/>
            <a:ext cx="1729080" cy="1365840"/>
            <a:chOff x="3058920" y="4221000"/>
            <a:chExt cx="1729080" cy="1365840"/>
          </a:xfrm>
        </p:grpSpPr>
        <p:sp>
          <p:nvSpPr>
            <p:cNvPr id="128" name=""/>
            <p:cNvSpPr/>
            <p:nvPr/>
          </p:nvSpPr>
          <p:spPr>
            <a:xfrm>
              <a:off x="3492360" y="4724280"/>
              <a:ext cx="129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екто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12 бай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058920" y="4221000"/>
              <a:ext cx="8650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3280" y="2060640"/>
            <a:ext cx="2233440" cy="792000"/>
            <a:chOff x="2843280" y="2060640"/>
            <a:chExt cx="2233440" cy="792000"/>
          </a:xfrm>
        </p:grpSpPr>
        <p:sp>
          <p:nvSpPr>
            <p:cNvPr id="131" name=""/>
            <p:cNvSpPr/>
            <p:nvPr/>
          </p:nvSpPr>
          <p:spPr>
            <a:xfrm>
              <a:off x="2987640" y="2060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дорож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843280" y="2349360"/>
              <a:ext cx="72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64000" y="692280"/>
            <a:ext cx="3571920" cy="52156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нформационный объем гибких диск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V = p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k</a:t>
            </a:r>
            <a:r>
              <a:rPr b="1" i="1" lang="ru-RU" sz="3200" spc="-1" strike="noStrike">
                <a:solidFill>
                  <a:srgbClr val="cc00cc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поверхностей диска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дорожек на поверх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количество секторов на дорож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мкость секто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1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бай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093000"/>
            <a:ext cx="556236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 = 2 * 80 * 18 * 512 = 144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Кбай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916280"/>
            <a:ext cx="3816360" cy="1081080"/>
          </a:xfrm>
          <a:prstGeom prst="wedgeRectCallout">
            <a:avLst>
              <a:gd name="adj1" fmla="val 21879"/>
              <a:gd name="adj2" fmla="val 1655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инимальный элемент хранения информации диск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Логическая структура  носителя в файловой системе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AT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имеет следующие разде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рузочный клас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размещения файлов (содержит в своих ячейках цепочку номеров кластеров для каждого файл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невой кат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й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рганизация хранения в файловой системе 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F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мальный адресуемый элемент носителя информации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ЛАС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ожет включать в себя от 1 до нескольких секто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 кластера (от 512 байт до 64 Кбайт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т от типа используемой файловой системы и (часто) от информационного объема нос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Нумерация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теры нумеруются в линей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магнитных дисках – от первого кластера нулевой дорожки до последнего кластера последней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4437000"/>
          <a:ext cx="9144000" cy="182556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3680"/>
                <a:gridCol w="460440"/>
                <a:gridCol w="458640"/>
                <a:gridCol w="465120"/>
                <a:gridCol w="460440"/>
                <a:gridCol w="459000"/>
                <a:gridCol w="461880"/>
                <a:gridCol w="536400"/>
                <a:gridCol w="536760"/>
                <a:gridCol w="460440"/>
                <a:gridCol w="463320"/>
                <a:gridCol w="460440"/>
                <a:gridCol w="463680"/>
                <a:gridCol w="460080"/>
                <a:gridCol w="460440"/>
                <a:gridCol w="459000"/>
                <a:gridCol w="53964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Файловая система организует кластеры в файлы и катало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146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йловая система отслеживает, какие из кластеров в настоящее время используются, какие свободны, какие помечены как неиспр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записи файлов будет всегда занято целое число клас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ый размер файла равен размеру одного клас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ый размер файла соответствует общему количеству кластеров на д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йл записывается в произвольные свободные клас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алог – это тот же файл, в котором содержится список файлов этого ката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549360"/>
            <a:ext cx="86868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Файл_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нимает на диске  4 кластер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(например,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4,  35,  47,  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Файл_2</a:t>
            </a:r>
            <a:r>
              <a:rPr b="0" lang="en-US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нимает на диске 2 кластер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(например, </a:t>
            </a: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36 и 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3789360"/>
          <a:ext cx="9144000" cy="1884240"/>
        </p:xfrm>
        <a:graphic>
          <a:graphicData uri="http://schemas.openxmlformats.org/drawingml/2006/table">
            <a:tbl>
              <a:tblPr/>
              <a:tblGrid>
                <a:gridCol w="614520"/>
                <a:gridCol w="460080"/>
                <a:gridCol w="462240"/>
                <a:gridCol w="460080"/>
                <a:gridCol w="462240"/>
                <a:gridCol w="461880"/>
                <a:gridCol w="460440"/>
                <a:gridCol w="460440"/>
                <a:gridCol w="461880"/>
                <a:gridCol w="536400"/>
                <a:gridCol w="538200"/>
                <a:gridCol w="460440"/>
                <a:gridCol w="461880"/>
                <a:gridCol w="460440"/>
                <a:gridCol w="461880"/>
                <a:gridCol w="461880"/>
                <a:gridCol w="460440"/>
                <a:gridCol w="460440"/>
                <a:gridCol w="53820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6588000" y="3141720"/>
            <a:ext cx="2160720" cy="2302920"/>
            <a:chOff x="6588000" y="3141720"/>
            <a:chExt cx="2160720" cy="2302920"/>
          </a:xfrm>
        </p:grpSpPr>
        <p:sp>
          <p:nvSpPr>
            <p:cNvPr id="148" name=""/>
            <p:cNvSpPr/>
            <p:nvPr/>
          </p:nvSpPr>
          <p:spPr>
            <a:xfrm>
              <a:off x="6588000" y="3141720"/>
              <a:ext cx="2160720" cy="170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88000" y="3141720"/>
              <a:ext cx="71640" cy="23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5640" y="2060640"/>
            <a:ext cx="2339640" cy="3384000"/>
            <a:chOff x="5795640" y="2060640"/>
            <a:chExt cx="2339640" cy="3384000"/>
          </a:xfrm>
        </p:grpSpPr>
        <p:sp>
          <p:nvSpPr>
            <p:cNvPr id="151" name=""/>
            <p:cNvSpPr/>
            <p:nvPr/>
          </p:nvSpPr>
          <p:spPr>
            <a:xfrm>
              <a:off x="6860520" y="2060640"/>
              <a:ext cx="1274760" cy="28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795640" y="2060640"/>
              <a:ext cx="1024920" cy="33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V="1">
            <a:off x="900000" y="479736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950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67640" y="5516640"/>
            <a:ext cx="649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0000" y="602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бодн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6381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режденные класте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79640" y="5516280"/>
            <a:ext cx="431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13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грузочный клас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500280"/>
            <a:ext cx="144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8:11:27Z</dcterms:created>
  <dc:creator>Пономаренко Н.В.</dc:creator>
  <dc:description/>
  <dc:language>en-US</dc:language>
  <cp:lastModifiedBy>учитель</cp:lastModifiedBy>
  <dcterms:modified xsi:type="dcterms:W3CDTF">2009-04-01T15:02:43Z</dcterms:modified>
  <cp:revision>93</cp:revision>
  <dc:subject/>
  <dc:title>Презентация PowerPoint</dc:title>
</cp:coreProperties>
</file>