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691-556E-46D3-B05B-C31FC4B2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0ED-8D61-4876-8002-8BF11C0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0D0-BCA4-4B55-9098-6B3CFAAA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D31-AD93-483F-B9C2-0E96F5F6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A5C1-0A0A-43FF-BA31-8B1FCB64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3BE8-82C7-49DB-BC31-67E9BAEF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8091-B5EA-49CC-80F1-DCD29AC9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42AC-F8F2-41DD-AE6D-46DAEC31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F4F-2180-4F16-B062-C7064653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6B6C-BFFC-4EB4-AF37-26EBE9CF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D243-C2E3-4F3D-BE00-9795B572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46E-EAEC-486C-B8C5-F733DEB7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5592-70B3-4029-944C-CD5BF8AA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4568-2681-48EA-B813-11A7565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0191-B316-4D06-A208-76068321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A62A-4382-4E12-8756-1DAD4117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D93-D51E-4E23-A5F2-D03C04AD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D8A-5F50-4BBA-AA03-952D9379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AC2-A550-4EF9-82DF-756F9024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AFF-820D-4B4C-8C69-E682177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333-2BE9-4BCD-B384-D4A389DB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575-219F-4F64-A5F0-B628402D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9FE-CA5F-418B-93BB-805FD357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06B-9559-4589-B308-12A17A11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5098-8193-4155-8759-B8C5AFE99B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2AA0-9EAF-49D9-8B0A-D4DFDBE3D3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Обобщающий урок по теме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Былины. </a:t>
            </a:r>
            <a:br>
              <a:rPr sz="4000"/>
            </a:b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Русские богатыр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Форсов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сшая квалификационная категор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Лицей №24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12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4464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по желанию одну из были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ьга и Мик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лья Муромец поссорился с князем Владими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ита Кожемя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х Всеслав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 прекоасную Василису Микулиш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лья Муром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Маковки на теремах покривились, крылечки от стен отвалились, стёкла в горницах полопались, разбежались кони из конюшен, все богатыри на землю упал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17960" y="1844640"/>
            <a:ext cx="3927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Добрыня Никитич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з славного Ростова красна 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два ясные сокола вылётывали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езжали два могучих богатыр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по имени Алёшенька Попович мл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 молодым Якимом Иванович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ездят, богатыри, плечо о плеч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емено в стремено богатырское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2440" y="1905120"/>
            <a:ext cx="3097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Алёша Попович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е бей, не губи меня, Добрынюшка! Не буду больше на Русь летать, людей русских в плен уносить! Помиримся! И ты моих детёнышей не трогай впредь!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05440" y="1905120"/>
            <a:ext cx="3751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4920" y="566064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Памятник Илье Муромцу в г.Муро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672000" cy="5113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53196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52880" y="5661000"/>
            <a:ext cx="5091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 Киево-Печерской Лавре находится икона «Илья Муромец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лиц-турнир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0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Славный защитник Руси-матушки. Он освободил дорогу прямоезжую между Черниговом и Киев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 Почему его прозвали Муромцем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 Что обозначает имя Иль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. Что обозначает имя Добрын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5. Имя богатыря, освободившего Забаву Путятишн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6. Он нередко брал верх над противником благодаря удали, отваге и хитрост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7. Что означает имя Алексе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8. Почему Алешу прозвали Поповичем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9. Злодей, который свистел по-соловьиному, кричал по-звериному, шипел по-змеином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0. Чудовище, которое жило на горе Сорочинско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1. Богатырь, одолевший Тугарина Змеевич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2. Сколько лет Илья на печи "сиднем сидел"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3. Сколько лет Соловей-разбойник на прямой дороге из Чернигова не пропускал ни пешего, ни конн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4. Кто в сражениях был верным помощником богатыре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549000"/>
            <a:ext cx="3927600" cy="5546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17960" y="549000"/>
            <a:ext cx="392760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17960" y="3573000"/>
            <a:ext cx="3927600" cy="2522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826920" y="549360"/>
            <a:ext cx="3889440" cy="554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32360" y="549360"/>
            <a:ext cx="3887640" cy="2808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651640" y="3573360"/>
            <a:ext cx="2376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5" descr=""/>
          <p:cNvPicPr/>
          <p:nvPr/>
        </p:nvPicPr>
        <p:blipFill>
          <a:blip r:embed="rId1"/>
          <a:stretch/>
        </p:blipFill>
        <p:spPr>
          <a:xfrm>
            <a:off x="298440" y="6480"/>
            <a:ext cx="8547120" cy="144432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6" descr="космонавт.jpeg"/>
          <p:cNvPicPr/>
          <p:nvPr/>
        </p:nvPicPr>
        <p:blipFill>
          <a:blip r:embed="rId2"/>
          <a:stretch/>
        </p:blipFill>
        <p:spPr>
          <a:xfrm>
            <a:off x="757080" y="1447920"/>
            <a:ext cx="2448000" cy="243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Содержимое 6" descr="космонавт.jpeg"/>
          <p:cNvPicPr/>
          <p:nvPr/>
        </p:nvPicPr>
        <p:blipFill>
          <a:blip r:embed="rId3"/>
          <a:stretch/>
        </p:blipFill>
        <p:spPr>
          <a:xfrm>
            <a:off x="4952880" y="1523880"/>
            <a:ext cx="312444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6" descr="космонавт.jpeg"/>
          <p:cNvPicPr/>
          <p:nvPr/>
        </p:nvPicPr>
        <p:blipFill>
          <a:blip r:embed="rId4"/>
          <a:stretch/>
        </p:blipFill>
        <p:spPr>
          <a:xfrm>
            <a:off x="1447920" y="4191120"/>
            <a:ext cx="1920600" cy="24382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126" name="Содержимое 6" descr="космонавт.jpeg"/>
          <p:cNvPicPr/>
          <p:nvPr/>
        </p:nvPicPr>
        <p:blipFill>
          <a:blip r:embed="rId5"/>
          <a:stretch/>
        </p:blipFill>
        <p:spPr>
          <a:xfrm>
            <a:off x="4800600" y="4191120"/>
            <a:ext cx="1787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нквей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заголовок, в который выносится ключевое слово, понятие, тема синквейна, выраженное в форме существительног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ва прилагательны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три глагол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фраза, несущая определенный смыс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езюме, вывод, одно слово, существитель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20:01:31Z</dcterms:created>
  <dc:creator>Пользователь</dc:creator>
  <dc:description/>
  <dc:language>en-US</dc:language>
  <cp:lastModifiedBy>Пользователь</cp:lastModifiedBy>
  <dcterms:modified xsi:type="dcterms:W3CDTF">2012-11-12T19:52:32Z</dcterms:modified>
  <cp:revision>4</cp:revision>
  <dc:subject/>
  <dc:title>Слайд 1</dc:title>
</cp:coreProperties>
</file>