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E49-5392-44C0-8690-91C8D35F7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0B31-BC4E-4519-9234-90A37AC66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432-603F-4535-8EE5-2D988378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9DD-6E4F-475C-89A9-9E3A4049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E50-8D2B-48BF-B293-86DA7E89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E71-8268-4CEE-B5B2-30BA0246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774-9DE9-464E-A393-197F2C97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282-F42E-4660-8776-D56C22E7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6D9-0805-4C8D-8DD5-12293633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CFE-C96F-48B4-AF2D-E678CCFC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D3A-AD4B-464D-A661-5B6591F4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414-5C7E-4431-8871-0F0EE6C2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675-D6A4-40E6-980A-D4DB81B5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B64-2E91-429A-BEBE-4341ED60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42DF-6F56-4A8E-BE7E-C66C89F90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0" y="1700280"/>
            <a:ext cx="8381880" cy="489744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бщество как динамическая 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снования для разграничения сфер общественной жизни –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азовые потребност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4039920" cy="63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b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зовые потребности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714320"/>
            <a:ext cx="40402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риальные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ребности в контактах, об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ребность в организованности, мире, законе и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ребность в самореализации, в возрастании добра, в нравственном совершенств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3280" y="1071360"/>
            <a:ext cx="4042080" cy="63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b">
            <a:normAutofit fontScale="8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сферы обществен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4720" y="1714680"/>
            <a:ext cx="4041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хо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8"/>
          <p:cNvSpPr/>
          <p:nvPr/>
        </p:nvSpPr>
        <p:spPr>
          <a:xfrm>
            <a:off x="3857760" y="1714680"/>
            <a:ext cx="1977840" cy="48384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9"/>
          <p:cNvSpPr/>
          <p:nvPr/>
        </p:nvSpPr>
        <p:spPr>
          <a:xfrm>
            <a:off x="3857760" y="2571840"/>
            <a:ext cx="2477880" cy="48420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10"/>
          <p:cNvSpPr/>
          <p:nvPr/>
        </p:nvSpPr>
        <p:spPr>
          <a:xfrm>
            <a:off x="3857760" y="3500280"/>
            <a:ext cx="2192040" cy="48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11"/>
          <p:cNvSpPr/>
          <p:nvPr/>
        </p:nvSpPr>
        <p:spPr>
          <a:xfrm>
            <a:off x="3929040" y="4786200"/>
            <a:ext cx="2835360" cy="48420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аково соотношение основных сфер общественной жиз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аковы приорит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ежде чем заниматься наукой, искусством, политикой и т.д., человек должен есть, пить и иметь жилищ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Organization Chart 7"/>
          <p:cNvGrpSpPr/>
          <p:nvPr/>
        </p:nvGrpSpPr>
        <p:grpSpPr>
          <a:xfrm>
            <a:off x="395280" y="2060640"/>
            <a:ext cx="8208360" cy="4462560"/>
            <a:chOff x="395280" y="2060640"/>
            <a:chExt cx="8208360" cy="4462560"/>
          </a:xfrm>
        </p:grpSpPr>
        <p:cxnSp>
          <p:nvCxnSpPr>
            <p:cNvPr id="85" name="_s2052"/>
            <p:cNvCxnSpPr>
              <a:stCxn id="86" idx="0"/>
              <a:endCxn id="87" idx="3"/>
            </p:cNvCxnSpPr>
            <p:nvPr/>
          </p:nvCxnSpPr>
          <p:spPr>
            <a:xfrm flipV="1" rot="16200000">
              <a:off x="5490720" y="2759040"/>
              <a:ext cx="893160" cy="3064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8" name="_s2053"/>
            <p:cNvCxnSpPr>
              <a:stCxn id="89" idx="0"/>
              <a:endCxn id="87" idx="3"/>
            </p:cNvCxnSpPr>
            <p:nvPr/>
          </p:nvCxnSpPr>
          <p:spPr>
            <a:xfrm flipV="1" rot="16200000">
              <a:off x="4053960" y="4195800"/>
              <a:ext cx="893160" cy="1911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0" name="_s2054"/>
            <p:cNvCxnSpPr>
              <a:stCxn id="91" idx="0"/>
              <a:endCxn id="87" idx="3"/>
            </p:cNvCxnSpPr>
            <p:nvPr/>
          </p:nvCxnSpPr>
          <p:spPr>
            <a:xfrm flipH="1" flipV="1" rot="5400000">
              <a:off x="2617560" y="2950200"/>
              <a:ext cx="893160" cy="26827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87" name="_s2055"/>
            <p:cNvSpPr/>
            <p:nvPr/>
          </p:nvSpPr>
          <p:spPr>
            <a:xfrm>
              <a:off x="3271320" y="2060640"/>
              <a:ext cx="245916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cc3300"/>
                  </a:solidFill>
                  <a:latin typeface="Arial"/>
                </a:rPr>
                <a:t>Экономика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56"/>
            <p:cNvSpPr/>
            <p:nvPr/>
          </p:nvSpPr>
          <p:spPr>
            <a:xfrm>
              <a:off x="395280" y="473832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Политика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7"/>
            <p:cNvSpPr/>
            <p:nvPr/>
          </p:nvSpPr>
          <p:spPr>
            <a:xfrm>
              <a:off x="3268080" y="473832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Социальные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отношен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8"/>
            <p:cNvSpPr/>
            <p:nvPr/>
          </p:nvSpPr>
          <p:spPr>
            <a:xfrm>
              <a:off x="6141240" y="473832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Духовная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жизн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7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ысли человека, идеи, представления предшествуют его практической деятельности… Общественным переменам предшествуют изменения в сознани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Organization Chart 5"/>
          <p:cNvGrpSpPr/>
          <p:nvPr/>
        </p:nvGrpSpPr>
        <p:grpSpPr>
          <a:xfrm>
            <a:off x="468360" y="2060640"/>
            <a:ext cx="8228880" cy="4524480"/>
            <a:chOff x="468360" y="2060640"/>
            <a:chExt cx="8228880" cy="4524480"/>
          </a:xfrm>
        </p:grpSpPr>
        <p:cxnSp>
          <p:nvCxnSpPr>
            <p:cNvPr id="94" name="_s3076"/>
            <p:cNvCxnSpPr>
              <a:stCxn id="95" idx="0"/>
              <a:endCxn id="96" idx="3"/>
            </p:cNvCxnSpPr>
            <p:nvPr/>
          </p:nvCxnSpPr>
          <p:spPr>
            <a:xfrm flipV="1" rot="16200000">
              <a:off x="5569920" y="2784600"/>
              <a:ext cx="905400" cy="3075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7" name="_s3077"/>
            <p:cNvCxnSpPr>
              <a:stCxn id="98" idx="0"/>
              <a:endCxn id="96" idx="3"/>
            </p:cNvCxnSpPr>
            <p:nvPr/>
          </p:nvCxnSpPr>
          <p:spPr>
            <a:xfrm flipV="1" rot="16200000">
              <a:off x="4129560" y="4224960"/>
              <a:ext cx="905400" cy="1947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9" name="_s3078"/>
            <p:cNvCxnSpPr>
              <a:stCxn id="100" idx="0"/>
              <a:endCxn id="96" idx="3"/>
            </p:cNvCxnSpPr>
            <p:nvPr/>
          </p:nvCxnSpPr>
          <p:spPr>
            <a:xfrm flipH="1" flipV="1" rot="5400000">
              <a:off x="2689920" y="2979360"/>
              <a:ext cx="905400" cy="26863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96" name="_s3079"/>
            <p:cNvSpPr/>
            <p:nvPr/>
          </p:nvSpPr>
          <p:spPr>
            <a:xfrm>
              <a:off x="3348360" y="206064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cc3300"/>
                  </a:solidFill>
                  <a:latin typeface="Arial"/>
                </a:rPr>
                <a:t>Духов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cc3300"/>
                  </a:solidFill>
                  <a:latin typeface="Arial"/>
                </a:rPr>
                <a:t>жизн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3080"/>
            <p:cNvSpPr/>
            <p:nvPr/>
          </p:nvSpPr>
          <p:spPr>
            <a:xfrm>
              <a:off x="468360" y="477540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00"/>
                  </a:solidFill>
                  <a:latin typeface="Arial"/>
                </a:rPr>
                <a:t>Политика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3081"/>
            <p:cNvSpPr/>
            <p:nvPr/>
          </p:nvSpPr>
          <p:spPr>
            <a:xfrm>
              <a:off x="3348360" y="477540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00"/>
                  </a:solidFill>
                  <a:latin typeface="Arial"/>
                </a:rPr>
                <a:t>Экономика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3082"/>
            <p:cNvSpPr/>
            <p:nvPr/>
          </p:nvSpPr>
          <p:spPr>
            <a:xfrm>
              <a:off x="6228720" y="477540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00"/>
                  </a:solidFill>
                  <a:latin typeface="Arial"/>
                </a:rPr>
                <a:t>Социальные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00"/>
                  </a:solidFill>
                  <a:latin typeface="Arial"/>
                </a:rPr>
                <a:t>отношен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промиссный подход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ждая сфера общественной жизни может стать определяющей в различные периоды обществен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iagram 5"/>
          <p:cNvGrpSpPr/>
          <p:nvPr/>
        </p:nvGrpSpPr>
        <p:grpSpPr>
          <a:xfrm>
            <a:off x="1222560" y="2163600"/>
            <a:ext cx="6721200" cy="4175280"/>
            <a:chOff x="1222560" y="2163600"/>
            <a:chExt cx="6721200" cy="4175280"/>
          </a:xfrm>
        </p:grpSpPr>
        <p:sp>
          <p:nvSpPr>
            <p:cNvPr id="103" name="_s4100"/>
            <p:cNvSpPr/>
            <p:nvPr/>
          </p:nvSpPr>
          <p:spPr>
            <a:xfrm>
              <a:off x="3735360" y="2757240"/>
              <a:ext cx="1697040" cy="16970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101"/>
            <p:cNvSpPr/>
            <p:nvPr/>
          </p:nvSpPr>
          <p:spPr>
            <a:xfrm>
              <a:off x="3735360" y="2163600"/>
              <a:ext cx="16970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Эконом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102"/>
            <p:cNvSpPr/>
            <p:nvPr/>
          </p:nvSpPr>
          <p:spPr>
            <a:xfrm>
              <a:off x="4381560" y="3403440"/>
              <a:ext cx="1697040" cy="16970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103"/>
            <p:cNvSpPr/>
            <p:nvPr/>
          </p:nvSpPr>
          <p:spPr>
            <a:xfrm>
              <a:off x="6246720" y="403992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Духо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жиз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104"/>
            <p:cNvSpPr/>
            <p:nvPr/>
          </p:nvSpPr>
          <p:spPr>
            <a:xfrm>
              <a:off x="3735360" y="4049640"/>
              <a:ext cx="1697040" cy="169704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105"/>
            <p:cNvSpPr/>
            <p:nvPr/>
          </p:nvSpPr>
          <p:spPr>
            <a:xfrm>
              <a:off x="3735360" y="591480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Полит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106"/>
            <p:cNvSpPr/>
            <p:nvPr/>
          </p:nvSpPr>
          <p:spPr>
            <a:xfrm>
              <a:off x="3089160" y="3403440"/>
              <a:ext cx="1697040" cy="169704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107"/>
            <p:cNvSpPr/>
            <p:nvPr/>
          </p:nvSpPr>
          <p:spPr>
            <a:xfrm>
              <a:off x="1222560" y="403992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Социа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отнош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ые институ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общественные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режд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льтурные образ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ы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ужащие для упорядочивания и регуляции отношений между 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воспроизводстве р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ейно-бытов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семьи и бра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ы р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j0221903"/>
          <p:cNvPicPr/>
          <p:nvPr/>
        </p:nvPicPr>
        <p:blipFill>
          <a:blip r:embed="rId1"/>
          <a:stretch/>
        </p:blipFill>
        <p:spPr>
          <a:xfrm>
            <a:off x="0" y="3538440"/>
            <a:ext cx="3492360" cy="33195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6804000" y="213372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6804000" y="342900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безопасности и социальном 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тическая, управленческая, государствен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тические институты (государство, партии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500720" y="436572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572000" y="27082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средствах суще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ические институ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обственности, разделения тру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аботной платы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j0222015"/>
          <p:cNvPicPr/>
          <p:nvPr/>
        </p:nvPicPr>
        <p:blipFill>
          <a:blip r:embed="rId1"/>
          <a:stretch/>
        </p:blipFill>
        <p:spPr>
          <a:xfrm>
            <a:off x="684360" y="507060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222021"/>
          <p:cNvPicPr/>
          <p:nvPr/>
        </p:nvPicPr>
        <p:blipFill>
          <a:blip r:embed="rId2"/>
          <a:stretch/>
        </p:blipFill>
        <p:spPr>
          <a:xfrm>
            <a:off x="736272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4284720" y="220500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4284720" y="342900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получении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изации, подготовке кад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ая, воспитатель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ы нау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ния и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217698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j0305257"/>
          <p:cNvPicPr/>
          <p:nvPr/>
        </p:nvPicPr>
        <p:blipFill>
          <a:blip r:embed="rId2"/>
          <a:stretch/>
        </p:blipFill>
        <p:spPr>
          <a:xfrm>
            <a:off x="250920" y="227664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j0216724"/>
          <p:cNvPicPr/>
          <p:nvPr/>
        </p:nvPicPr>
        <p:blipFill>
          <a:blip r:embed="rId3"/>
          <a:stretch/>
        </p:blipFill>
        <p:spPr>
          <a:xfrm>
            <a:off x="7693200" y="2781360"/>
            <a:ext cx="1450800" cy="1824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j0216516"/>
          <p:cNvPicPr/>
          <p:nvPr/>
        </p:nvPicPr>
        <p:blipFill>
          <a:blip r:embed="rId4"/>
          <a:stretch/>
        </p:blipFill>
        <p:spPr>
          <a:xfrm>
            <a:off x="611280" y="4653000"/>
            <a:ext cx="1573200" cy="18208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9"/>
          <p:cNvSpPr/>
          <p:nvPr/>
        </p:nvSpPr>
        <p:spPr>
          <a:xfrm>
            <a:off x="4211640" y="263700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4211640" y="429264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План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бщее понятие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арактерные черты общества как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сновные сферы обществен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оциальные инстит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решении духов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 смысл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лигиоз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рели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300912"/>
          <p:cNvPicPr/>
          <p:nvPr/>
        </p:nvPicPr>
        <p:blipFill>
          <a:blip r:embed="rId1"/>
          <a:stretch/>
        </p:blipFill>
        <p:spPr>
          <a:xfrm>
            <a:off x="7345440" y="0"/>
            <a:ext cx="1798560" cy="1706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285926"/>
          <p:cNvPicPr/>
          <p:nvPr/>
        </p:nvPicPr>
        <p:blipFill>
          <a:blip r:embed="rId2"/>
          <a:stretch/>
        </p:blipFill>
        <p:spPr>
          <a:xfrm>
            <a:off x="0" y="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j0149407"/>
          <p:cNvPicPr/>
          <p:nvPr/>
        </p:nvPicPr>
        <p:blipFill>
          <a:blip r:embed="rId3"/>
          <a:stretch/>
        </p:blipFill>
        <p:spPr>
          <a:xfrm>
            <a:off x="0" y="4510080"/>
            <a:ext cx="1971720" cy="23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j0301050"/>
          <p:cNvPicPr/>
          <p:nvPr/>
        </p:nvPicPr>
        <p:blipFill>
          <a:blip r:embed="rId4"/>
          <a:stretch/>
        </p:blipFill>
        <p:spPr>
          <a:xfrm>
            <a:off x="7323120" y="551808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>
            <a:off x="7236000" y="27082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7236000" y="400536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й инстит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никает на основе совместной деятельности больших масс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еятельность направлена на удовлетворение фундаментальных потребностей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едставляет собой устойчивые формы организации подо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ложились исторически, регулируются нормами, традициями, обыча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уют человеческую деятельность в определенную систему ролей и стат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ключают систему сан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орядочивают, координируют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вают стандарт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Функции социального института</a:t>
            </a:r>
            <a:br>
              <a:rPr sz="36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крытые, я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Общее понятие систе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«система» относитс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ъектам и механическим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иологическим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социальным. Все 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ючают в себя разнородные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эти элементы, части системы связаны между собой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заимодействую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руг с другом. Система функционирует лишь благодаря этому взаимодейств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истемы принадлежат не её отдельным частям, а только системе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234131"/>
          <p:cNvPicPr/>
          <p:nvPr/>
        </p:nvPicPr>
        <p:blipFill>
          <a:blip r:embed="rId1"/>
          <a:stretch/>
        </p:blipFill>
        <p:spPr>
          <a:xfrm>
            <a:off x="971640" y="478152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j0281904"/>
          <p:cNvPicPr/>
          <p:nvPr/>
        </p:nvPicPr>
        <p:blipFill>
          <a:blip r:embed="rId2"/>
          <a:stretch/>
        </p:blipFill>
        <p:spPr>
          <a:xfrm>
            <a:off x="6948360" y="4782960"/>
            <a:ext cx="2195640" cy="207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j0287005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35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Характерные черты общества как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жный характер общественной системы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ножество уровней, подсистем эле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ство как система включает в себя разнокачествен-ные элементы – материальны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классы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идеальны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добрые люд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 включен в каждую из социаль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ство отличает динамичность, незавершенность, альтернативность развития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.к. человек ставит цел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гративное качество системы как целого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пособность создавать условия для своего существ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ая система -  самоуправляема, самодостато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ой общества определённой страны как системы является природа, мировое со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функции социальной системы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даптация, целедостижение, поддержание образца, интег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щество является динамической  саморазвивающейся системой, т.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ировоззр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циальные ц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рудовые процесс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кономические и политические задач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лигиозные и нравственные устан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ются самими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ются в ходе ист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гут различаться между собой в разные исторические эпо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70009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Основные сферы общественной </a:t>
            </a:r>
            <a:br>
              <a:rPr sz="3200"/>
            </a:b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жизни (подсистем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907560"/>
            <a:ext cx="867888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ономическая сфера (базис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улирует вопросы производства собственности, распределения и потребления материальных и духовных благ.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шения человека к средствам производств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ладеть, пользоваться, распоряжа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о человека в системе общественного производств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тношения господства или подч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 и размер получения доли общественного богат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рактер деятельности в системе производств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умственный, физический, управления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0240695"/>
          <p:cNvPicPr/>
          <p:nvPr/>
        </p:nvPicPr>
        <p:blipFill>
          <a:blip r:embed="rId1"/>
          <a:stretch/>
        </p:blipFill>
        <p:spPr>
          <a:xfrm>
            <a:off x="7318440" y="0"/>
            <a:ext cx="18255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новные сферы общественной жизни (подсис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литическая сфер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управленческая надстройка общества, которая включает в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т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их соотношение и функцион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300840"/>
          <p:cNvPicPr/>
          <p:nvPr/>
        </p:nvPicPr>
        <p:blipFill>
          <a:blip r:embed="rId1"/>
          <a:stretch/>
        </p:blipFill>
        <p:spPr>
          <a:xfrm>
            <a:off x="4716360" y="321300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новные сферы общественной жизни (подсис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960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циальная сфера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определенный способ взаимодействия людей, занимающих определенный статус и выполняющих свои роли в соответствии с принятыми в данной социальной системе нормами и ценност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ые обра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циальные сл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их взаимоотношени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аимодейств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0" y="3781440"/>
            <a:ext cx="4038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новные сферы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щественной жизни (подсис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ультурная или духовная сфера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тражает различные формы и уровни общественного сознания, которые, будучи воплощенными в реальной жизни общества, образуют то, что принято называть духовной куль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j0195384"/>
          <p:cNvPicPr/>
          <p:nvPr/>
        </p:nvPicPr>
        <p:blipFill>
          <a:blip r:embed="rId1"/>
          <a:stretch/>
        </p:blipFill>
        <p:spPr>
          <a:xfrm>
            <a:off x="7348680" y="50245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99125"/>
          <p:cNvPicPr/>
          <p:nvPr/>
        </p:nvPicPr>
        <p:blipFill>
          <a:blip r:embed="rId2"/>
          <a:stretch/>
        </p:blipFill>
        <p:spPr>
          <a:xfrm>
            <a:off x="250920" y="333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8:18:23Z</dcterms:created>
  <dc:creator>Customer</dc:creator>
  <dc:description/>
  <dc:language>en-US</dc:language>
  <cp:lastModifiedBy>Ольга</cp:lastModifiedBy>
  <dcterms:modified xsi:type="dcterms:W3CDTF">2010-09-03T16:32:49Z</dcterms:modified>
  <cp:revision>45</cp:revision>
  <dc:subject/>
  <dc:title>Слайд 1</dc:title>
</cp:coreProperties>
</file>