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4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6D58-300A-4C6D-8703-FECDE1FBCA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34E9-9A04-4744-B60D-74985E297C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EF3-1CCB-48E7-8C8D-1DA99582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719-9FFA-4699-BC79-9180C6A5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304-18E6-4000-85E5-58F3D737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E4E-5616-46E4-A3ED-AE6AC3A4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83CA-8006-4F5F-81B4-94F34BA6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698F-0982-4059-AEBE-37F93241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84B1-C735-495D-A5F4-78810A01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27AE-B913-411E-81BB-159FC2B1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BD74-8E79-436F-84A0-0AE66118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D49D-C3C8-4C2C-82EF-61F8B2BD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468B-0995-4171-80D1-A0F755BC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D419-AA7D-48C4-AA27-3E43DB1B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719E-5BBF-4887-8C42-A3498559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BAF2-3523-4CF1-B7A1-F6FD1276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EAAD-8E03-4187-863F-3862F9AD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275E-4ED1-4096-BAA3-238E8732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FF23-6F20-41D1-AB11-0D0B7A5D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D0B-B80B-4512-9EF8-623B2F4E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84E9-4181-4DD6-9F1B-FDCF1E0D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A596-F6F6-4BF8-8D1E-BE7C214C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CD9-B179-4376-9880-B5824ABE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05C-FFD3-45FA-940E-398C4E03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51A-C240-403E-8BC6-2D1BB635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7EF-A4EE-424B-929C-3C33F784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A13F-6DCE-4B52-90E4-719AE76281A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34B2-2859-4E7B-AB82-89DD69FB3D9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ДНОРОДНЫЕ ЧЛЕНЫ ПРЕДЛОЖЕНИЯ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8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тор Андреянова Ирина Эвальдто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ель Карповской МСО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i-main-pic" descr="Картинка 166 из 212"/>
          <p:cNvPicPr/>
          <p:nvPr/>
        </p:nvPicPr>
        <p:blipFill>
          <a:blip r:embed="rId1"/>
          <a:stretch/>
        </p:blipFill>
        <p:spPr>
          <a:xfrm>
            <a:off x="684360" y="3429000"/>
            <a:ext cx="7991280" cy="500040"/>
          </a:xfrm>
          <a:prstGeom prst="rect">
            <a:avLst/>
          </a:prstGeom>
          <a:ln w="0">
            <a:noFill/>
          </a:ln>
        </p:spPr>
      </p:pic>
      <p:sp>
        <p:nvSpPr>
          <p:cNvPr id="108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использовании двойных союзов, которые членятся на две части (КАК… ТАК И, НЕ ТОЛЬКО…НО И , НЕ СТОЛЬКО… СКОЛЬКО, НАСКОЛЬКО… НАСТОЛЬКО, ХОТЯ И… НО, ЕСЛИ НЕ… ТО, НЕ ТО ЧТО…НО, НЕ ТО ЧТОБЫ… А, СКОРЕЕ… ЧЕМ и др.), запятая ВСЕГДА ставится перед второй част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н был скорее раздосадован, чем опечал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скорее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, чем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Дата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сставьте знаки препинания, выделите союзы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тарину русские князья имели конюшни псарни соколов для охоты.  Должность «управляющего» при этих службах называлась «путь». Бояре при княжеском дворе стремились получить либо конюший либо соколиный либо ловчий путь. А людей без пути называли непутёв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тарину русские князья имели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онюшни, псарни, соколов для охот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Должность «управляющего» при этих службах называлась «путь». Бояре при княжеском дворе стремились получить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либ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онюший,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либо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соколиный,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либ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овч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уть. А людей без пути называли непутёв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i-main-pic" descr="Картинка 201 из 479"/>
          <p:cNvPicPr/>
          <p:nvPr/>
        </p:nvPicPr>
        <p:blipFill>
          <a:blip r:embed="rId1"/>
          <a:stretch/>
        </p:blipFill>
        <p:spPr>
          <a:xfrm>
            <a:off x="0" y="5589720"/>
            <a:ext cx="1042920" cy="1268280"/>
          </a:xfrm>
          <a:prstGeom prst="rect">
            <a:avLst/>
          </a:prstGeom>
          <a:ln w="0">
            <a:noFill/>
          </a:ln>
        </p:spPr>
      </p:pic>
      <p:sp>
        <p:nvSpPr>
          <p:cNvPr id="170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дерсен сделал сказку интересной как для взрослых так и для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дерсен сделал сказку интересной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как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для взрослых,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так и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для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умерках в углу комнаты смутно белело не то таинственное привидение, не то  белое плать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умерках в углу комнаты смутно белело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не то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таинственное привидение,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не то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белое плать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уманы в Лондоне бывают если не каждый день то через день непремен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уманы в Лондоне бывают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если не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каждый день,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то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через ден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епремен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Дата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рассказывает древнегреческий миф бог лесов и полей Пан обладал не только страшной внешностью но и оглушительным голосом. Он пускал в ход как то так и другое и внушал людям страх. От имени этого божества произошли слова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аника и паникё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рассказывает древнегреческий миф, бог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есов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и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ан обладал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не только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страшной внешностью,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но и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оглушительным голос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Он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ускал в хо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как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о,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так и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друг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нуш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людям страх. От имени этого божества произошли слова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аника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и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паникё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Дата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рточка 1. Расставьте знаки препинания</a:t>
            </a:r>
            <a:r>
              <a:rPr b="0" lang="ru-RU" sz="32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лчи скрывайся и та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чувства и мечты сво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винсон подложил сухой травы и хворосту и раздул плам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азал бы словечко да волк недалеч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ма да кум наставят на у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вно пора бы прекратиться дождю однако он продолжается почти неде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ма не то что сердилась но всё-таки была недоволь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 Пушкин оставил нам стихотворения и поэмы повести и дра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мя Пушкина известно не только в нашей стране но и за её предел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i-main-pic" descr="Картинка 201 из 479"/>
          <p:cNvPicPr/>
          <p:nvPr/>
        </p:nvPicPr>
        <p:blipFill>
          <a:blip r:embed="rId1"/>
          <a:stretch/>
        </p:blipFill>
        <p:spPr>
          <a:xfrm>
            <a:off x="7956720" y="836640"/>
            <a:ext cx="936360" cy="1152360"/>
          </a:xfrm>
          <a:prstGeom prst="rect">
            <a:avLst/>
          </a:prstGeom>
          <a:ln w="0">
            <a:noFill/>
          </a:ln>
        </p:spPr>
      </p:pic>
      <p:sp>
        <p:nvSpPr>
          <p:cNvPr id="178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русский так и зарубежный читатель ценит творчество гениального поэ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 время ни расстояния не властны над н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меркнет с годами а разгорается новым пламенем всенародная любовь к поэ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велика птичка зато поёт хорош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ло светло но по-осеннему скучно и сер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ыль окутывала и машину и генерала с шофёром и примолкших на задних сиденьях небритого майора и рослого сержа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мя то разгоралось то затухало и из шумящей тьмы то выступали в освещённый круг то отходили обратно во мрак стволы сосен и берё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лице у него выступил не то страх не то доса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сянников разъезжал либо на беговых дрожках либо в тележке с кожаным верх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Дата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юч к карточке 1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лчи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крывайся и та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чувства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мечты сво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винсон подложил сухой травы и хворосту и раздул плам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азал бы словечко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а волк недалеч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ма да кум наставят на у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вно пора бы прекратиться дождю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днако он продолжается почти неде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ма не то что сердилась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 всё-таки была недоволь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 Пушкин оставил нам стихотворения и поэмы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вести и дра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мя Пушкина известно не только в нашей стране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 и за её предел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i-main-pic" descr="Картинка 100 из 279"/>
          <p:cNvPicPr/>
          <p:nvPr/>
        </p:nvPicPr>
        <p:blipFill>
          <a:blip r:embed="rId1"/>
          <a:stretch/>
        </p:blipFill>
        <p:spPr>
          <a:xfrm>
            <a:off x="6804000" y="189000"/>
            <a:ext cx="1584360" cy="1368360"/>
          </a:xfrm>
          <a:prstGeom prst="rect">
            <a:avLst/>
          </a:prstGeom>
          <a:ln w="0">
            <a:noFill/>
          </a:ln>
        </p:spPr>
      </p:pic>
      <p:sp>
        <p:nvSpPr>
          <p:cNvPr id="184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русский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ак и зарубежный читатель ценит творчество гениального поэ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 время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и расстояния не властны над н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меркнет с годами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 разгорается новым пламенем всенародная любовь к поэ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велика птичка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зато поёт хорош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ло светло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 по-осеннему скучно и сер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ыль окутывала и машину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генерала с шофёром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примолкших на задних сиденьях небритого майора и рослого сержа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мя то разгоралось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о затухало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из шумящей тьмы то выступали в освещённый круг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о отходили обратно во мрак стволы сосен и берё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лице у него выступил не то страх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е то доса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сянников разъезжал либо на беговых дрожках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либо в тележке с кожаным верх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Дата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точка 2. Сопоставьте простые предложения с ОЧП и сложносочинённые предложения, указывая в скобках ПП или ССП. Расставьте знаки препинания.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 проникал в самую глубину ущелья пронизывал толщу воды и на дне реки разжигал костры из разноцветных кам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 мирным Днепром за горами заря догорала светло и тёпел был воздух вечерний и ясно речное стек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уман встречал нас холодеющим прикосновением и уводил в свой сказочный черто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дрова и солома прогорели и свет от угольев медленно умирал в темнеющей изб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аровательный ветер весеннего дня и приморской степи сладкий аромат цветущих олив хлебов и горячей земли веет в окна поез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i-main-pic" descr="Картинка 201 из 479"/>
          <p:cNvPicPr/>
          <p:nvPr/>
        </p:nvPicPr>
        <p:blipFill>
          <a:blip r:embed="rId1"/>
          <a:stretch/>
        </p:blipFill>
        <p:spPr>
          <a:xfrm>
            <a:off x="8028000" y="5707080"/>
            <a:ext cx="936720" cy="115092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81" descr="http://woweb.ucoz.ru/flist/gif/502/167.gif"/>
          <p:cNvPicPr/>
          <p:nvPr/>
        </p:nvPicPr>
        <p:blipFill>
          <a:blip r:embed="rId2"/>
          <a:stretch/>
        </p:blipFill>
        <p:spPr>
          <a:xfrm flipH="1">
            <a:off x="-360" y="1413000"/>
            <a:ext cx="399960" cy="1998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81" descr="http://woweb.ucoz.ru/flist/gif/502/167.gif"/>
          <p:cNvPicPr/>
          <p:nvPr/>
        </p:nvPicPr>
        <p:blipFill>
          <a:blip r:embed="rId3"/>
          <a:stretch/>
        </p:blipFill>
        <p:spPr>
          <a:xfrm flipH="1">
            <a:off x="-360" y="2637000"/>
            <a:ext cx="399960" cy="1998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81" descr="http://woweb.ucoz.ru/flist/gif/502/167.gif"/>
          <p:cNvPicPr/>
          <p:nvPr/>
        </p:nvPicPr>
        <p:blipFill>
          <a:blip r:embed="rId4"/>
          <a:stretch/>
        </p:blipFill>
        <p:spPr>
          <a:xfrm flipH="1">
            <a:off x="-360" y="3429000"/>
            <a:ext cx="399960" cy="20016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181" descr="http://woweb.ucoz.ru/flist/gif/502/167.gif"/>
          <p:cNvPicPr/>
          <p:nvPr/>
        </p:nvPicPr>
        <p:blipFill>
          <a:blip r:embed="rId5"/>
          <a:stretch/>
        </p:blipFill>
        <p:spPr>
          <a:xfrm flipH="1">
            <a:off x="-360" y="4221000"/>
            <a:ext cx="399960" cy="20016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181" descr="http://woweb.ucoz.ru/flist/gif/502/167.gif"/>
          <p:cNvPicPr/>
          <p:nvPr/>
        </p:nvPicPr>
        <p:blipFill>
          <a:blip r:embed="rId6"/>
          <a:stretch/>
        </p:blipFill>
        <p:spPr>
          <a:xfrm flipH="1">
            <a:off x="-360" y="5013360"/>
            <a:ext cx="399960" cy="200160"/>
          </a:xfrm>
          <a:prstGeom prst="rect">
            <a:avLst/>
          </a:prstGeom>
          <a:ln w="0">
            <a:noFill/>
          </a:ln>
        </p:spPr>
      </p:pic>
      <p:sp>
        <p:nvSpPr>
          <p:cNvPr id="195" name="Дата 9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ближение весны чувствовалось и по тёплой испарине земли и по ярким кочкам новой травы и по хлопотливому труду людей на пол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приволье всякая еда радует сердце и нет вкуснее пищи сваренной на таганке и пахнущей дымком хвороста. И воздух становится слаще и дали приветливее и люди милее и жизнь легч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лнце на пустой набережной сильно пригревало сквозь туман и всё сияло перед глаз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Рисунок 181" descr="http://woweb.ucoz.ru/flist/gif/502/167.gif"/>
          <p:cNvPicPr/>
          <p:nvPr/>
        </p:nvPicPr>
        <p:blipFill>
          <a:blip r:embed="rId1"/>
          <a:stretch/>
        </p:blipFill>
        <p:spPr>
          <a:xfrm flipH="1">
            <a:off x="-360" y="476280"/>
            <a:ext cx="399960" cy="2001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81" descr="http://woweb.ucoz.ru/flist/gif/502/167.gif"/>
          <p:cNvPicPr/>
          <p:nvPr/>
        </p:nvPicPr>
        <p:blipFill>
          <a:blip r:embed="rId2"/>
          <a:stretch/>
        </p:blipFill>
        <p:spPr>
          <a:xfrm flipH="1">
            <a:off x="-360" y="1700280"/>
            <a:ext cx="399960" cy="19980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81" descr="http://woweb.ucoz.ru/flist/gif/502/167.gif"/>
          <p:cNvPicPr/>
          <p:nvPr/>
        </p:nvPicPr>
        <p:blipFill>
          <a:blip r:embed="rId3"/>
          <a:stretch/>
        </p:blipFill>
        <p:spPr>
          <a:xfrm flipH="1">
            <a:off x="-360" y="3213000"/>
            <a:ext cx="399960" cy="200160"/>
          </a:xfrm>
          <a:prstGeom prst="rect">
            <a:avLst/>
          </a:prstGeom>
          <a:ln w="0">
            <a:noFill/>
          </a:ln>
        </p:spPr>
      </p:pic>
      <p:sp>
        <p:nvSpPr>
          <p:cNvPr id="200" name="Дата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Organization Chart 5"/>
          <p:cNvGrpSpPr/>
          <p:nvPr/>
        </p:nvGrpSpPr>
        <p:grpSpPr>
          <a:xfrm>
            <a:off x="0" y="0"/>
            <a:ext cx="9143640" cy="6856920"/>
            <a:chOff x="0" y="0"/>
            <a:chExt cx="9143640" cy="6856920"/>
          </a:xfrm>
        </p:grpSpPr>
        <p:cxnSp>
          <p:nvCxnSpPr>
            <p:cNvPr id="110" name="_s1028"/>
            <p:cNvCxnSpPr>
              <a:stCxn id="111" idx="0"/>
              <a:endCxn id="112" idx="2"/>
            </p:cNvCxnSpPr>
            <p:nvPr/>
          </p:nvCxnSpPr>
          <p:spPr>
            <a:xfrm flipH="1" flipV="1" rot="5400000">
              <a:off x="4166640" y="1581120"/>
              <a:ext cx="672120" cy="2160"/>
            </a:xfrm>
            <a:prstGeom prst="bentConnector3">
              <a:avLst>
                <a:gd name="adj1" fmla="val 170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029"/>
            <p:cNvCxnSpPr>
              <a:stCxn id="114" idx="1"/>
              <a:endCxn id="115" idx="2"/>
            </p:cNvCxnSpPr>
            <p:nvPr/>
          </p:nvCxnSpPr>
          <p:spPr>
            <a:xfrm rot="10800000">
              <a:off x="7287840" y="4986360"/>
              <a:ext cx="265680" cy="124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030"/>
            <p:cNvCxnSpPr>
              <a:stCxn id="117" idx="3"/>
              <a:endCxn id="118" idx="2"/>
            </p:cNvCxnSpPr>
            <p:nvPr/>
          </p:nvCxnSpPr>
          <p:spPr>
            <a:xfrm flipV="1">
              <a:off x="5168160" y="4986720"/>
              <a:ext cx="265680" cy="124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9" name="_s1031"/>
            <p:cNvCxnSpPr>
              <a:stCxn id="115" idx="0"/>
              <a:endCxn id="120" idx="2"/>
            </p:cNvCxnSpPr>
            <p:nvPr/>
          </p:nvCxnSpPr>
          <p:spPr>
            <a:xfrm flipV="1" rot="16200000">
              <a:off x="6512760" y="2963880"/>
              <a:ext cx="623520" cy="928080"/>
            </a:xfrm>
            <a:prstGeom prst="bentConnector3">
              <a:avLst>
                <a:gd name="adj1" fmla="val 183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032"/>
            <p:cNvCxnSpPr>
              <a:stCxn id="118" idx="0"/>
              <a:endCxn id="120" idx="2"/>
            </p:cNvCxnSpPr>
            <p:nvPr/>
          </p:nvCxnSpPr>
          <p:spPr>
            <a:xfrm flipH="1" flipV="1" rot="5400000">
              <a:off x="5585040" y="2963880"/>
              <a:ext cx="623520" cy="928440"/>
            </a:xfrm>
            <a:prstGeom prst="bentConnector3">
              <a:avLst>
                <a:gd name="adj1" fmla="val 183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1033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2802240" y="2963880"/>
              <a:ext cx="623520" cy="928080"/>
            </a:xfrm>
            <a:prstGeom prst="bentConnector3">
              <a:avLst>
                <a:gd name="adj1" fmla="val 183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5" name="_s1034"/>
            <p:cNvCxnSpPr>
              <a:stCxn id="126" idx="0"/>
              <a:endCxn id="124" idx="2"/>
            </p:cNvCxnSpPr>
            <p:nvPr/>
          </p:nvCxnSpPr>
          <p:spPr>
            <a:xfrm flipH="1" flipV="1" rot="5400000">
              <a:off x="1874520" y="2963880"/>
              <a:ext cx="623520" cy="928440"/>
            </a:xfrm>
            <a:prstGeom prst="bentConnector3">
              <a:avLst>
                <a:gd name="adj1" fmla="val 183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1035"/>
            <p:cNvCxnSpPr>
              <a:stCxn id="120" idx="0"/>
              <a:endCxn id="112" idx="2"/>
            </p:cNvCxnSpPr>
            <p:nvPr/>
          </p:nvCxnSpPr>
          <p:spPr>
            <a:xfrm flipV="1" rot="16200000">
              <a:off x="5120280" y="628920"/>
              <a:ext cx="623520" cy="1857960"/>
            </a:xfrm>
            <a:prstGeom prst="bentConnector3">
              <a:avLst>
                <a:gd name="adj1" fmla="val 183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1036"/>
            <p:cNvCxnSpPr>
              <a:stCxn id="124" idx="0"/>
              <a:endCxn id="112" idx="2"/>
            </p:cNvCxnSpPr>
            <p:nvPr/>
          </p:nvCxnSpPr>
          <p:spPr>
            <a:xfrm flipH="1" flipV="1" rot="5400000">
              <a:off x="3264840" y="631080"/>
              <a:ext cx="623520" cy="1853640"/>
            </a:xfrm>
            <a:prstGeom prst="bentConnector3">
              <a:avLst>
                <a:gd name="adj1" fmla="val 183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1037"/>
            <p:cNvCxnSpPr>
              <a:stCxn id="130" idx="0"/>
              <a:endCxn id="112" idx="2"/>
            </p:cNvCxnSpPr>
            <p:nvPr/>
          </p:nvCxnSpPr>
          <p:spPr>
            <a:xfrm flipH="1" flipV="1" rot="5400000">
              <a:off x="2337120" y="-296640"/>
              <a:ext cx="623520" cy="3709080"/>
            </a:xfrm>
            <a:prstGeom prst="bentConnector3">
              <a:avLst>
                <a:gd name="adj1" fmla="val 183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038"/>
            <p:cNvSpPr/>
            <p:nvPr/>
          </p:nvSpPr>
          <p:spPr>
            <a:xfrm>
              <a:off x="3708360" y="0"/>
              <a:ext cx="1590120" cy="1246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Однородные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члены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предложения – это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такие члены,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которы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039"/>
            <p:cNvSpPr/>
            <p:nvPr/>
          </p:nvSpPr>
          <p:spPr>
            <a:xfrm>
              <a:off x="0" y="1869840"/>
              <a:ext cx="1590120" cy="1246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Относятся к одному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и тому же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члену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предложени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040"/>
            <p:cNvSpPr/>
            <p:nvPr/>
          </p:nvSpPr>
          <p:spPr>
            <a:xfrm>
              <a:off x="1855080" y="1869840"/>
              <a:ext cx="1590120" cy="1246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Выполняют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одинаковую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синтаксическую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роль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041"/>
            <p:cNvSpPr/>
            <p:nvPr/>
          </p:nvSpPr>
          <p:spPr>
            <a:xfrm>
              <a:off x="5565960" y="1869840"/>
              <a:ext cx="1590120" cy="1246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Связаны между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собой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сочинительной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связью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1042"/>
            <p:cNvSpPr/>
            <p:nvPr/>
          </p:nvSpPr>
          <p:spPr>
            <a:xfrm>
              <a:off x="927360" y="3740040"/>
              <a:ext cx="1590120" cy="1246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Главные ЧП: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подлежаще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сказуемо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1043"/>
            <p:cNvSpPr/>
            <p:nvPr/>
          </p:nvSpPr>
          <p:spPr>
            <a:xfrm>
              <a:off x="2782440" y="3740040"/>
              <a:ext cx="1590120" cy="1246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Второстепенные ЧП: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определени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обстоятельство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дополнени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1044"/>
            <p:cNvSpPr/>
            <p:nvPr/>
          </p:nvSpPr>
          <p:spPr>
            <a:xfrm>
              <a:off x="4637880" y="3740040"/>
              <a:ext cx="1590120" cy="1246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00"/>
                  </a:solidFill>
                  <a:latin typeface="Arial"/>
                </a:rPr>
                <a:t>союзна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45"/>
            <p:cNvSpPr/>
            <p:nvPr/>
          </p:nvSpPr>
          <p:spPr>
            <a:xfrm>
              <a:off x="6493320" y="3740040"/>
              <a:ext cx="1590120" cy="1246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00"/>
                  </a:solidFill>
                  <a:latin typeface="Arial"/>
                </a:rPr>
                <a:t>бессоюзна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046"/>
            <p:cNvSpPr/>
            <p:nvPr/>
          </p:nvSpPr>
          <p:spPr>
            <a:xfrm>
              <a:off x="3577680" y="5610240"/>
              <a:ext cx="1590120" cy="1246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00"/>
                  </a:solidFill>
                  <a:latin typeface="Arial"/>
                </a:rPr>
                <a:t>Сочинительны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00"/>
                  </a:solidFill>
                  <a:latin typeface="Arial"/>
                </a:rPr>
                <a:t>союзы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00"/>
                  </a:solidFill>
                  <a:latin typeface="Arial"/>
                </a:rPr>
                <a:t>+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00"/>
                  </a:solidFill>
                  <a:latin typeface="Arial"/>
                </a:rPr>
                <a:t>перечислительна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00"/>
                  </a:solidFill>
                  <a:latin typeface="Arial"/>
                </a:rPr>
                <a:t>интонаци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047"/>
            <p:cNvSpPr/>
            <p:nvPr/>
          </p:nvSpPr>
          <p:spPr>
            <a:xfrm>
              <a:off x="7553520" y="5610240"/>
              <a:ext cx="1590120" cy="1246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00"/>
                  </a:solidFill>
                  <a:latin typeface="Arial"/>
                </a:rPr>
                <a:t>Перечислительная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00"/>
                  </a:solidFill>
                  <a:latin typeface="Arial"/>
                </a:rPr>
                <a:t>интонаци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048"/>
            <p:cNvSpPr/>
            <p:nvPr/>
          </p:nvSpPr>
          <p:spPr>
            <a:xfrm>
              <a:off x="3708360" y="1918080"/>
              <a:ext cx="1586520" cy="12466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отвечают  на один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вопрос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1" name="i-main-pic" descr="Картинка 111 из 138"/>
          <p:cNvPicPr/>
          <p:nvPr/>
        </p:nvPicPr>
        <p:blipFill>
          <a:blip r:embed="rId1"/>
          <a:stretch/>
        </p:blipFill>
        <p:spPr>
          <a:xfrm>
            <a:off x="7236000" y="333360"/>
            <a:ext cx="1504800" cy="1150920"/>
          </a:xfrm>
          <a:prstGeom prst="rect">
            <a:avLst/>
          </a:prstGeom>
          <a:ln w="0">
            <a:noFill/>
          </a:ln>
        </p:spPr>
      </p:pic>
      <p:sp>
        <p:nvSpPr>
          <p:cNvPr id="132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юч к карточке 2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вет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проник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самую глубину ущелья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низыва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лщу воды и на дне рек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зжигал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тры из разноцветных камней (ПП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1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ирны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непр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 гор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ря догора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ветло, и (2)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ёпел был возду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черний, и (3)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сн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но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екл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ССП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уман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стреч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с холодеющим прикосновением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води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свой сказочный чертог (ПП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1)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ро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о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горе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и (2)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т угольев медлен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мир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темнеющей избе (ССП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аровательны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ет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сенн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н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приморско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еп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сладки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рома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цветущих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лив, хлеб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горяче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ем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е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окна поезда (ПП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i-main-pic" descr="Картинка 100 из 279"/>
          <p:cNvPicPr/>
          <p:nvPr/>
        </p:nvPicPr>
        <p:blipFill>
          <a:blip r:embed="rId1"/>
          <a:stretch/>
        </p:blipFill>
        <p:spPr>
          <a:xfrm>
            <a:off x="6659640" y="0"/>
            <a:ext cx="1008000" cy="9367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81" descr="http://woweb.ucoz.ru/flist/gif/502/167.gif"/>
          <p:cNvPicPr/>
          <p:nvPr/>
        </p:nvPicPr>
        <p:blipFill>
          <a:blip r:embed="rId2"/>
          <a:stretch/>
        </p:blipFill>
        <p:spPr>
          <a:xfrm flipH="1">
            <a:off x="-360" y="1052640"/>
            <a:ext cx="399960" cy="19980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81" descr="http://woweb.ucoz.ru/flist/gif/502/167.gif"/>
          <p:cNvPicPr/>
          <p:nvPr/>
        </p:nvPicPr>
        <p:blipFill>
          <a:blip r:embed="rId3"/>
          <a:stretch/>
        </p:blipFill>
        <p:spPr>
          <a:xfrm flipH="1">
            <a:off x="-360" y="2276640"/>
            <a:ext cx="399960" cy="1998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81" descr="http://woweb.ucoz.ru/flist/gif/502/167.gif"/>
          <p:cNvPicPr/>
          <p:nvPr/>
        </p:nvPicPr>
        <p:blipFill>
          <a:blip r:embed="rId4"/>
          <a:stretch/>
        </p:blipFill>
        <p:spPr>
          <a:xfrm flipH="1">
            <a:off x="-360" y="3429000"/>
            <a:ext cx="399960" cy="20016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81" descr="http://woweb.ucoz.ru/flist/gif/502/167.gif"/>
          <p:cNvPicPr/>
          <p:nvPr/>
        </p:nvPicPr>
        <p:blipFill>
          <a:blip r:embed="rId5"/>
          <a:stretch/>
        </p:blipFill>
        <p:spPr>
          <a:xfrm flipH="1">
            <a:off x="-360" y="4221000"/>
            <a:ext cx="399960" cy="20016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81" descr="http://woweb.ucoz.ru/flist/gif/502/167.gif"/>
          <p:cNvPicPr/>
          <p:nvPr/>
        </p:nvPicPr>
        <p:blipFill>
          <a:blip r:embed="rId6"/>
          <a:stretch/>
        </p:blipFill>
        <p:spPr>
          <a:xfrm flipH="1">
            <a:off x="-360" y="5013360"/>
            <a:ext cx="399960" cy="200160"/>
          </a:xfrm>
          <a:prstGeom prst="rect">
            <a:avLst/>
          </a:prstGeom>
          <a:ln w="0">
            <a:noFill/>
          </a:ln>
        </p:spPr>
      </p:pic>
      <p:sp>
        <p:nvSpPr>
          <p:cNvPr id="209" name="Дата 9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5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ближ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сны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увствовалос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ёпло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парин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земли,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ярки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чка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вой травы,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хлопотливому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уд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людей на полях (ПП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1) На приволье всяка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да радуе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ердце, и (2)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т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куснее пищи, сваренной на таганке и пахнущей дымком хвороста (ССП). (1)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здух становится слащ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и( 2)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ли приветливе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и( 3)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юди миле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и (4)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изнь легч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ССП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1)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 пустой набережной силь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гревал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квозь туман, и( 2)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ё сиял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еред глазами (ССП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Рисунок 181" descr="http://woweb.ucoz.ru/flist/gif/502/167.gif"/>
          <p:cNvPicPr/>
          <p:nvPr/>
        </p:nvPicPr>
        <p:blipFill>
          <a:blip r:embed="rId1"/>
          <a:stretch/>
        </p:blipFill>
        <p:spPr>
          <a:xfrm flipH="1">
            <a:off x="179280" y="333360"/>
            <a:ext cx="400320" cy="20016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81" descr="http://woweb.ucoz.ru/flist/gif/502/167.gif"/>
          <p:cNvPicPr/>
          <p:nvPr/>
        </p:nvPicPr>
        <p:blipFill>
          <a:blip r:embed="rId2"/>
          <a:stretch/>
        </p:blipFill>
        <p:spPr>
          <a:xfrm flipH="1">
            <a:off x="179280" y="1557360"/>
            <a:ext cx="400320" cy="2001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81" descr="http://woweb.ucoz.ru/flist/gif/502/167.gif"/>
          <p:cNvPicPr/>
          <p:nvPr/>
        </p:nvPicPr>
        <p:blipFill>
          <a:blip r:embed="rId3"/>
          <a:stretch/>
        </p:blipFill>
        <p:spPr>
          <a:xfrm flipH="1">
            <a:off x="179280" y="3500280"/>
            <a:ext cx="400320" cy="200160"/>
          </a:xfrm>
          <a:prstGeom prst="rect">
            <a:avLst/>
          </a:prstGeom>
          <a:ln w="0">
            <a:noFill/>
          </a:ln>
        </p:spPr>
      </p:pic>
      <p:sp>
        <p:nvSpPr>
          <p:cNvPr id="214" name="Дата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138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машнее задание. Карточка 3. продолжить предложения так, чтобы получилось: 1) ПП с ОЧП; 2) ССП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но утром вереница автобусов выезжала из парка и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ссажиры входили в автобус 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ие ехали в сторону текстильной фабрики 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ие спокойно сидели на своих местах 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в остановился возле пустыря 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тчас кто-то пустился бежать и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том мире есть шквалы и штили, затмения 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рамор был бел 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уса взяли ветер 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лнце мешалось с розовым отблеском голубой воды среди нежных пальм, папоротников 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Рисунок 55" descr="pic"/>
          <p:cNvPicPr/>
          <p:nvPr/>
        </p:nvPicPr>
        <p:blipFill>
          <a:blip r:embed="rId1"/>
          <a:stretch/>
        </p:blipFill>
        <p:spPr>
          <a:xfrm>
            <a:off x="7667640" y="3068640"/>
            <a:ext cx="121284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ЧП С ОБОБЩАЮЩИМИ СЛОВАМИ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20" name="i-main-pic" descr="Картинка 166 из 212"/>
          <p:cNvPicPr/>
          <p:nvPr/>
        </p:nvPicPr>
        <p:blipFill>
          <a:blip r:embed="rId1"/>
          <a:stretch/>
        </p:blipFill>
        <p:spPr>
          <a:xfrm>
            <a:off x="684360" y="3429000"/>
            <a:ext cx="7991280" cy="500040"/>
          </a:xfrm>
          <a:prstGeom prst="rect">
            <a:avLst/>
          </a:prstGeom>
          <a:ln w="0">
            <a:noFill/>
          </a:ln>
        </p:spPr>
      </p:pic>
      <p:sp>
        <p:nvSpPr>
          <p:cNvPr id="221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8930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ждое слово является общим названием для целого ряда предме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пример, слов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еревь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общее для всех деревьев, будь то пихта или ябло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при таком слове есть ОЧП, которые представляют собой перечень предметов, обобщённых этим словом, оно называется ОБОБЩАЮЩ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Рисунок 46" descr="http://www.gifpark.ru/Gifs/NATURE/tree22.gif"/>
          <p:cNvPicPr/>
          <p:nvPr/>
        </p:nvPicPr>
        <p:blipFill>
          <a:blip r:embed="rId1"/>
          <a:stretch/>
        </p:blipFill>
        <p:spPr>
          <a:xfrm>
            <a:off x="6659640" y="4653000"/>
            <a:ext cx="2016000" cy="19922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11" descr="pic"/>
          <p:cNvPicPr/>
          <p:nvPr/>
        </p:nvPicPr>
        <p:blipFill>
          <a:blip r:embed="rId2"/>
          <a:stretch/>
        </p:blipFill>
        <p:spPr>
          <a:xfrm>
            <a:off x="0" y="2205000"/>
            <a:ext cx="1476360" cy="2016000"/>
          </a:xfrm>
          <a:prstGeom prst="rect">
            <a:avLst/>
          </a:prstGeom>
          <a:ln w="0">
            <a:noFill/>
          </a:ln>
        </p:spPr>
      </p:pic>
      <p:sp>
        <p:nvSpPr>
          <p:cNvPr id="225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рточка 1. Подберите к рядам ОЧП обобщающие слова</a:t>
            </a:r>
            <a:r>
              <a:rPr b="0" lang="ru-RU" sz="36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рс, Юпитер, Венера, Плутон –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фрика, Америка, Австралия –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в, тигр, ягуар, леопард –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зика, химия, биология – …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Рисунок 46" descr="pic"/>
          <p:cNvPicPr/>
          <p:nvPr/>
        </p:nvPicPr>
        <p:blipFill>
          <a:blip r:embed="rId1"/>
          <a:stretch/>
        </p:blipFill>
        <p:spPr>
          <a:xfrm>
            <a:off x="7451640" y="5445000"/>
            <a:ext cx="108108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130" descr="http://woweb.ucoz.ru/flist/gif/502/169.gif"/>
          <p:cNvPicPr/>
          <p:nvPr/>
        </p:nvPicPr>
        <p:blipFill>
          <a:blip r:embed="rId2"/>
          <a:stretch/>
        </p:blipFill>
        <p:spPr>
          <a:xfrm flipH="1">
            <a:off x="394920" y="1700280"/>
            <a:ext cx="399960" cy="1998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30" descr="http://woweb.ucoz.ru/flist/gif/502/169.gif"/>
          <p:cNvPicPr/>
          <p:nvPr/>
        </p:nvPicPr>
        <p:blipFill>
          <a:blip r:embed="rId3"/>
          <a:stretch/>
        </p:blipFill>
        <p:spPr>
          <a:xfrm flipH="1">
            <a:off x="394920" y="2565360"/>
            <a:ext cx="399960" cy="2001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30" descr="http://woweb.ucoz.ru/flist/gif/502/169.gif"/>
          <p:cNvPicPr/>
          <p:nvPr/>
        </p:nvPicPr>
        <p:blipFill>
          <a:blip r:embed="rId4"/>
          <a:stretch/>
        </p:blipFill>
        <p:spPr>
          <a:xfrm flipH="1">
            <a:off x="394920" y="3429000"/>
            <a:ext cx="399960" cy="2001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30" descr="http://woweb.ucoz.ru/flist/gif/502/169.gif"/>
          <p:cNvPicPr/>
          <p:nvPr/>
        </p:nvPicPr>
        <p:blipFill>
          <a:blip r:embed="rId5"/>
          <a:stretch/>
        </p:blipFill>
        <p:spPr>
          <a:xfrm flipH="1">
            <a:off x="394920" y="4292640"/>
            <a:ext cx="399960" cy="200160"/>
          </a:xfrm>
          <a:prstGeom prst="rect">
            <a:avLst/>
          </a:prstGeom>
          <a:ln w="0">
            <a:noFill/>
          </a:ln>
        </p:spPr>
      </p:pic>
      <p:sp>
        <p:nvSpPr>
          <p:cNvPr id="233" name="Дата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люч к карточке 1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еты Солнечной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тер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щники семейства кошачь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ественные нау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Рисунок 49" descr="pic"/>
          <p:cNvPicPr/>
          <p:nvPr/>
        </p:nvPicPr>
        <p:blipFill>
          <a:blip r:embed="rId1"/>
          <a:stretch/>
        </p:blipFill>
        <p:spPr>
          <a:xfrm>
            <a:off x="7308720" y="5157720"/>
            <a:ext cx="1000080" cy="15112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30" descr="http://woweb.ucoz.ru/flist/gif/502/169.gif"/>
          <p:cNvPicPr/>
          <p:nvPr/>
        </p:nvPicPr>
        <p:blipFill>
          <a:blip r:embed="rId2"/>
          <a:stretch/>
        </p:blipFill>
        <p:spPr>
          <a:xfrm flipH="1">
            <a:off x="179280" y="1700280"/>
            <a:ext cx="400320" cy="1998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30" descr="http://woweb.ucoz.ru/flist/gif/502/169.gif"/>
          <p:cNvPicPr/>
          <p:nvPr/>
        </p:nvPicPr>
        <p:blipFill>
          <a:blip r:embed="rId3"/>
          <a:stretch/>
        </p:blipFill>
        <p:spPr>
          <a:xfrm flipH="1">
            <a:off x="179280" y="2637000"/>
            <a:ext cx="400320" cy="19980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30" descr="http://woweb.ucoz.ru/flist/gif/502/169.gif"/>
          <p:cNvPicPr/>
          <p:nvPr/>
        </p:nvPicPr>
        <p:blipFill>
          <a:blip r:embed="rId4"/>
          <a:stretch/>
        </p:blipFill>
        <p:spPr>
          <a:xfrm flipH="1">
            <a:off x="179280" y="3500280"/>
            <a:ext cx="400320" cy="2001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30" descr="http://woweb.ucoz.ru/flist/gif/502/169.gif"/>
          <p:cNvPicPr/>
          <p:nvPr/>
        </p:nvPicPr>
        <p:blipFill>
          <a:blip r:embed="rId5"/>
          <a:stretch/>
        </p:blipFill>
        <p:spPr>
          <a:xfrm flipH="1">
            <a:off x="179280" y="4365720"/>
            <a:ext cx="400320" cy="199800"/>
          </a:xfrm>
          <a:prstGeom prst="rect">
            <a:avLst/>
          </a:prstGeom>
          <a:ln w="0">
            <a:noFill/>
          </a:ln>
        </p:spPr>
      </p:pic>
      <p:sp>
        <p:nvSpPr>
          <p:cNvPr id="241" name="Дата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НАКИ ПРЕПИНАНИЯ ПРИ ОЧП С ОБОБЩАЮЩИМИ СЛОВАМИ</a:t>
            </a: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обобщающее слово предшествует ОЧП, то после него ставится ДВОЕТОЧ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этом рассказе вы найдёте почти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сё, о чём я упоминал выше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: сухие дубовые листья, седого астронома,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 обобщающем слове могут быть уточняющие слова КАК НАПРИМЕР, НАПРИМЕР, КАК ТО, А ИМЕННО, перед которыми ставится ЗАПЯТАЯ, а после них – ДВОЕТОЧ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руглосуточно работают многие предприятия и службы, как например: связь, скорая помощь, больниц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, как наприме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i-main-pic" descr="Картинка 111 из 138"/>
          <p:cNvPicPr/>
          <p:nvPr/>
        </p:nvPicPr>
        <p:blipFill>
          <a:blip r:embed="rId1"/>
          <a:stretch/>
        </p:blipFill>
        <p:spPr>
          <a:xfrm>
            <a:off x="7740720" y="404640"/>
            <a:ext cx="1216080" cy="935280"/>
          </a:xfrm>
          <a:prstGeom prst="rect">
            <a:avLst/>
          </a:prstGeom>
          <a:ln w="0">
            <a:noFill/>
          </a:ln>
        </p:spPr>
      </p:pic>
      <p:sp>
        <p:nvSpPr>
          <p:cNvPr id="245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бщающие слова, стоящие после ОЧП, отделяются от них ТИР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ручни, компасы, бинокли – всё это было медно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сли перед обобщающим словом имеется вводное слово, то запятая перед вводным словом опуска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вестибюле, в коридоре – словом, всюду толпились люд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ВВ, </a:t>
            </a:r>
            <a:r>
              <a:rPr b="1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ИРЕ ставится после ОЧП, если ими предложение не заканчива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всюду: в клубе, на улицах, в домах – происходили шумные разговор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– …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Дата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рточка 2. Расставьте знаки препинания, составьте схемы предложений, подчерните обобщающие слова</a:t>
            </a: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дрость приносит следующие три плода дар хорошо мыслить хорошо говорить и хорошо поступ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кренность в отношениях правда в общении вот дружб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веты должны быть везде в садах и парках на пришкольных участках всюду где есть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цирковые существа женщины и мужчины лошади и собаки клоуны и музыканты точно старались перещеголять один друг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ходе необходимы самые разные вещи как то палатка спальный мешок одежда на любую пого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ёх вещей не может быть решётки для моря лестницы до неба и лекарства от люб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солнце и зелёные травы и запахи сыроватого утра словом всё было родн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Рисунок 46" descr="pic"/>
          <p:cNvPicPr/>
          <p:nvPr/>
        </p:nvPicPr>
        <p:blipFill>
          <a:blip r:embed="rId1"/>
          <a:stretch/>
        </p:blipFill>
        <p:spPr>
          <a:xfrm>
            <a:off x="8278920" y="5996160"/>
            <a:ext cx="865080" cy="86184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253" descr="http://woweb.ucoz.ru/flist/gif/485/5.gif"/>
          <p:cNvPicPr/>
          <p:nvPr/>
        </p:nvPicPr>
        <p:blipFill>
          <a:blip r:embed="rId2"/>
          <a:stretch/>
        </p:blipFill>
        <p:spPr>
          <a:xfrm>
            <a:off x="250920" y="2133720"/>
            <a:ext cx="152280" cy="3808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253" descr="http://woweb.ucoz.ru/flist/gif/485/5.gif"/>
          <p:cNvPicPr/>
          <p:nvPr/>
        </p:nvPicPr>
        <p:blipFill>
          <a:blip r:embed="rId3"/>
          <a:stretch/>
        </p:blipFill>
        <p:spPr>
          <a:xfrm>
            <a:off x="250920" y="1413000"/>
            <a:ext cx="152280" cy="38088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253" descr="http://woweb.ucoz.ru/flist/gif/485/5.gif"/>
          <p:cNvPicPr/>
          <p:nvPr/>
        </p:nvPicPr>
        <p:blipFill>
          <a:blip r:embed="rId4"/>
          <a:stretch/>
        </p:blipFill>
        <p:spPr>
          <a:xfrm>
            <a:off x="250920" y="2637000"/>
            <a:ext cx="152280" cy="38088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253" descr="http://woweb.ucoz.ru/flist/gif/485/5.gif"/>
          <p:cNvPicPr/>
          <p:nvPr/>
        </p:nvPicPr>
        <p:blipFill>
          <a:blip r:embed="rId5"/>
          <a:stretch/>
        </p:blipFill>
        <p:spPr>
          <a:xfrm>
            <a:off x="250920" y="3357720"/>
            <a:ext cx="152280" cy="38088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253" descr="http://woweb.ucoz.ru/flist/gif/485/5.gif"/>
          <p:cNvPicPr/>
          <p:nvPr/>
        </p:nvPicPr>
        <p:blipFill>
          <a:blip r:embed="rId6"/>
          <a:stretch/>
        </p:blipFill>
        <p:spPr>
          <a:xfrm>
            <a:off x="250920" y="4365720"/>
            <a:ext cx="152280" cy="38088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253" descr="http://woweb.ucoz.ru/flist/gif/485/5.gif"/>
          <p:cNvPicPr/>
          <p:nvPr/>
        </p:nvPicPr>
        <p:blipFill>
          <a:blip r:embed="rId7"/>
          <a:stretch/>
        </p:blipFill>
        <p:spPr>
          <a:xfrm>
            <a:off x="250920" y="5084640"/>
            <a:ext cx="152280" cy="3812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53" descr="http://woweb.ucoz.ru/flist/gif/485/5.gif"/>
          <p:cNvPicPr/>
          <p:nvPr/>
        </p:nvPicPr>
        <p:blipFill>
          <a:blip r:embed="rId8"/>
          <a:stretch/>
        </p:blipFill>
        <p:spPr>
          <a:xfrm>
            <a:off x="250920" y="5734080"/>
            <a:ext cx="152280" cy="380880"/>
          </a:xfrm>
          <a:prstGeom prst="rect">
            <a:avLst/>
          </a:prstGeom>
          <a:ln w="0">
            <a:noFill/>
          </a:ln>
        </p:spPr>
      </p:pic>
      <p:sp>
        <p:nvSpPr>
          <p:cNvPr id="258" name="Дата 1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3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8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8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3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8" dur="2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3" dur="2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147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друг из-за этого шелест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слышалс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изг, плач, хохо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шака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а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й, визг, плач, хохот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носятся к глаголу-сказуемому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слышал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вечают на вопрос ЧТО? (КТО?), т. е. выполняют в предложении функцию подлежащ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единены перечислительной интонацией без сочинительных союз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едовательно, данные слова являю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ДНОРОДНЫМИ ЧЛЕНАМИ     ПРЕД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127" descr="http://woweb.ucoz.ru/flist/gif/502/1.gif"/>
          <p:cNvPicPr/>
          <p:nvPr/>
        </p:nvPicPr>
        <p:blipFill>
          <a:blip r:embed="rId1"/>
          <a:stretch/>
        </p:blipFill>
        <p:spPr>
          <a:xfrm flipH="1">
            <a:off x="0" y="5013360"/>
            <a:ext cx="828720" cy="466560"/>
          </a:xfrm>
          <a:prstGeom prst="rect">
            <a:avLst/>
          </a:prstGeom>
          <a:ln w="0">
            <a:noFill/>
          </a:ln>
        </p:spPr>
      </p:pic>
      <p:sp>
        <p:nvSpPr>
          <p:cNvPr id="135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люч к карточке 2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дрость приносит следующ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ри плод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ар хорошо мыслить, хорошо говорить и хорошо поступ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l-GR" sz="36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и 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кренность в отношениях, правда в общении –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т дружб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–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l-GR" sz="36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веты должны быть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зд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в садах и парках, на пришкольных участках –  всюду, где есть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l-GR" sz="36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и О,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r>
              <a:rPr b="1" lang="el-GR" sz="36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Рисунок 49" descr="pic"/>
          <p:cNvPicPr/>
          <p:nvPr/>
        </p:nvPicPr>
        <p:blipFill>
          <a:blip r:embed="rId1"/>
          <a:stretch/>
        </p:blipFill>
        <p:spPr>
          <a:xfrm>
            <a:off x="7308720" y="5157720"/>
            <a:ext cx="1000080" cy="15112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253" descr="http://woweb.ucoz.ru/flist/gif/485/5.gif"/>
          <p:cNvPicPr/>
          <p:nvPr/>
        </p:nvPicPr>
        <p:blipFill>
          <a:blip r:embed="rId2"/>
          <a:stretch/>
        </p:blipFill>
        <p:spPr>
          <a:xfrm>
            <a:off x="468360" y="1125360"/>
            <a:ext cx="152280" cy="38124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253" descr="http://woweb.ucoz.ru/flist/gif/485/5.gif"/>
          <p:cNvPicPr/>
          <p:nvPr/>
        </p:nvPicPr>
        <p:blipFill>
          <a:blip r:embed="rId3"/>
          <a:stretch/>
        </p:blipFill>
        <p:spPr>
          <a:xfrm>
            <a:off x="468360" y="2924280"/>
            <a:ext cx="152280" cy="3808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253" descr="http://woweb.ucoz.ru/flist/gif/485/5.gif"/>
          <p:cNvPicPr/>
          <p:nvPr/>
        </p:nvPicPr>
        <p:blipFill>
          <a:blip r:embed="rId4"/>
          <a:stretch/>
        </p:blipFill>
        <p:spPr>
          <a:xfrm>
            <a:off x="468360" y="4365720"/>
            <a:ext cx="152280" cy="380880"/>
          </a:xfrm>
          <a:prstGeom prst="rect">
            <a:avLst/>
          </a:prstGeom>
          <a:ln w="0">
            <a:noFill/>
          </a:ln>
        </p:spPr>
      </p:pic>
      <p:sp>
        <p:nvSpPr>
          <p:cNvPr id="265" name="Дата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4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7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2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5" dur="2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0" dur="2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3" dur="2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9647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с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цирковы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уществ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женщины и мужчины, лошади и собаки, клоуны и музыканты –  точно старались перещеголять один друг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l-GR" sz="36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и О, О 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, О и О – …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ходе необходимы самы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ые вещи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ак то: палатка, спальный мешок, одежда на любую пого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l-GR" sz="36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, как то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, О,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рёх вещ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е может быть: решётки для моря, лестницы до неба и лекарства от люб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el-GR" sz="36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, О 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солнце, и зелёные травы, и запахи сыроватого утра –  словом,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сё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ыло родн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, и О, 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– ВВ, </a:t>
            </a:r>
            <a:r>
              <a:rPr b="1" lang="el-GR" sz="36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Рисунок 253" descr="http://woweb.ucoz.ru/flist/gif/485/5.gif"/>
          <p:cNvPicPr/>
          <p:nvPr/>
        </p:nvPicPr>
        <p:blipFill>
          <a:blip r:embed="rId1"/>
          <a:stretch/>
        </p:blipFill>
        <p:spPr>
          <a:xfrm>
            <a:off x="179280" y="260280"/>
            <a:ext cx="152640" cy="38124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253" descr="http://woweb.ucoz.ru/flist/gif/485/5.gif"/>
          <p:cNvPicPr/>
          <p:nvPr/>
        </p:nvPicPr>
        <p:blipFill>
          <a:blip r:embed="rId2"/>
          <a:stretch/>
        </p:blipFill>
        <p:spPr>
          <a:xfrm>
            <a:off x="179280" y="1989000"/>
            <a:ext cx="152640" cy="38124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253" descr="http://woweb.ucoz.ru/flist/gif/485/5.gif"/>
          <p:cNvPicPr/>
          <p:nvPr/>
        </p:nvPicPr>
        <p:blipFill>
          <a:blip r:embed="rId3"/>
          <a:stretch/>
        </p:blipFill>
        <p:spPr>
          <a:xfrm>
            <a:off x="179280" y="3284640"/>
            <a:ext cx="152640" cy="38088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253" descr="http://woweb.ucoz.ru/flist/gif/485/5.gif"/>
          <p:cNvPicPr/>
          <p:nvPr/>
        </p:nvPicPr>
        <p:blipFill>
          <a:blip r:embed="rId4"/>
          <a:stretch/>
        </p:blipFill>
        <p:spPr>
          <a:xfrm>
            <a:off x="179280" y="4653000"/>
            <a:ext cx="152640" cy="380880"/>
          </a:xfrm>
          <a:prstGeom prst="rect">
            <a:avLst/>
          </a:prstGeom>
          <a:ln w="0">
            <a:noFill/>
          </a:ln>
        </p:spPr>
      </p:pic>
      <p:sp>
        <p:nvSpPr>
          <p:cNvPr id="271" name="Дата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0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3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8" dur="2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1" dur="2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6" dur="2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9" dur="2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4" dur="2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7" dur="20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арточка 3. Расставьте знаки препинания в «отрезках» предложений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…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брались все и ребята 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…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тбол и теннис всё эт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…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х удивительных окрасок голубовато-зелёные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…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бята нашего двора пухлые малыши неуклюжие подростки и юнцы с пушком на верхней губе все как один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сь местный флот надувные лодки байдарки шлюпки яхты в этот солнечный ден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…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ли похожи на самых разных животных верблюда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…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ушистые елочные лапы всё покрыт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…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удеса домашней кухни салаты и заливные блюда румяные пироги и нежные фруктовые желе всё эт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Рисунок 46" descr="pic"/>
          <p:cNvPicPr/>
          <p:nvPr/>
        </p:nvPicPr>
        <p:blipFill>
          <a:blip r:embed="rId1"/>
          <a:stretch/>
        </p:blipFill>
        <p:spPr>
          <a:xfrm>
            <a:off x="8278920" y="5996160"/>
            <a:ext cx="865080" cy="8618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211" descr="http://woweb.ucoz.ru/flist/gif/485/64.gif"/>
          <p:cNvPicPr/>
          <p:nvPr/>
        </p:nvPicPr>
        <p:blipFill>
          <a:blip r:embed="rId2"/>
          <a:stretch/>
        </p:blipFill>
        <p:spPr>
          <a:xfrm>
            <a:off x="179280" y="17733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211" descr="http://woweb.ucoz.ru/flist/gif/485/64.gif"/>
          <p:cNvPicPr/>
          <p:nvPr/>
        </p:nvPicPr>
        <p:blipFill>
          <a:blip r:embed="rId3"/>
          <a:stretch/>
        </p:blipFill>
        <p:spPr>
          <a:xfrm>
            <a:off x="179280" y="227664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211" descr="http://woweb.ucoz.ru/flist/gif/485/64.gif"/>
          <p:cNvPicPr/>
          <p:nvPr/>
        </p:nvPicPr>
        <p:blipFill>
          <a:blip r:embed="rId4"/>
          <a:stretch/>
        </p:blipFill>
        <p:spPr>
          <a:xfrm>
            <a:off x="179280" y="270828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211" descr="http://woweb.ucoz.ru/flist/gif/485/64.gif"/>
          <p:cNvPicPr/>
          <p:nvPr/>
        </p:nvPicPr>
        <p:blipFill>
          <a:blip r:embed="rId5"/>
          <a:stretch/>
        </p:blipFill>
        <p:spPr>
          <a:xfrm>
            <a:off x="179280" y="306864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211" descr="http://woweb.ucoz.ru/flist/gif/485/64.gif"/>
          <p:cNvPicPr/>
          <p:nvPr/>
        </p:nvPicPr>
        <p:blipFill>
          <a:blip r:embed="rId6"/>
          <a:stretch/>
        </p:blipFill>
        <p:spPr>
          <a:xfrm>
            <a:off x="179280" y="386064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211" descr="http://woweb.ucoz.ru/flist/gif/485/64.gif"/>
          <p:cNvPicPr/>
          <p:nvPr/>
        </p:nvPicPr>
        <p:blipFill>
          <a:blip r:embed="rId7"/>
          <a:stretch/>
        </p:blipFill>
        <p:spPr>
          <a:xfrm>
            <a:off x="179280" y="465300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211" descr="http://woweb.ucoz.ru/flist/gif/485/64.gif"/>
          <p:cNvPicPr/>
          <p:nvPr/>
        </p:nvPicPr>
        <p:blipFill>
          <a:blip r:embed="rId8"/>
          <a:stretch/>
        </p:blipFill>
        <p:spPr>
          <a:xfrm>
            <a:off x="179280" y="508464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211" descr="http://woweb.ucoz.ru/flist/gif/485/64.gif"/>
          <p:cNvPicPr/>
          <p:nvPr/>
        </p:nvPicPr>
        <p:blipFill>
          <a:blip r:embed="rId9"/>
          <a:stretch/>
        </p:blipFill>
        <p:spPr>
          <a:xfrm>
            <a:off x="179280" y="558972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83" name="Дата 1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indefinite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люч к карточке 3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брались все: и ребята, 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тбол и теннис –  всё эт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бята нашего двора: пухлые малыши, неуклюжие подростки и юнцы с пушком на верхней губе – все как один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сь местный флот: надувные лодки, байдарки, шлюпки, яхты – в этот солнечный ден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и похожи на самых разных животных: верблюда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пушистые елочные лапы – всё покрыт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удеса домашней кухни: салаты и заливные блюда, румяные пироги и нежные фруктовые желе – всё эт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Рисунок 49" descr="pic"/>
          <p:cNvPicPr/>
          <p:nvPr/>
        </p:nvPicPr>
        <p:blipFill>
          <a:blip r:embed="rId1"/>
          <a:stretch/>
        </p:blipFill>
        <p:spPr>
          <a:xfrm>
            <a:off x="7524720" y="260280"/>
            <a:ext cx="1000080" cy="151128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211" descr="http://woweb.ucoz.ru/flist/gif/485/64.gif"/>
          <p:cNvPicPr/>
          <p:nvPr/>
        </p:nvPicPr>
        <p:blipFill>
          <a:blip r:embed="rId2"/>
          <a:stretch/>
        </p:blipFill>
        <p:spPr>
          <a:xfrm>
            <a:off x="179280" y="13413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211" descr="http://woweb.ucoz.ru/flist/gif/485/64.gif"/>
          <p:cNvPicPr/>
          <p:nvPr/>
        </p:nvPicPr>
        <p:blipFill>
          <a:blip r:embed="rId3"/>
          <a:stretch/>
        </p:blipFill>
        <p:spPr>
          <a:xfrm>
            <a:off x="179280" y="17733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211" descr="http://woweb.ucoz.ru/flist/gif/485/64.gif"/>
          <p:cNvPicPr/>
          <p:nvPr/>
        </p:nvPicPr>
        <p:blipFill>
          <a:blip r:embed="rId4"/>
          <a:stretch/>
        </p:blipFill>
        <p:spPr>
          <a:xfrm>
            <a:off x="179280" y="234936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211" descr="http://woweb.ucoz.ru/flist/gif/485/64.gif"/>
          <p:cNvPicPr/>
          <p:nvPr/>
        </p:nvPicPr>
        <p:blipFill>
          <a:blip r:embed="rId5"/>
          <a:stretch/>
        </p:blipFill>
        <p:spPr>
          <a:xfrm>
            <a:off x="179280" y="350028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211" descr="http://woweb.ucoz.ru/flist/gif/485/64.gif"/>
          <p:cNvPicPr/>
          <p:nvPr/>
        </p:nvPicPr>
        <p:blipFill>
          <a:blip r:embed="rId6"/>
          <a:stretch/>
        </p:blipFill>
        <p:spPr>
          <a:xfrm>
            <a:off x="179280" y="436572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211" descr="http://woweb.ucoz.ru/flist/gif/485/64.gif"/>
          <p:cNvPicPr/>
          <p:nvPr/>
        </p:nvPicPr>
        <p:blipFill>
          <a:blip r:embed="rId7"/>
          <a:stretch/>
        </p:blipFill>
        <p:spPr>
          <a:xfrm>
            <a:off x="179280" y="52293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211" descr="http://woweb.ucoz.ru/flist/gif/485/64.gif"/>
          <p:cNvPicPr/>
          <p:nvPr/>
        </p:nvPicPr>
        <p:blipFill>
          <a:blip r:embed="rId8"/>
          <a:stretch/>
        </p:blipFill>
        <p:spPr>
          <a:xfrm>
            <a:off x="179280" y="573408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94" name="Дата 1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indefinite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омашнее задание. Карточка 4. Расставьте знаки препинания, составьте схему каждого предложения</a:t>
            </a: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ая куропатка разгребая снег отыскивает себе корм замёрзшие ягоды семена поч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полу на занавесках на диване везде солнечный снежный св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кто наблюдал золотых рыбок восхищался их разнообразной окраской красновато-золотой и серебристой малиновой или зеленовато-синей лазоревой и даже чёр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ски бессонных ночей сладких и горьких слёз ничего не испытал 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Рисунок 247" descr="http://woweb.ucoz.ru/flist/gif/485/22.gif"/>
          <p:cNvPicPr/>
          <p:nvPr/>
        </p:nvPicPr>
        <p:blipFill>
          <a:blip r:embed="rId1"/>
          <a:stretch/>
        </p:blipFill>
        <p:spPr>
          <a:xfrm>
            <a:off x="395280" y="242100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247" descr="http://woweb.ucoz.ru/flist/gif/485/22.gif"/>
          <p:cNvPicPr/>
          <p:nvPr/>
        </p:nvPicPr>
        <p:blipFill>
          <a:blip r:embed="rId2"/>
          <a:stretch/>
        </p:blipFill>
        <p:spPr>
          <a:xfrm>
            <a:off x="395280" y="162864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247" descr="http://woweb.ucoz.ru/flist/gif/485/22.gif"/>
          <p:cNvPicPr/>
          <p:nvPr/>
        </p:nvPicPr>
        <p:blipFill>
          <a:blip r:embed="rId3"/>
          <a:stretch/>
        </p:blipFill>
        <p:spPr>
          <a:xfrm>
            <a:off x="395280" y="321300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247" descr="http://woweb.ucoz.ru/flist/gif/485/22.gif"/>
          <p:cNvPicPr/>
          <p:nvPr/>
        </p:nvPicPr>
        <p:blipFill>
          <a:blip r:embed="rId4"/>
          <a:stretch/>
        </p:blipFill>
        <p:spPr>
          <a:xfrm>
            <a:off x="395280" y="472428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301" name="Дата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0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5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0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ысячи разнородных предметов дрова мясо меха железо и т. п. кучей лежало  около приста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числу дичи принадлежат не одни птицы но и звери а именно медведи олени кабаны и зайц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и птиц насекомых в сухой траве одним словом всюду чувствовалось приближение вес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юду вверху и внизу пели жаворон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Рисунок 247" descr="http://woweb.ucoz.ru/flist/gif/485/22.gif"/>
          <p:cNvPicPr/>
          <p:nvPr/>
        </p:nvPicPr>
        <p:blipFill>
          <a:blip r:embed="rId1"/>
          <a:stretch/>
        </p:blipFill>
        <p:spPr>
          <a:xfrm>
            <a:off x="324000" y="278136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247" descr="http://woweb.ucoz.ru/flist/gif/485/22.gif"/>
          <p:cNvPicPr/>
          <p:nvPr/>
        </p:nvPicPr>
        <p:blipFill>
          <a:blip r:embed="rId2"/>
          <a:stretch/>
        </p:blipFill>
        <p:spPr>
          <a:xfrm>
            <a:off x="324000" y="162864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247" descr="http://woweb.ucoz.ru/flist/gif/485/22.gif"/>
          <p:cNvPicPr/>
          <p:nvPr/>
        </p:nvPicPr>
        <p:blipFill>
          <a:blip r:embed="rId3"/>
          <a:stretch/>
        </p:blipFill>
        <p:spPr>
          <a:xfrm>
            <a:off x="395280" y="407664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247" descr="http://woweb.ucoz.ru/flist/gif/485/22.gif"/>
          <p:cNvPicPr/>
          <p:nvPr/>
        </p:nvPicPr>
        <p:blipFill>
          <a:blip r:embed="rId4"/>
          <a:stretch/>
        </p:blipFill>
        <p:spPr>
          <a:xfrm>
            <a:off x="324000" y="33336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307" name="Дата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7" dur="5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люч к карточке 4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ая куропатка, разгребая снег, отыскивает себе корм: замёрзшие ягоды, семена, поч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: О, О, 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полу, на занавесках, на диване – везде солнечный снежный св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О, О, О – </a:t>
            </a:r>
            <a:r>
              <a:rPr b="1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, кто наблюдал золотых рыбок, восхищался их разнообразной окраской: красновато-золотой и серебристой, малиновой или зеленовато-синей, лазоревой и даже чёр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: О и О, О или О, О и 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Рисунок 247" descr="http://woweb.ucoz.ru/flist/gif/485/22.gif"/>
          <p:cNvPicPr/>
          <p:nvPr/>
        </p:nvPicPr>
        <p:blipFill>
          <a:blip r:embed="rId1"/>
          <a:stretch/>
        </p:blipFill>
        <p:spPr>
          <a:xfrm>
            <a:off x="250920" y="112536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247" descr="http://woweb.ucoz.ru/flist/gif/485/22.gif"/>
          <p:cNvPicPr/>
          <p:nvPr/>
        </p:nvPicPr>
        <p:blipFill>
          <a:blip r:embed="rId2"/>
          <a:stretch/>
        </p:blipFill>
        <p:spPr>
          <a:xfrm>
            <a:off x="324000" y="270828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247" descr="http://woweb.ucoz.ru/flist/gif/485/22.gif"/>
          <p:cNvPicPr/>
          <p:nvPr/>
        </p:nvPicPr>
        <p:blipFill>
          <a:blip r:embed="rId3"/>
          <a:stretch/>
        </p:blipFill>
        <p:spPr>
          <a:xfrm>
            <a:off x="324000" y="443700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313" name="Дата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7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8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1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6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9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7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ски бессонных ночей, сладких и горьких слёз –  ничего не испытал 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О, О и О – </a:t>
            </a:r>
            <a:r>
              <a:rPr b="1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ысячи разнородных предметов: дрова, мясо, меха, железо и т. п. – кучей лежало  около приста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: О, О, О, О - …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числу дичи принадлежат не одни птицы, но и звери, а именно: медведи, олени, кабаны и зай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: О, О, О и 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и птиц, насекомых в сухой траве – одним словом, всюду чувствовалось приближение вес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О, О – ВВ, </a:t>
            </a:r>
            <a:r>
              <a:rPr b="1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юду: вверху и внизу – пели жаворон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: О и О - …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Рисунок 247" descr="http://woweb.ucoz.ru/flist/gif/485/22.gif"/>
          <p:cNvPicPr/>
          <p:nvPr/>
        </p:nvPicPr>
        <p:blipFill>
          <a:blip r:embed="rId1"/>
          <a:stretch/>
        </p:blipFill>
        <p:spPr>
          <a:xfrm>
            <a:off x="0" y="0"/>
            <a:ext cx="395280" cy="47628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247" descr="http://woweb.ucoz.ru/flist/gif/485/22.gif"/>
          <p:cNvPicPr/>
          <p:nvPr/>
        </p:nvPicPr>
        <p:blipFill>
          <a:blip r:embed="rId2"/>
          <a:stretch/>
        </p:blipFill>
        <p:spPr>
          <a:xfrm>
            <a:off x="0" y="907920"/>
            <a:ext cx="395280" cy="47628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247" descr="http://woweb.ucoz.ru/flist/gif/485/22.gif"/>
          <p:cNvPicPr/>
          <p:nvPr/>
        </p:nvPicPr>
        <p:blipFill>
          <a:blip r:embed="rId3"/>
          <a:stretch/>
        </p:blipFill>
        <p:spPr>
          <a:xfrm>
            <a:off x="0" y="2205000"/>
            <a:ext cx="395280" cy="47628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247" descr="http://woweb.ucoz.ru/flist/gif/485/22.gif"/>
          <p:cNvPicPr/>
          <p:nvPr/>
        </p:nvPicPr>
        <p:blipFill>
          <a:blip r:embed="rId4"/>
          <a:stretch/>
        </p:blipFill>
        <p:spPr>
          <a:xfrm>
            <a:off x="0" y="3429000"/>
            <a:ext cx="395280" cy="47628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247" descr="http://woweb.ucoz.ru/flist/gif/485/22.gif"/>
          <p:cNvPicPr/>
          <p:nvPr/>
        </p:nvPicPr>
        <p:blipFill>
          <a:blip r:embed="rId5"/>
          <a:stretch/>
        </p:blipFill>
        <p:spPr>
          <a:xfrm>
            <a:off x="0" y="4797360"/>
            <a:ext cx="395280" cy="476280"/>
          </a:xfrm>
          <a:prstGeom prst="rect">
            <a:avLst/>
          </a:prstGeom>
          <a:ln w="0">
            <a:noFill/>
          </a:ln>
        </p:spPr>
      </p:pic>
      <p:sp>
        <p:nvSpPr>
          <p:cNvPr id="320" name="Дата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4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7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2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0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3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8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1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6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9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WordArt 4"/>
          <p:cNvSpPr txBox="1"/>
          <p:nvPr/>
        </p:nvSpPr>
        <p:spPr>
          <a:xfrm>
            <a:off x="684360" y="2133720"/>
            <a:ext cx="820872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порные конспекты по тем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2" name="Picture 5" descr="Картинка 78 из 212"/>
          <p:cNvPicPr/>
          <p:nvPr/>
        </p:nvPicPr>
        <p:blipFill>
          <a:blip r:embed="rId1"/>
          <a:stretch/>
        </p:blipFill>
        <p:spPr>
          <a:xfrm>
            <a:off x="6588000" y="4869000"/>
            <a:ext cx="1908360" cy="1989000"/>
          </a:xfrm>
          <a:prstGeom prst="rect">
            <a:avLst/>
          </a:prstGeom>
          <a:ln w="0">
            <a:noFill/>
          </a:ln>
        </p:spPr>
      </p:pic>
      <p:sp>
        <p:nvSpPr>
          <p:cNvPr id="323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Organization Chart 5"/>
          <p:cNvGrpSpPr/>
          <p:nvPr/>
        </p:nvGrpSpPr>
        <p:grpSpPr>
          <a:xfrm>
            <a:off x="0" y="189000"/>
            <a:ext cx="9142920" cy="6478920"/>
            <a:chOff x="0" y="189000"/>
            <a:chExt cx="9142920" cy="6478920"/>
          </a:xfrm>
        </p:grpSpPr>
        <p:cxnSp>
          <p:nvCxnSpPr>
            <p:cNvPr id="325" name="_s3076"/>
            <p:cNvCxnSpPr>
              <a:stCxn id="326" idx="0"/>
              <a:endCxn id="327" idx="1"/>
            </p:cNvCxnSpPr>
            <p:nvPr/>
          </p:nvCxnSpPr>
          <p:spPr>
            <a:xfrm flipV="1">
              <a:off x="7032960" y="4237560"/>
              <a:ext cx="5040" cy="8103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28" name="_s3077"/>
            <p:cNvCxnSpPr>
              <a:stCxn id="329" idx="0"/>
              <a:endCxn id="330" idx="1"/>
            </p:cNvCxnSpPr>
            <p:nvPr/>
          </p:nvCxnSpPr>
          <p:spPr>
            <a:xfrm flipV="1">
              <a:off x="2109960" y="4237560"/>
              <a:ext cx="5040" cy="8103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31" name="_s3078"/>
            <p:cNvCxnSpPr>
              <a:stCxn id="327" idx="0"/>
              <a:endCxn id="332" idx="1"/>
            </p:cNvCxnSpPr>
            <p:nvPr/>
          </p:nvCxnSpPr>
          <p:spPr>
            <a:xfrm flipV="1" rot="16200000">
              <a:off x="5396400" y="981720"/>
              <a:ext cx="810360" cy="2462760"/>
            </a:xfrm>
            <a:prstGeom prst="bentConnector3">
              <a:avLst>
                <a:gd name="adj1" fmla="val 14088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33" name="_s3079"/>
            <p:cNvCxnSpPr>
              <a:stCxn id="330" idx="0"/>
              <a:endCxn id="332" idx="0"/>
            </p:cNvCxnSpPr>
            <p:nvPr/>
          </p:nvCxnSpPr>
          <p:spPr>
            <a:xfrm flipH="1" flipV="1" rot="5400000">
              <a:off x="2935440" y="982440"/>
              <a:ext cx="810360" cy="2461680"/>
            </a:xfrm>
            <a:prstGeom prst="bentConnector3">
              <a:avLst>
                <a:gd name="adj1" fmla="val 14088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332" name="_s3080"/>
            <p:cNvSpPr/>
            <p:nvPr/>
          </p:nvSpPr>
          <p:spPr>
            <a:xfrm>
              <a:off x="2460960" y="189000"/>
              <a:ext cx="4219920" cy="1619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003300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Определяем, сколько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основ в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едложен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_s3081"/>
            <p:cNvSpPr/>
            <p:nvPr/>
          </p:nvSpPr>
          <p:spPr>
            <a:xfrm>
              <a:off x="0" y="2618640"/>
              <a:ext cx="4219920" cy="1619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527c3a"/>
                </a:gs>
                <a:gs pos="50000">
                  <a:srgbClr val="003300"/>
                </a:gs>
                <a:gs pos="100000">
                  <a:srgbClr val="527c3a"/>
                </a:gs>
              </a:gsLst>
              <a:lin ang="8100000"/>
            </a:gradFill>
            <a:ln w="3240">
              <a:solidFill>
                <a:srgbClr val="527c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Две или более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_s3082"/>
            <p:cNvSpPr/>
            <p:nvPr/>
          </p:nvSpPr>
          <p:spPr>
            <a:xfrm>
              <a:off x="4923000" y="2618640"/>
              <a:ext cx="4219920" cy="1619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527c3a"/>
                </a:gs>
                <a:gs pos="50000">
                  <a:srgbClr val="003300"/>
                </a:gs>
                <a:gs pos="100000">
                  <a:srgbClr val="527c3a"/>
                </a:gs>
              </a:gsLst>
              <a:lin ang="8100000"/>
            </a:gradFill>
            <a:ln w="3240">
              <a:solidFill>
                <a:srgbClr val="527c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Одн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_s3083"/>
            <p:cNvSpPr/>
            <p:nvPr/>
          </p:nvSpPr>
          <p:spPr>
            <a:xfrm>
              <a:off x="0" y="5048280"/>
              <a:ext cx="4219920" cy="1619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003300"/>
                </a:gs>
                <a:gs pos="100000">
                  <a:srgbClr val="33cc33"/>
                </a:gs>
              </a:gsLst>
              <a:lin ang="8100000"/>
            </a:gradFill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Вывод: предложение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ложн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_s3084"/>
            <p:cNvSpPr/>
            <p:nvPr/>
          </p:nvSpPr>
          <p:spPr>
            <a:xfrm>
              <a:off x="4923000" y="5048280"/>
              <a:ext cx="4219920" cy="1619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003300"/>
                </a:gs>
                <a:gs pos="100000">
                  <a:srgbClr val="33cc33"/>
                </a:gs>
              </a:gsLst>
              <a:lin ang="8100000"/>
            </a:gradFill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Вывод: предложе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прост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4" name="i-main-pic" descr="Картинка 111 из 138"/>
          <p:cNvPicPr/>
          <p:nvPr/>
        </p:nvPicPr>
        <p:blipFill>
          <a:blip r:embed="rId1"/>
          <a:stretch/>
        </p:blipFill>
        <p:spPr>
          <a:xfrm>
            <a:off x="539640" y="549360"/>
            <a:ext cx="1440000" cy="1079280"/>
          </a:xfrm>
          <a:prstGeom prst="rect">
            <a:avLst/>
          </a:prstGeom>
          <a:ln w="0">
            <a:noFill/>
          </a:ln>
        </p:spPr>
      </p:pic>
      <p:sp>
        <p:nvSpPr>
          <p:cNvPr id="335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c0c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помните!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ЧИНИТЕЛЬНЫЕ СОЮЗ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единительные       Разделительные         Противитель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                              или                                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 (= и)                        либо                                но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…ни                       то… то                         да (= н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же                     не то… не то                    одна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же                    то ли… то ли                  хотя (хоть)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не…то         не столько… сколько              за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… но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… так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79280" y="2060640"/>
            <a:ext cx="2664000" cy="39607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2916360" y="2133720"/>
            <a:ext cx="3240000" cy="388764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6227640" y="2133720"/>
            <a:ext cx="2737080" cy="388764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Рисунок 538" descr="http://woweb.ucoz.ru/flist/gif/507/1.gif"/>
          <p:cNvPicPr/>
          <p:nvPr/>
        </p:nvPicPr>
        <p:blipFill>
          <a:blip r:embed="rId1"/>
          <a:stretch/>
        </p:blipFill>
        <p:spPr>
          <a:xfrm>
            <a:off x="2843280" y="4762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42" name="Дата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Organization Chart 5"/>
          <p:cNvGrpSpPr/>
          <p:nvPr/>
        </p:nvGrpSpPr>
        <p:grpSpPr>
          <a:xfrm>
            <a:off x="179280" y="189000"/>
            <a:ext cx="8963640" cy="6334560"/>
            <a:chOff x="179280" y="189000"/>
            <a:chExt cx="8963640" cy="6334560"/>
          </a:xfrm>
        </p:grpSpPr>
        <p:cxnSp>
          <p:nvCxnSpPr>
            <p:cNvPr id="337" name="_s4100"/>
            <p:cNvCxnSpPr>
              <a:stCxn id="338" idx="0"/>
              <a:endCxn id="339" idx="1"/>
            </p:cNvCxnSpPr>
            <p:nvPr/>
          </p:nvCxnSpPr>
          <p:spPr>
            <a:xfrm flipV="1">
              <a:off x="7221960" y="4147200"/>
              <a:ext cx="4680" cy="7923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40" name="_s4101"/>
            <p:cNvCxnSpPr>
              <a:stCxn id="341" idx="0"/>
              <a:endCxn id="342" idx="1"/>
            </p:cNvCxnSpPr>
            <p:nvPr/>
          </p:nvCxnSpPr>
          <p:spPr>
            <a:xfrm flipV="1">
              <a:off x="2099520" y="4147200"/>
              <a:ext cx="4680" cy="7923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43" name="_s4102"/>
            <p:cNvCxnSpPr>
              <a:stCxn id="339" idx="0"/>
              <a:endCxn id="344" idx="1"/>
            </p:cNvCxnSpPr>
            <p:nvPr/>
          </p:nvCxnSpPr>
          <p:spPr>
            <a:xfrm rot="10800000">
              <a:off x="4660560" y="1771920"/>
              <a:ext cx="640800" cy="15843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45" name="_s4103"/>
            <p:cNvCxnSpPr>
              <a:stCxn id="342" idx="0"/>
              <a:endCxn id="344" idx="0"/>
            </p:cNvCxnSpPr>
            <p:nvPr/>
          </p:nvCxnSpPr>
          <p:spPr>
            <a:xfrm flipV="1">
              <a:off x="4020840" y="1771920"/>
              <a:ext cx="640800" cy="15843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344" name="_s4104"/>
            <p:cNvSpPr/>
            <p:nvPr/>
          </p:nvSpPr>
          <p:spPr>
            <a:xfrm>
              <a:off x="2740320" y="189000"/>
              <a:ext cx="3841560" cy="1583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003300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. Определяем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сложнено ли просто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редложение ил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части сложног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4105"/>
            <p:cNvSpPr/>
            <p:nvPr/>
          </p:nvSpPr>
          <p:spPr>
            <a:xfrm>
              <a:off x="179280" y="2564280"/>
              <a:ext cx="3841560" cy="1583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1ff83"/>
                </a:gs>
                <a:gs pos="50000">
                  <a:srgbClr val="003300"/>
                </a:gs>
                <a:gs pos="100000">
                  <a:srgbClr val="c1ff83"/>
                </a:gs>
              </a:gsLst>
              <a:lin ang="8100000"/>
            </a:gradFill>
            <a:ln w="3240">
              <a:solidFill>
                <a:srgbClr val="c1ff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Arial"/>
                </a:rPr>
                <a:t>Нет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4106"/>
            <p:cNvSpPr/>
            <p:nvPr/>
          </p:nvSpPr>
          <p:spPr>
            <a:xfrm>
              <a:off x="5301360" y="2564280"/>
              <a:ext cx="3841560" cy="1583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1ff83"/>
                </a:gs>
                <a:gs pos="50000">
                  <a:srgbClr val="003300"/>
                </a:gs>
                <a:gs pos="100000">
                  <a:srgbClr val="c1ff83"/>
                </a:gs>
              </a:gsLst>
              <a:lin ang="8100000"/>
            </a:gradFill>
            <a:ln w="3240">
              <a:solidFill>
                <a:srgbClr val="c1ff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Arial"/>
                </a:rPr>
                <a:t>Да. Чем?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_s4107"/>
            <p:cNvSpPr/>
            <p:nvPr/>
          </p:nvSpPr>
          <p:spPr>
            <a:xfrm>
              <a:off x="179280" y="4939920"/>
              <a:ext cx="3841560" cy="1583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527c3a"/>
                </a:gs>
                <a:gs pos="50000">
                  <a:srgbClr val="003300"/>
                </a:gs>
                <a:gs pos="100000">
                  <a:srgbClr val="527c3a"/>
                </a:gs>
              </a:gsLst>
              <a:lin ang="8100000"/>
            </a:gradFill>
            <a:ln w="3240">
              <a:solidFill>
                <a:srgbClr val="527c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ывод: стави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знаки конц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предложени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_s4108"/>
            <p:cNvSpPr/>
            <p:nvPr/>
          </p:nvSpPr>
          <p:spPr>
            <a:xfrm>
              <a:off x="5301360" y="4939920"/>
              <a:ext cx="3841560" cy="1583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527c3a"/>
                </a:gs>
                <a:gs pos="50000">
                  <a:srgbClr val="003300"/>
                </a:gs>
                <a:gs pos="100000">
                  <a:srgbClr val="527c3a"/>
                </a:gs>
              </a:gsLst>
              <a:lin ang="8100000"/>
            </a:gradFill>
            <a:ln w="3240">
              <a:solidFill>
                <a:srgbClr val="527c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Arial"/>
                </a:rPr>
                <a:t>ОЧП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46" name="i-main-pic" descr="Картинка 111 из 138"/>
          <p:cNvPicPr/>
          <p:nvPr/>
        </p:nvPicPr>
        <p:blipFill>
          <a:blip r:embed="rId1"/>
          <a:stretch/>
        </p:blipFill>
        <p:spPr>
          <a:xfrm>
            <a:off x="395280" y="476280"/>
            <a:ext cx="1440000" cy="1224000"/>
          </a:xfrm>
          <a:prstGeom prst="rect">
            <a:avLst/>
          </a:prstGeom>
          <a:ln w="0">
            <a:noFill/>
          </a:ln>
        </p:spPr>
      </p:pic>
      <p:sp>
        <p:nvSpPr>
          <p:cNvPr id="347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Organization Chart 5"/>
          <p:cNvGrpSpPr/>
          <p:nvPr/>
        </p:nvGrpSpPr>
        <p:grpSpPr>
          <a:xfrm>
            <a:off x="0" y="0"/>
            <a:ext cx="9143280" cy="6856920"/>
            <a:chOff x="0" y="0"/>
            <a:chExt cx="9143280" cy="6856920"/>
          </a:xfrm>
        </p:grpSpPr>
        <p:cxnSp>
          <p:nvCxnSpPr>
            <p:cNvPr id="349" name="_s5124"/>
            <p:cNvCxnSpPr>
              <a:stCxn id="350" idx="0"/>
              <a:endCxn id="351" idx="1"/>
            </p:cNvCxnSpPr>
            <p:nvPr/>
          </p:nvCxnSpPr>
          <p:spPr>
            <a:xfrm flipV="1">
              <a:off x="7771680" y="4986720"/>
              <a:ext cx="3240" cy="6235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52" name="_s5125"/>
            <p:cNvCxnSpPr>
              <a:stCxn id="353" idx="0"/>
              <a:endCxn id="354" idx="1"/>
            </p:cNvCxnSpPr>
            <p:nvPr/>
          </p:nvCxnSpPr>
          <p:spPr>
            <a:xfrm flipV="1">
              <a:off x="4571280" y="4986720"/>
              <a:ext cx="3240" cy="6235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55" name="_s5126"/>
            <p:cNvCxnSpPr>
              <a:stCxn id="356" idx="0"/>
              <a:endCxn id="357" idx="1"/>
            </p:cNvCxnSpPr>
            <p:nvPr/>
          </p:nvCxnSpPr>
          <p:spPr>
            <a:xfrm flipV="1">
              <a:off x="1370880" y="4986720"/>
              <a:ext cx="3240" cy="6235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58" name="_s5127"/>
            <p:cNvCxnSpPr>
              <a:stCxn id="351" idx="0"/>
              <a:endCxn id="359" idx="3"/>
            </p:cNvCxnSpPr>
            <p:nvPr/>
          </p:nvCxnSpPr>
          <p:spPr>
            <a:xfrm flipV="1" rot="16200000">
              <a:off x="5859720" y="1827720"/>
              <a:ext cx="623520" cy="3200760"/>
            </a:xfrm>
            <a:prstGeom prst="bentConnector3">
              <a:avLst>
                <a:gd name="adj1" fmla="val 1837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60" name="_s5128"/>
            <p:cNvCxnSpPr>
              <a:stCxn id="354" idx="0"/>
              <a:endCxn id="359" idx="2"/>
            </p:cNvCxnSpPr>
            <p:nvPr/>
          </p:nvCxnSpPr>
          <p:spPr>
            <a:xfrm flipV="1">
              <a:off x="4571280" y="3116520"/>
              <a:ext cx="3240" cy="6235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61" name="_s5129"/>
            <p:cNvCxnSpPr>
              <a:stCxn id="357" idx="0"/>
              <a:endCxn id="359" idx="1"/>
            </p:cNvCxnSpPr>
            <p:nvPr/>
          </p:nvCxnSpPr>
          <p:spPr>
            <a:xfrm flipH="1" flipV="1" rot="5400000">
              <a:off x="2659320" y="1827720"/>
              <a:ext cx="623520" cy="3200760"/>
            </a:xfrm>
            <a:prstGeom prst="bentConnector3">
              <a:avLst>
                <a:gd name="adj1" fmla="val 1837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62" name="_s5130"/>
            <p:cNvCxnSpPr>
              <a:stCxn id="359" idx="0"/>
              <a:endCxn id="363" idx="0"/>
            </p:cNvCxnSpPr>
            <p:nvPr/>
          </p:nvCxnSpPr>
          <p:spPr>
            <a:xfrm flipV="1">
              <a:off x="4571280" y="1246320"/>
              <a:ext cx="3240" cy="6235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363" name="_s5131"/>
            <p:cNvSpPr/>
            <p:nvPr/>
          </p:nvSpPr>
          <p:spPr>
            <a:xfrm>
              <a:off x="3200040" y="0"/>
              <a:ext cx="2742840" cy="1246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003300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ЧП с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бобщающим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словам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_s5132"/>
            <p:cNvSpPr/>
            <p:nvPr/>
          </p:nvSpPr>
          <p:spPr>
            <a:xfrm>
              <a:off x="3200040" y="1869840"/>
              <a:ext cx="2742840" cy="1246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527c3a"/>
                </a:gs>
                <a:gs pos="50000">
                  <a:srgbClr val="003300"/>
                </a:gs>
                <a:gs pos="100000">
                  <a:srgbClr val="527c3a"/>
                </a:gs>
              </a:gsLst>
              <a:lin ang="8100000"/>
            </a:gradFill>
            <a:ln w="3240">
              <a:solidFill>
                <a:srgbClr val="527c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. Определяе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мест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бобщающег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слов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_s5133"/>
            <p:cNvSpPr/>
            <p:nvPr/>
          </p:nvSpPr>
          <p:spPr>
            <a:xfrm>
              <a:off x="0" y="3740040"/>
              <a:ext cx="2742840" cy="1246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003300"/>
                </a:gs>
                <a:gs pos="100000">
                  <a:srgbClr val="33cc33"/>
                </a:gs>
              </a:gsLst>
              <a:lin ang="8100000"/>
            </a:gradFill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перед ОЧП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_s5134"/>
            <p:cNvSpPr/>
            <p:nvPr/>
          </p:nvSpPr>
          <p:spPr>
            <a:xfrm>
              <a:off x="3200040" y="3740040"/>
              <a:ext cx="2742840" cy="1246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003300"/>
                </a:gs>
                <a:gs pos="100000">
                  <a:srgbClr val="33cc33"/>
                </a:gs>
              </a:gsLst>
              <a:lin ang="8100000"/>
            </a:gradFill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после ОЧП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_s5135"/>
            <p:cNvSpPr/>
            <p:nvPr/>
          </p:nvSpPr>
          <p:spPr>
            <a:xfrm>
              <a:off x="6400440" y="3740040"/>
              <a:ext cx="2742840" cy="1246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003300"/>
                </a:gs>
                <a:gs pos="100000">
                  <a:srgbClr val="33cc33"/>
                </a:gs>
              </a:gsLst>
              <a:lin ang="8100000"/>
            </a:gradFill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еред ОЧП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которым н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заканчиваетс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редлож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_s5136"/>
            <p:cNvSpPr/>
            <p:nvPr/>
          </p:nvSpPr>
          <p:spPr>
            <a:xfrm>
              <a:off x="0" y="5610240"/>
              <a:ext cx="2742840" cy="1246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003300"/>
                </a:gs>
                <a:gs pos="100000">
                  <a:srgbClr val="33cc33"/>
                </a:gs>
              </a:gsLst>
              <a:lin ang="8100000"/>
            </a:gradFill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Θ</a:t>
              </a:r>
              <a:r>
                <a:rPr b="1" lang="ru-RU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: О, О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_s5137"/>
            <p:cNvSpPr/>
            <p:nvPr/>
          </p:nvSpPr>
          <p:spPr>
            <a:xfrm>
              <a:off x="3200040" y="5610240"/>
              <a:ext cx="2742840" cy="1246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003300"/>
                </a:gs>
                <a:gs pos="100000">
                  <a:srgbClr val="33cc33"/>
                </a:gs>
              </a:gsLst>
              <a:lin ang="8100000"/>
            </a:gradFill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3100" spc="-1" strike="noStrike">
                  <a:solidFill>
                    <a:srgbClr val="ffffff"/>
                  </a:solidFill>
                  <a:latin typeface="Arial"/>
                </a:rPr>
                <a:t>О, О – </a:t>
              </a:r>
              <a:r>
                <a:rPr b="1" lang="el-GR" sz="3100" spc="-1" strike="noStrike">
                  <a:solidFill>
                    <a:srgbClr val="ffffff"/>
                  </a:solidFill>
                  <a:latin typeface="Arial"/>
                </a:rPr>
                <a:t>Θ</a:t>
              </a:r>
              <a:r>
                <a:rPr b="1" lang="ru-RU" sz="3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5138"/>
            <p:cNvSpPr/>
            <p:nvPr/>
          </p:nvSpPr>
          <p:spPr>
            <a:xfrm>
              <a:off x="6400440" y="5610240"/>
              <a:ext cx="2742840" cy="1246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003300"/>
                </a:gs>
                <a:gs pos="100000">
                  <a:srgbClr val="33cc33"/>
                </a:gs>
              </a:gsLst>
              <a:lin ang="8100000"/>
            </a:gradFill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100" spc="-1" strike="noStrike">
                  <a:solidFill>
                    <a:srgbClr val="ffffff"/>
                  </a:solidFill>
                  <a:latin typeface="Arial"/>
                </a:rPr>
                <a:t>Θ</a:t>
              </a:r>
              <a:r>
                <a:rPr b="1" lang="ru-RU" sz="3100" spc="-1" strike="noStrike">
                  <a:solidFill>
                    <a:srgbClr val="ffffff"/>
                  </a:solidFill>
                  <a:latin typeface="Arial"/>
                </a:rPr>
                <a:t>: О, О – …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4" name="i-main-pic" descr="Картинка 111 из 138"/>
          <p:cNvPicPr/>
          <p:nvPr/>
        </p:nvPicPr>
        <p:blipFill>
          <a:blip r:embed="rId1"/>
          <a:stretch/>
        </p:blipFill>
        <p:spPr>
          <a:xfrm>
            <a:off x="468360" y="260280"/>
            <a:ext cx="1439640" cy="1081080"/>
          </a:xfrm>
          <a:prstGeom prst="rect">
            <a:avLst/>
          </a:prstGeom>
          <a:ln w="0">
            <a:noFill/>
          </a:ln>
        </p:spPr>
      </p:pic>
      <p:sp>
        <p:nvSpPr>
          <p:cNvPr id="365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Organization Chart 5"/>
          <p:cNvGrpSpPr/>
          <p:nvPr/>
        </p:nvGrpSpPr>
        <p:grpSpPr>
          <a:xfrm>
            <a:off x="0" y="0"/>
            <a:ext cx="9142920" cy="6856920"/>
            <a:chOff x="0" y="0"/>
            <a:chExt cx="9142920" cy="6856920"/>
          </a:xfrm>
        </p:grpSpPr>
        <p:cxnSp>
          <p:nvCxnSpPr>
            <p:cNvPr id="367" name="_s6148"/>
            <p:cNvCxnSpPr>
              <a:stCxn id="368" idx="0"/>
              <a:endCxn id="369" idx="1"/>
            </p:cNvCxnSpPr>
            <p:nvPr/>
          </p:nvCxnSpPr>
          <p:spPr>
            <a:xfrm flipV="1">
              <a:off x="7032960" y="4986720"/>
              <a:ext cx="5040" cy="6235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70" name="_s6149"/>
            <p:cNvCxnSpPr>
              <a:stCxn id="371" idx="0"/>
              <a:endCxn id="372" idx="1"/>
            </p:cNvCxnSpPr>
            <p:nvPr/>
          </p:nvCxnSpPr>
          <p:spPr>
            <a:xfrm flipV="1">
              <a:off x="2109960" y="4986720"/>
              <a:ext cx="5040" cy="6235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73" name="_s6150"/>
            <p:cNvCxnSpPr>
              <a:stCxn id="369" idx="0"/>
              <a:endCxn id="374" idx="2"/>
            </p:cNvCxnSpPr>
            <p:nvPr/>
          </p:nvCxnSpPr>
          <p:spPr>
            <a:xfrm flipV="1" rot="16200000">
              <a:off x="5490000" y="2196720"/>
              <a:ext cx="623520" cy="2462760"/>
            </a:xfrm>
            <a:prstGeom prst="bentConnector3">
              <a:avLst>
                <a:gd name="adj1" fmla="val 1837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75" name="_s6151"/>
            <p:cNvCxnSpPr>
              <a:stCxn id="372" idx="0"/>
              <a:endCxn id="374" idx="1"/>
            </p:cNvCxnSpPr>
            <p:nvPr/>
          </p:nvCxnSpPr>
          <p:spPr>
            <a:xfrm flipH="1" flipV="1" rot="5400000">
              <a:off x="3028680" y="2197440"/>
              <a:ext cx="623520" cy="2461680"/>
            </a:xfrm>
            <a:prstGeom prst="bentConnector3">
              <a:avLst>
                <a:gd name="adj1" fmla="val 1837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376" name="_s6152"/>
            <p:cNvCxnSpPr>
              <a:stCxn id="374" idx="0"/>
              <a:endCxn id="377" idx="0"/>
            </p:cNvCxnSpPr>
            <p:nvPr/>
          </p:nvCxnSpPr>
          <p:spPr>
            <a:xfrm flipV="1">
              <a:off x="4570560" y="1246320"/>
              <a:ext cx="6120" cy="6235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377" name="_s6153"/>
            <p:cNvSpPr/>
            <p:nvPr/>
          </p:nvSpPr>
          <p:spPr>
            <a:xfrm>
              <a:off x="2460960" y="0"/>
              <a:ext cx="4219920" cy="1246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003300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ЧП без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бобщающих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сло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_s6154"/>
            <p:cNvSpPr/>
            <p:nvPr/>
          </p:nvSpPr>
          <p:spPr>
            <a:xfrm>
              <a:off x="2460960" y="1869840"/>
              <a:ext cx="4219920" cy="1246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527c3a"/>
                </a:gs>
                <a:gs pos="50000">
                  <a:srgbClr val="003300"/>
                </a:gs>
                <a:gs pos="100000">
                  <a:srgbClr val="527c3a"/>
                </a:gs>
              </a:gsLst>
              <a:lin ang="8100000"/>
            </a:gradFill>
            <a:ln w="3240">
              <a:solidFill>
                <a:srgbClr val="527c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. Определяем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чем соединен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ОЧП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_s6155"/>
            <p:cNvSpPr/>
            <p:nvPr/>
          </p:nvSpPr>
          <p:spPr>
            <a:xfrm>
              <a:off x="0" y="3740040"/>
              <a:ext cx="4219920" cy="1246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003300"/>
                </a:gs>
                <a:gs pos="100000">
                  <a:srgbClr val="33cc33"/>
                </a:gs>
              </a:gsLst>
              <a:lin ang="8100000"/>
            </a:gradFill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диночным союзо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И, ИЛИ, ДА=И, ЛИБ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_s6156"/>
            <p:cNvSpPr/>
            <p:nvPr/>
          </p:nvSpPr>
          <p:spPr>
            <a:xfrm>
              <a:off x="4923000" y="3740040"/>
              <a:ext cx="4219920" cy="1246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003300"/>
                </a:gs>
                <a:gs pos="100000">
                  <a:srgbClr val="33cc33"/>
                </a:gs>
              </a:gsLst>
              <a:lin ang="8100000"/>
            </a:gradFill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другим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сочинительными  союзам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или повторяющимися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И, ИЛИ, ДА=И, ЛИБ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_s6157"/>
            <p:cNvSpPr/>
            <p:nvPr/>
          </p:nvSpPr>
          <p:spPr>
            <a:xfrm>
              <a:off x="0" y="5610240"/>
              <a:ext cx="4219920" cy="1246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003300"/>
                </a:gs>
                <a:gs pos="100000">
                  <a:srgbClr val="33cc33"/>
                </a:gs>
              </a:gsLst>
              <a:lin ang="8100000"/>
            </a:gradFill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Вывод: запят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между ОЧП н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ставитс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_s6158"/>
            <p:cNvSpPr/>
            <p:nvPr/>
          </p:nvSpPr>
          <p:spPr>
            <a:xfrm>
              <a:off x="4923000" y="5610240"/>
              <a:ext cx="4219920" cy="1246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003300"/>
                </a:gs>
                <a:gs pos="100000">
                  <a:srgbClr val="33cc33"/>
                </a:gs>
              </a:gsLst>
              <a:lin ang="8100000"/>
            </a:gradFill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Вывод: запятая межд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ЧП ставитс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8" name="i-main-pic" descr="Картинка 111 из 138"/>
          <p:cNvPicPr/>
          <p:nvPr/>
        </p:nvPicPr>
        <p:blipFill>
          <a:blip r:embed="rId1"/>
          <a:stretch/>
        </p:blipFill>
        <p:spPr>
          <a:xfrm>
            <a:off x="250920" y="404640"/>
            <a:ext cx="1360440" cy="1079640"/>
          </a:xfrm>
          <a:prstGeom prst="rect">
            <a:avLst/>
          </a:prstGeom>
          <a:ln w="0">
            <a:noFill/>
          </a:ln>
        </p:spPr>
      </p:pic>
      <p:sp>
        <p:nvSpPr>
          <p:cNvPr id="379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мостоятельная работа. Карточка 1. Расставьте знаки препинания, выделите союзы, подчеркните обобщающие слова</a:t>
            </a: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ихи ли это о душевном мире поэта картина ли природы рассказ ли о процессах поэтического творчества всё волнует читателя задевая трепетные струны сердца подчиняя власти высоких чувств и помыс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нота раннего зимнего утра скрывала и площадку на берегу и полотняный посёлок из палаток и самих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ран крутит и швыряет снегом и высвистывает и заливается жутким во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рава от нас то уходил за горизонт то приближался восставал мрачный бере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i-main-pic" descr="Картинка 133 из 138"/>
          <p:cNvPicPr/>
          <p:nvPr/>
        </p:nvPicPr>
        <p:blipFill>
          <a:blip r:embed="rId1"/>
          <a:stretch/>
        </p:blipFill>
        <p:spPr>
          <a:xfrm>
            <a:off x="8172360" y="981000"/>
            <a:ext cx="620640" cy="122400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475" descr="http://woweb.ucoz.ru/flist/gif/501/60.gif"/>
          <p:cNvPicPr/>
          <p:nvPr/>
        </p:nvPicPr>
        <p:blipFill>
          <a:blip r:embed="rId2"/>
          <a:stretch/>
        </p:blipFill>
        <p:spPr>
          <a:xfrm>
            <a:off x="468360" y="170028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475" descr="http://woweb.ucoz.ru/flist/gif/501/60.gif"/>
          <p:cNvPicPr/>
          <p:nvPr/>
        </p:nvPicPr>
        <p:blipFill>
          <a:blip r:embed="rId3"/>
          <a:stretch/>
        </p:blipFill>
        <p:spPr>
          <a:xfrm>
            <a:off x="539640" y="558972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475" descr="http://woweb.ucoz.ru/flist/gif/501/60.gif"/>
          <p:cNvPicPr/>
          <p:nvPr/>
        </p:nvPicPr>
        <p:blipFill>
          <a:blip r:embed="rId4"/>
          <a:stretch/>
        </p:blipFill>
        <p:spPr>
          <a:xfrm>
            <a:off x="539640" y="472428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475" descr="http://woweb.ucoz.ru/flist/gif/501/60.gif"/>
          <p:cNvPicPr/>
          <p:nvPr/>
        </p:nvPicPr>
        <p:blipFill>
          <a:blip r:embed="rId5"/>
          <a:stretch/>
        </p:blipFill>
        <p:spPr>
          <a:xfrm>
            <a:off x="539640" y="3573360"/>
            <a:ext cx="219240" cy="219240"/>
          </a:xfrm>
          <a:prstGeom prst="rect">
            <a:avLst/>
          </a:prstGeom>
          <a:ln w="0">
            <a:noFill/>
          </a:ln>
        </p:spPr>
      </p:pic>
      <p:sp>
        <p:nvSpPr>
          <p:cNvPr id="387" name="Дата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5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0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5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507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рик Обломов как принял имение отца так и передал сы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 множества звуков земли пения птиц трепетания листвы на деревьях треска кузнечиков журчания лесного ручья самый весёлый звук песня полевых и луговых жаворон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стрые реки поля и дубравы гордые выси заоблачных гор всё ты вместила родная держава в свой необъятный могучий просто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чащобе всё смешалось и буйно растёт в тесноте и давке корявые лиственницы с гигантскими осинами тёмные шары елей с кружевным пологом рябин стройные пихты с могучими кедрами и белоствольными берёз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ь эта произвела не только сильное впечатление и но и волн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Рисунок 475" descr="http://woweb.ucoz.ru/flist/gif/501/60.gif"/>
          <p:cNvPicPr/>
          <p:nvPr/>
        </p:nvPicPr>
        <p:blipFill>
          <a:blip r:embed="rId1"/>
          <a:stretch/>
        </p:blipFill>
        <p:spPr>
          <a:xfrm>
            <a:off x="539640" y="573408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475" descr="http://woweb.ucoz.ru/flist/gif/501/60.gif"/>
          <p:cNvPicPr/>
          <p:nvPr/>
        </p:nvPicPr>
        <p:blipFill>
          <a:blip r:embed="rId2"/>
          <a:stretch/>
        </p:blipFill>
        <p:spPr>
          <a:xfrm>
            <a:off x="539640" y="386064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475" descr="http://woweb.ucoz.ru/flist/gif/501/60.gif"/>
          <p:cNvPicPr/>
          <p:nvPr/>
        </p:nvPicPr>
        <p:blipFill>
          <a:blip r:embed="rId3"/>
          <a:stretch/>
        </p:blipFill>
        <p:spPr>
          <a:xfrm>
            <a:off x="539640" y="33336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475" descr="http://woweb.ucoz.ru/flist/gif/501/60.gif"/>
          <p:cNvPicPr/>
          <p:nvPr/>
        </p:nvPicPr>
        <p:blipFill>
          <a:blip r:embed="rId4"/>
          <a:stretch/>
        </p:blipFill>
        <p:spPr>
          <a:xfrm>
            <a:off x="539640" y="112536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475" descr="http://woweb.ucoz.ru/flist/gif/501/60.gif"/>
          <p:cNvPicPr/>
          <p:nvPr/>
        </p:nvPicPr>
        <p:blipFill>
          <a:blip r:embed="rId5"/>
          <a:stretch/>
        </p:blipFill>
        <p:spPr>
          <a:xfrm>
            <a:off x="539640" y="2708280"/>
            <a:ext cx="219240" cy="219240"/>
          </a:xfrm>
          <a:prstGeom prst="rect">
            <a:avLst/>
          </a:prstGeom>
          <a:ln w="0">
            <a:noFill/>
          </a:ln>
        </p:spPr>
      </p:pic>
      <p:sp>
        <p:nvSpPr>
          <p:cNvPr id="394" name="Дата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7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2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7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2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507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л язык да всем телом владе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бою смерть не в лицо смотрит а за спиной ход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великие сооружения древности и средних веков египетские пирамиды и Колизей Великая китайская стена и римские акведуки дворцы и монастыри замки и городские стены всё строилось без чертеж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ы сделали в спортивном магазине  массу покупок а именно теннисные мячи ракетки удочки и футбольные мя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ла когда-то ныне забытая хотя интересная игра в бирюль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том 1612 года русские войска под командованием Минина и Пожарского не только остановили нашествие поляков но и  разбили их наголову. Во главе поляков стоял Струс который однако думал не столько о спасении армии сколько о собственном спасении. От его фамилии образовалось слово «трус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Рисунок 475" descr="http://woweb.ucoz.ru/flist/gif/501/60.gif"/>
          <p:cNvPicPr/>
          <p:nvPr/>
        </p:nvPicPr>
        <p:blipFill>
          <a:blip r:embed="rId1"/>
          <a:stretch/>
        </p:blipFill>
        <p:spPr>
          <a:xfrm>
            <a:off x="539640" y="350028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475" descr="http://woweb.ucoz.ru/flist/gif/501/60.gif"/>
          <p:cNvPicPr/>
          <p:nvPr/>
        </p:nvPicPr>
        <p:blipFill>
          <a:blip r:embed="rId2"/>
          <a:stretch/>
        </p:blipFill>
        <p:spPr>
          <a:xfrm>
            <a:off x="539640" y="242100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475" descr="http://woweb.ucoz.ru/flist/gif/501/60.gif"/>
          <p:cNvPicPr/>
          <p:nvPr/>
        </p:nvPicPr>
        <p:blipFill>
          <a:blip r:embed="rId3"/>
          <a:stretch/>
        </p:blipFill>
        <p:spPr>
          <a:xfrm>
            <a:off x="539640" y="105264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475" descr="http://woweb.ucoz.ru/flist/gif/501/60.gif"/>
          <p:cNvPicPr/>
          <p:nvPr/>
        </p:nvPicPr>
        <p:blipFill>
          <a:blip r:embed="rId4"/>
          <a:stretch/>
        </p:blipFill>
        <p:spPr>
          <a:xfrm>
            <a:off x="539640" y="62064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475" descr="http://woweb.ucoz.ru/flist/gif/501/60.gif"/>
          <p:cNvPicPr/>
          <p:nvPr/>
        </p:nvPicPr>
        <p:blipFill>
          <a:blip r:embed="rId5"/>
          <a:stretch/>
        </p:blipFill>
        <p:spPr>
          <a:xfrm>
            <a:off x="539640" y="26028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475" descr="http://woweb.ucoz.ru/flist/gif/501/60.gif"/>
          <p:cNvPicPr/>
          <p:nvPr/>
        </p:nvPicPr>
        <p:blipFill>
          <a:blip r:embed="rId6"/>
          <a:stretch/>
        </p:blipFill>
        <p:spPr>
          <a:xfrm>
            <a:off x="539640" y="4221000"/>
            <a:ext cx="219240" cy="219240"/>
          </a:xfrm>
          <a:prstGeom prst="rect">
            <a:avLst/>
          </a:prstGeom>
          <a:ln w="0">
            <a:noFill/>
          </a:ln>
        </p:spPr>
      </p:pic>
      <p:sp>
        <p:nvSpPr>
          <p:cNvPr id="402" name="Дата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9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4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9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4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9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4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оген был известным философом Древней Греции однако жил он не в доме а в пустой бочке так как считал дом излишней роскош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знь черноморского грека слагается из нескольких вещей а именно чёток фаршированного перца торговли рыбой и лимон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шеница просо овёс подсолнух словом на что только не взгляни всё уже созрело всё требовало хозяйских хлопот и заботливых старательных ру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Рисунок 475" descr="http://woweb.ucoz.ru/flist/gif/501/60.gif"/>
          <p:cNvPicPr/>
          <p:nvPr/>
        </p:nvPicPr>
        <p:blipFill>
          <a:blip r:embed="rId1"/>
          <a:stretch/>
        </p:blipFill>
        <p:spPr>
          <a:xfrm>
            <a:off x="468360" y="278136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475" descr="http://woweb.ucoz.ru/flist/gif/501/60.gif"/>
          <p:cNvPicPr/>
          <p:nvPr/>
        </p:nvPicPr>
        <p:blipFill>
          <a:blip r:embed="rId2"/>
          <a:stretch/>
        </p:blipFill>
        <p:spPr>
          <a:xfrm>
            <a:off x="468360" y="1628640"/>
            <a:ext cx="218880" cy="21924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475" descr="http://woweb.ucoz.ru/flist/gif/501/60.gif"/>
          <p:cNvPicPr/>
          <p:nvPr/>
        </p:nvPicPr>
        <p:blipFill>
          <a:blip r:embed="rId3"/>
          <a:stretch/>
        </p:blipFill>
        <p:spPr>
          <a:xfrm>
            <a:off x="431640" y="431640"/>
            <a:ext cx="219240" cy="219240"/>
          </a:xfrm>
          <a:prstGeom prst="rect">
            <a:avLst/>
          </a:prstGeom>
          <a:ln w="0">
            <a:noFill/>
          </a:ln>
        </p:spPr>
      </p:pic>
      <p:sp>
        <p:nvSpPr>
          <p:cNvPr id="407" name="Дата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1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6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1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люч к карточке 1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их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то о душевном мире поэта, карти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роды, рассказ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 процессах поэтического творчества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сё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олнует читателя, задевая трепетные струны сердца, подчиняя власти высоких чувств и помыс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нота раннего зимнего утра скрывал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лощадку на берегу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лотняный посёлок из палаток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амих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ран крутит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швыряет снегом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свистывает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заливается жутким во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рава от нас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ходил за горизонт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иближался, восставал мрачный бере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Рисунок 475" descr="http://woweb.ucoz.ru/flist/gif/501/60.gif"/>
          <p:cNvPicPr/>
          <p:nvPr/>
        </p:nvPicPr>
        <p:blipFill>
          <a:blip r:embed="rId1"/>
          <a:stretch/>
        </p:blipFill>
        <p:spPr>
          <a:xfrm>
            <a:off x="539640" y="515772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475" descr="http://woweb.ucoz.ru/flist/gif/501/60.gif"/>
          <p:cNvPicPr/>
          <p:nvPr/>
        </p:nvPicPr>
        <p:blipFill>
          <a:blip r:embed="rId2"/>
          <a:stretch/>
        </p:blipFill>
        <p:spPr>
          <a:xfrm>
            <a:off x="539640" y="436572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475" descr="http://woweb.ucoz.ru/flist/gif/501/60.gif"/>
          <p:cNvPicPr/>
          <p:nvPr/>
        </p:nvPicPr>
        <p:blipFill>
          <a:blip r:embed="rId3"/>
          <a:stretch/>
        </p:blipFill>
        <p:spPr>
          <a:xfrm>
            <a:off x="539640" y="314172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475" descr="http://woweb.ucoz.ru/flist/gif/501/60.gif"/>
          <p:cNvPicPr/>
          <p:nvPr/>
        </p:nvPicPr>
        <p:blipFill>
          <a:blip r:embed="rId4"/>
          <a:stretch/>
        </p:blipFill>
        <p:spPr>
          <a:xfrm>
            <a:off x="539640" y="126828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532" descr="http://woweb.ucoz.ru/flist/gif/505/9.gif"/>
          <p:cNvPicPr/>
          <p:nvPr/>
        </p:nvPicPr>
        <p:blipFill>
          <a:blip r:embed="rId5"/>
          <a:stretch/>
        </p:blipFill>
        <p:spPr>
          <a:xfrm>
            <a:off x="1692360" y="260280"/>
            <a:ext cx="647640" cy="644760"/>
          </a:xfrm>
          <a:prstGeom prst="rect">
            <a:avLst/>
          </a:prstGeom>
          <a:ln w="0">
            <a:noFill/>
          </a:ln>
        </p:spPr>
      </p:pic>
      <p:sp>
        <p:nvSpPr>
          <p:cNvPr id="415" name="Дата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7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2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7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507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рик Обломо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а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инял имение отца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ак 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ередал сы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з множества зву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земли: пения птиц, трепетания листвы на деревьях, треска кузнечиков, журчания лесного ручья – самый весёлый звук – песня полевых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луговых жаворон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стрые реки, пол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убравы, гордые выси заоблачных гор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сё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ы вместила, родная держава, в свой необъятный могучий просто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чащоб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сё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мешалос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йно растёт в теснот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вке: корявые лиственницы с гигантскими осинами, тёмные шары елей с кружевным пологом рябин, стройные пихты с могучими кедрам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елоствольными берёз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ь эта произвел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тольк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ильное впечатление,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о 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олн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Рисунок 475" descr="http://woweb.ucoz.ru/flist/gif/501/60.gif"/>
          <p:cNvPicPr/>
          <p:nvPr/>
        </p:nvPicPr>
        <p:blipFill>
          <a:blip r:embed="rId1"/>
          <a:stretch/>
        </p:blipFill>
        <p:spPr>
          <a:xfrm>
            <a:off x="539640" y="378936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475" descr="http://woweb.ucoz.ru/flist/gif/501/60.gif"/>
          <p:cNvPicPr/>
          <p:nvPr/>
        </p:nvPicPr>
        <p:blipFill>
          <a:blip r:embed="rId2"/>
          <a:stretch/>
        </p:blipFill>
        <p:spPr>
          <a:xfrm>
            <a:off x="539640" y="263700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475" descr="http://woweb.ucoz.ru/flist/gif/501/60.gif"/>
          <p:cNvPicPr/>
          <p:nvPr/>
        </p:nvPicPr>
        <p:blipFill>
          <a:blip r:embed="rId3"/>
          <a:stretch/>
        </p:blipFill>
        <p:spPr>
          <a:xfrm>
            <a:off x="468360" y="260280"/>
            <a:ext cx="218880" cy="21924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475" descr="http://woweb.ucoz.ru/flist/gif/501/60.gif"/>
          <p:cNvPicPr/>
          <p:nvPr/>
        </p:nvPicPr>
        <p:blipFill>
          <a:blip r:embed="rId4"/>
          <a:stretch/>
        </p:blipFill>
        <p:spPr>
          <a:xfrm>
            <a:off x="468360" y="1125360"/>
            <a:ext cx="218880" cy="21924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475" descr="http://woweb.ucoz.ru/flist/gif/501/60.gif"/>
          <p:cNvPicPr/>
          <p:nvPr/>
        </p:nvPicPr>
        <p:blipFill>
          <a:blip r:embed="rId5"/>
          <a:stretch/>
        </p:blipFill>
        <p:spPr>
          <a:xfrm>
            <a:off x="539640" y="5661000"/>
            <a:ext cx="219240" cy="219240"/>
          </a:xfrm>
          <a:prstGeom prst="rect">
            <a:avLst/>
          </a:prstGeom>
          <a:ln w="0">
            <a:noFill/>
          </a:ln>
        </p:spPr>
      </p:pic>
      <p:sp>
        <p:nvSpPr>
          <p:cNvPr id="422" name="Дата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4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9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4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9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4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686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л язык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сем телом владе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бою смерть не в лицо смотрит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за спиной ход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с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лик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ооруж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ревност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редних веков: египетские пирамид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олизей, Великая китайская сте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имские акведуки, дворцы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онастыри, замк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городские стены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сё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троилось без чертеж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ы сделали в спортивном магазине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ассу покупо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а именно: теннисные мячи, ракетки, удочк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футбольные мя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ла когда-то ныне забытая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хот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нтересная игра в бирюль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том 1612 года русские войска под командованием Мини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жарско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тольк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становили нашествие поляков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о 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разбили их наголову. Во главе поляков стоял Струс, который, однако, думал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стольк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 спасении армии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кольк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 собственном спасении. От его фамилии образовалось слово «трус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Рисунок 475" descr="http://woweb.ucoz.ru/flist/gif/501/60.gif"/>
          <p:cNvPicPr/>
          <p:nvPr/>
        </p:nvPicPr>
        <p:blipFill>
          <a:blip r:embed="rId1"/>
          <a:stretch/>
        </p:blipFill>
        <p:spPr>
          <a:xfrm>
            <a:off x="539640" y="443700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475" descr="http://woweb.ucoz.ru/flist/gif/501/60.gif"/>
          <p:cNvPicPr/>
          <p:nvPr/>
        </p:nvPicPr>
        <p:blipFill>
          <a:blip r:embed="rId2"/>
          <a:stretch/>
        </p:blipFill>
        <p:spPr>
          <a:xfrm>
            <a:off x="539640" y="371628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475" descr="http://woweb.ucoz.ru/flist/gif/501/60.gif"/>
          <p:cNvPicPr/>
          <p:nvPr/>
        </p:nvPicPr>
        <p:blipFill>
          <a:blip r:embed="rId3"/>
          <a:stretch/>
        </p:blipFill>
        <p:spPr>
          <a:xfrm>
            <a:off x="539640" y="47628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475" descr="http://woweb.ucoz.ru/flist/gif/501/60.gif"/>
          <p:cNvPicPr/>
          <p:nvPr/>
        </p:nvPicPr>
        <p:blipFill>
          <a:blip r:embed="rId4"/>
          <a:stretch/>
        </p:blipFill>
        <p:spPr>
          <a:xfrm>
            <a:off x="539640" y="263700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475" descr="http://woweb.ucoz.ru/flist/gif/501/60.gif"/>
          <p:cNvPicPr/>
          <p:nvPr/>
        </p:nvPicPr>
        <p:blipFill>
          <a:blip r:embed="rId5"/>
          <a:stretch/>
        </p:blipFill>
        <p:spPr>
          <a:xfrm>
            <a:off x="539640" y="126828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475" descr="http://woweb.ucoz.ru/flist/gif/501/60.gif"/>
          <p:cNvPicPr/>
          <p:nvPr/>
        </p:nvPicPr>
        <p:blipFill>
          <a:blip r:embed="rId6"/>
          <a:stretch/>
        </p:blipFill>
        <p:spPr>
          <a:xfrm>
            <a:off x="539640" y="836640"/>
            <a:ext cx="219240" cy="218880"/>
          </a:xfrm>
          <a:prstGeom prst="rect">
            <a:avLst/>
          </a:prstGeom>
          <a:ln w="0">
            <a:noFill/>
          </a:ln>
        </p:spPr>
      </p:pic>
      <p:sp>
        <p:nvSpPr>
          <p:cNvPr id="430" name="Дата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1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6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1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6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1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6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Organization Chart 6"/>
          <p:cNvGrpSpPr/>
          <p:nvPr/>
        </p:nvGrpSpPr>
        <p:grpSpPr>
          <a:xfrm>
            <a:off x="457200" y="277920"/>
            <a:ext cx="8228520" cy="5851080"/>
            <a:chOff x="457200" y="277920"/>
            <a:chExt cx="8228520" cy="5851080"/>
          </a:xfrm>
        </p:grpSpPr>
        <p:cxnSp>
          <p:nvCxnSpPr>
            <p:cNvPr id="144" name="_s2052"/>
            <p:cNvCxnSpPr>
              <a:stCxn id="145" idx="0"/>
              <a:endCxn id="146" idx="2"/>
            </p:cNvCxnSpPr>
            <p:nvPr/>
          </p:nvCxnSpPr>
          <p:spPr>
            <a:xfrm flipV="1" rot="16200000">
              <a:off x="5096160" y="2094840"/>
              <a:ext cx="1164960" cy="2216160"/>
            </a:xfrm>
            <a:prstGeom prst="bentConnector3">
              <a:avLst>
                <a:gd name="adj1" fmla="val 979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7" name="_s2053"/>
            <p:cNvCxnSpPr>
              <a:stCxn id="148" idx="0"/>
              <a:endCxn id="146" idx="2"/>
            </p:cNvCxnSpPr>
            <p:nvPr/>
          </p:nvCxnSpPr>
          <p:spPr>
            <a:xfrm flipH="1" flipV="1" rot="5400000">
              <a:off x="2880720" y="2095560"/>
              <a:ext cx="1164960" cy="2215440"/>
            </a:xfrm>
            <a:prstGeom prst="bentConnector3">
              <a:avLst>
                <a:gd name="adj1" fmla="val 979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6" name="_s2054"/>
            <p:cNvSpPr/>
            <p:nvPr/>
          </p:nvSpPr>
          <p:spPr>
            <a:xfrm>
              <a:off x="2671920" y="277920"/>
              <a:ext cx="3797640" cy="234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ff"/>
                  </a:solidFill>
                  <a:latin typeface="Arial"/>
                </a:rPr>
                <a:t>ОЧП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ff"/>
                  </a:solidFill>
                  <a:latin typeface="Arial"/>
                </a:rPr>
                <a:t>БЫВАЮТ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2055"/>
            <p:cNvSpPr/>
            <p:nvPr/>
          </p:nvSpPr>
          <p:spPr>
            <a:xfrm>
              <a:off x="457200" y="3785760"/>
              <a:ext cx="3797640" cy="234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НЕРАСПРОСТРАНЁН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Всё зашевелилось,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проснулось, запело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Зашумело, заговорило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2056"/>
            <p:cNvSpPr/>
            <p:nvPr/>
          </p:nvSpPr>
          <p:spPr>
            <a:xfrm>
              <a:off x="4888080" y="3785760"/>
              <a:ext cx="3797640" cy="234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РАСПРОСТРАНЁН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имеют при себ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зависимые слова)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На улице песня рабочи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текла ровно, прямо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со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страшной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 силой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" name="i-main-pic" descr="Картинка 111 из 138"/>
          <p:cNvPicPr/>
          <p:nvPr/>
        </p:nvPicPr>
        <p:blipFill>
          <a:blip r:embed="rId1"/>
          <a:stretch/>
        </p:blipFill>
        <p:spPr>
          <a:xfrm>
            <a:off x="539640" y="549360"/>
            <a:ext cx="1440000" cy="1511280"/>
          </a:xfrm>
          <a:prstGeom prst="rect">
            <a:avLst/>
          </a:prstGeom>
          <a:ln w="0">
            <a:noFill/>
          </a:ln>
        </p:spPr>
      </p:pic>
      <p:sp>
        <p:nvSpPr>
          <p:cNvPr id="150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оген был известным философом Древней Греции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днак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жил он не в доме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пустой бочке, так как считал дом излишней роскош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знь черноморского грека слагается из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нескольких вещей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 именно: чёток, фаршированного перца, торговли рыбо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лимон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шеница, просо, овёс, подсолнух – словом, на что только не взгляни,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сё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же созрело,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сё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ребовало хозяйских хлопо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заботливых старательных ру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Рисунок 475" descr="http://woweb.ucoz.ru/flist/gif/501/60.gif"/>
          <p:cNvPicPr/>
          <p:nvPr/>
        </p:nvPicPr>
        <p:blipFill>
          <a:blip r:embed="rId1"/>
          <a:stretch/>
        </p:blipFill>
        <p:spPr>
          <a:xfrm>
            <a:off x="539640" y="270828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475" descr="http://woweb.ucoz.ru/flist/gif/501/60.gif"/>
          <p:cNvPicPr/>
          <p:nvPr/>
        </p:nvPicPr>
        <p:blipFill>
          <a:blip r:embed="rId2"/>
          <a:stretch/>
        </p:blipFill>
        <p:spPr>
          <a:xfrm>
            <a:off x="539640" y="162864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475" descr="http://woweb.ucoz.ru/flist/gif/501/60.gif"/>
          <p:cNvPicPr/>
          <p:nvPr/>
        </p:nvPicPr>
        <p:blipFill>
          <a:blip r:embed="rId3"/>
          <a:stretch/>
        </p:blipFill>
        <p:spPr>
          <a:xfrm>
            <a:off x="468360" y="549360"/>
            <a:ext cx="218880" cy="218880"/>
          </a:xfrm>
          <a:prstGeom prst="rect">
            <a:avLst/>
          </a:prstGeom>
          <a:ln w="0">
            <a:noFill/>
          </a:ln>
        </p:spPr>
      </p:pic>
      <p:sp>
        <p:nvSpPr>
          <p:cNvPr id="435" name="Дата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3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8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3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машнее задание. Карточка 2. Расставьте знаки препинания. Выпишите номера предложений с ОЧП без обобщающих слов в одну колонку, а с обобщающими  словами – в другую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я как будто вижу перед собой эту картину тихие берега расширяющуюся лунную дорогу прямо от меня к баржам понтонного моста и на мосту длинные тени бегущих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я усадьба состояла из четырёх срубов разной величины а именно из флигеля конюшни сарая ба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и старики женщины всё смешалось в живом пото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сня бьётся о камень стены стонет плачет оживляет сердце тихой болью будит тоску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Рисунок 172" descr="http://woweb.ucoz.ru/flist/gif/502/164.gif"/>
          <p:cNvPicPr/>
          <p:nvPr/>
        </p:nvPicPr>
        <p:blipFill>
          <a:blip r:embed="rId1"/>
          <a:stretch/>
        </p:blipFill>
        <p:spPr>
          <a:xfrm>
            <a:off x="179280" y="692280"/>
            <a:ext cx="505080" cy="720720"/>
          </a:xfrm>
          <a:prstGeom prst="rect">
            <a:avLst/>
          </a:prstGeom>
          <a:ln w="0">
            <a:noFill/>
          </a:ln>
        </p:spPr>
      </p:pic>
      <p:sp>
        <p:nvSpPr>
          <p:cNvPr id="439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5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 под забором Стёпушка сидит редьку гложет или морковь сосёт или грязный кочан капусты под себя крошит то ведро с водой куда-то тащит и кряхт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и уже не только по обличью а и по звуку различали свои и немецкие самолё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с виду хоть и прост но свойство чудное име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фессор мне показал все нужные инструменты как для ловли бабочек так и для раскладывания 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большей части их лиц выражалась если не боязнь то беспокой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трогою бьётся крупная рыба как то щуки сомы суда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Дата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люч к карточке 2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я как будто вижу перед собой эту картину: тихие берега, расширяющуюся лунную дорогу прямо от меня к баржам понтонного моста и на мосту длинные тени бегущих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я усадьба состояла из четырёх срубов разной величины, а именно: из флигеля, конюшни, сарая, ба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и, старики, женщины – всё смешалось в живом пото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сня бьётся о камень стены, стонет, плачет, оживляет сердце тихой болью, будит тоску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Рисунок 532" descr="http://woweb.ucoz.ru/flist/gif/505/9.gif"/>
          <p:cNvPicPr/>
          <p:nvPr/>
        </p:nvPicPr>
        <p:blipFill>
          <a:blip r:embed="rId1"/>
          <a:stretch/>
        </p:blipFill>
        <p:spPr>
          <a:xfrm>
            <a:off x="1547640" y="189000"/>
            <a:ext cx="936720" cy="936360"/>
          </a:xfrm>
          <a:prstGeom prst="rect">
            <a:avLst/>
          </a:prstGeom>
          <a:ln w="0">
            <a:noFill/>
          </a:ln>
        </p:spPr>
      </p:pic>
      <p:sp>
        <p:nvSpPr>
          <p:cNvPr id="445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6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0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5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0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5" dur="50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9647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 под забором Стёпушка сидит, редьку гложет, или морковь сосёт, или грязный кочан капусты под себя крошит, то ведро с водой куда-то тащит и кряхт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и уже не только по обличью, а и по звуку различали свои и немецкие самолё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с виду хоть и прост, но свойство чудное име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фессор мне показал все нужные инструменты как для ловли бабочек, так и для раскладывания 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большей части их лиц выражалась если не боязнь, то беспокой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трогою бьётся крупная рыба, как то: щуки, сомы, суда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755640" y="5373720"/>
          <a:ext cx="8137440" cy="99360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обобщающих сл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 обобщающими слов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 5, 6, 7, 8, 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2, 3, 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2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7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7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2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7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8"/>
          <p:cNvSpPr/>
          <p:nvPr/>
        </p:nvSpPr>
        <p:spPr>
          <a:xfrm>
            <a:off x="324000" y="3645000"/>
            <a:ext cx="8424720" cy="1944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38160">
            <a:solidFill>
              <a:srgbClr val="c1ff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324000" y="1341360"/>
            <a:ext cx="8424720" cy="1871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c1ff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ЧП МОГУТ ИМЕТЬ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инаковое морфологическое выраж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здух был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едок, неподвижен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краткие прилагательны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ный морфологический соста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егда он был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леден, худ, подвержен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остуд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(краткие прилагательные, краткое причасти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i-main-pic" descr="Картинка 111 из 138"/>
          <p:cNvPicPr/>
          <p:nvPr/>
        </p:nvPicPr>
        <p:blipFill>
          <a:blip r:embed="rId1"/>
          <a:stretch/>
        </p:blipFill>
        <p:spPr>
          <a:xfrm>
            <a:off x="826920" y="260280"/>
            <a:ext cx="1224000" cy="936720"/>
          </a:xfrm>
          <a:prstGeom prst="rect">
            <a:avLst/>
          </a:prstGeom>
          <a:ln w="0">
            <a:noFill/>
          </a:ln>
        </p:spPr>
      </p:pic>
      <p:sp>
        <p:nvSpPr>
          <p:cNvPr id="156" name="Дата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НАКИ ПРЕПИНАНИЯ ПРИ ОЧП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П, не соединённые союзами, разделяются ЗАПЯТЫ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сле обеда он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идел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на балконе,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ержал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 коленях кни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сли последний член ряда присоединяется союзами И, ДА (=И), ИЛИ, то запятая перед ними НЕ СТАВИ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етер приносит холод, ясность и некую пустоту всего тел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i-main-pic" descr="Картинка 111 из 138"/>
          <p:cNvPicPr/>
          <p:nvPr/>
        </p:nvPicPr>
        <p:blipFill>
          <a:blip r:embed="rId1"/>
          <a:stretch/>
        </p:blipFill>
        <p:spPr>
          <a:xfrm>
            <a:off x="7885080" y="907920"/>
            <a:ext cx="1000080" cy="828720"/>
          </a:xfrm>
          <a:prstGeom prst="rect">
            <a:avLst/>
          </a:prstGeom>
          <a:ln w="0">
            <a:noFill/>
          </a:ln>
        </p:spPr>
      </p:pic>
      <p:sp>
        <p:nvSpPr>
          <p:cNvPr id="160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П, соединённые повторяющимися союзами (больше двух) И… И, ДА… ДА, НИ… НИ, ИЛИ… ИЛИ, ЛИ… ЛИ, ЛИ… ИЛИ,ЛИБО… ЛИБО, ТО… ТО, НЕ ТО… НЕ ТО, ТО ЛИ… ТО ЛИ, разделяются ЗАПЯТ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 было ни бурных слов, ни пылких призн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Ни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, ни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ЧП, соединённые одиночными соединительными или разделительными союзами (И, ДА =И, ИЛИ, ЛИБО) НЕ РАЗДЕЛЯЮТСЯ ЗАПЯТ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нь да ночь – сутки проч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да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Дата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наличии между ОЧП противительного союза (А, НО, ДА=НО, ЗАТО, ОДНАКО, ХОТЯ, ВПРОЧЕМ) и соединительного (А ТАКЖЕ) ЗАПЯТАЯ СТАВИ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ебёнок был резов, но м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, но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на знает немецкий, а также французский язы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,а также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 попарном соединении ОЧП запятая ставится между па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леи, засаженные сиренями и липами, вязами и тополями, вели к эстраде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Дата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ндреянова И. Э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4:34:53Z</dcterms:created>
  <dc:creator>CTR</dc:creator>
  <dc:description/>
  <dc:language>en-US</dc:language>
  <cp:lastModifiedBy>Ирина</cp:lastModifiedBy>
  <dcterms:modified xsi:type="dcterms:W3CDTF">2012-11-12T12:56:31Z</dcterms:modified>
  <cp:revision>16</cp:revision>
  <dc:subject/>
  <dc:title>ОДНОРОДНЫЕ ЧЛЕНЫ ПРЕДЛОЖЕНИЯ</dc:title>
</cp:coreProperties>
</file>