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771-665C-46F4-BD53-5098C487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201-C809-4D58-8C51-C272CC0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A15-4C43-425C-9FD7-C54F2097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32E-04A2-425E-8BAE-702DF709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114-FF8D-41FA-92FA-0F502F6C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710-BE4B-4C93-870A-4DDF58B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D3DF-1726-46C6-993F-2210DC3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526-FF92-45D1-AF4C-54A89E6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5A2-3A3E-4CC8-9BD4-675CBD8F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DA80-342F-4E17-AD4C-2F2A555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042-AC83-4E05-B6F1-591EC3B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0BF-AF33-4B0E-894D-839709B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6786-278C-47F2-8577-3FDF9B1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D40-F028-47B6-9EA5-A099BE4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4C77-5ED0-4B72-A82B-0990E49B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3900-2195-4868-BCBF-8959CE12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8DFF-EB53-4D1F-9A18-8DC72D45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B27-048D-477B-A05F-1381D8E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7C1-660F-40F9-8360-E70A34D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084-ED4E-495A-90BD-1B0B7F3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1C7-20F1-4938-88D4-F32916A6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7DE-3B42-4B2C-87D6-D455AF0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80F-EF30-401F-9A52-B88CFC7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5C0-41C6-45F4-A86E-710D453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C0A-8BF5-49E7-A95F-8A5ECACC7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E12-D011-4AD0-A6DF-A0F9B3082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468360" y="260280"/>
            <a:ext cx="770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3 октября 2012г.: 500 дней до начала Паралимпийских игр 2014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работана учителем МОУ СОШ №20 города Сочи Варданян Н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СМЕЛОСТЬ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22" name="Рисунок 2" descr="008.jpg"/>
          <p:cNvPicPr/>
          <p:nvPr/>
        </p:nvPicPr>
        <p:blipFill>
          <a:blip r:embed="rId1"/>
          <a:stretch/>
        </p:blipFill>
        <p:spPr>
          <a:xfrm>
            <a:off x="4929120" y="1000080"/>
            <a:ext cx="3922920" cy="42321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1000080" y="128592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лость, присутствие духа – качества человека, который не боится опасностей и трудностей, не уклоняется от них, преодолевае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021.jpg"/>
          <p:cNvPicPr/>
          <p:nvPr/>
        </p:nvPicPr>
        <p:blipFill>
          <a:blip r:embed="rId2"/>
          <a:stretch/>
        </p:blipFill>
        <p:spPr>
          <a:xfrm>
            <a:off x="1000080" y="3757680"/>
            <a:ext cx="4214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РАВЕНСТВО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26" name="Рисунок 2" descr="011.jpg"/>
          <p:cNvPicPr/>
          <p:nvPr/>
        </p:nvPicPr>
        <p:blipFill>
          <a:blip r:embed="rId1"/>
          <a:stretch/>
        </p:blipFill>
        <p:spPr>
          <a:xfrm>
            <a:off x="4214880" y="2357280"/>
            <a:ext cx="4478400" cy="2378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1000080" y="10717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авенством в спорте понимаются одинаковые условия проведения соревнований, при которых победитель выявляется исключительно благодаря личным каче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022.jpg"/>
          <p:cNvPicPr/>
          <p:nvPr/>
        </p:nvPicPr>
        <p:blipFill>
          <a:blip r:embed="rId2"/>
          <a:stretch/>
        </p:blipFill>
        <p:spPr>
          <a:xfrm>
            <a:off x="1071720" y="4116240"/>
            <a:ext cx="35715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РЕШИМОСТЬ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30" name="Рисунок 3" descr="016.jpg"/>
          <p:cNvPicPr/>
          <p:nvPr/>
        </p:nvPicPr>
        <p:blipFill>
          <a:blip r:embed="rId1"/>
          <a:stretch/>
        </p:blipFill>
        <p:spPr>
          <a:xfrm>
            <a:off x="5137200" y="928800"/>
            <a:ext cx="3835440" cy="2643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17.jpg"/>
          <p:cNvPicPr/>
          <p:nvPr/>
        </p:nvPicPr>
        <p:blipFill>
          <a:blip r:embed="rId2"/>
          <a:stretch/>
        </p:blipFill>
        <p:spPr>
          <a:xfrm>
            <a:off x="1000080" y="3857760"/>
            <a:ext cx="3667320" cy="2747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019.jpg"/>
          <p:cNvPicPr/>
          <p:nvPr/>
        </p:nvPicPr>
        <p:blipFill>
          <a:blip r:embed="rId3"/>
          <a:stretch/>
        </p:blipFill>
        <p:spPr>
          <a:xfrm>
            <a:off x="928800" y="928800"/>
            <a:ext cx="3975120" cy="2643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023.jpg"/>
          <p:cNvPicPr/>
          <p:nvPr/>
        </p:nvPicPr>
        <p:blipFill>
          <a:blip r:embed="rId4"/>
          <a:stretch/>
        </p:blipFill>
        <p:spPr>
          <a:xfrm>
            <a:off x="4857840" y="3857760"/>
            <a:ext cx="40482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ВДОХНОВЕНИЕ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35" name="Рисунок 2" descr="015.jpg"/>
          <p:cNvPicPr/>
          <p:nvPr/>
        </p:nvPicPr>
        <p:blipFill>
          <a:blip r:embed="rId1"/>
          <a:stretch/>
        </p:blipFill>
        <p:spPr>
          <a:xfrm>
            <a:off x="5357880" y="1214280"/>
            <a:ext cx="352584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014.jpg"/>
          <p:cNvPicPr/>
          <p:nvPr/>
        </p:nvPicPr>
        <p:blipFill>
          <a:blip r:embed="rId2"/>
          <a:stretch/>
        </p:blipFill>
        <p:spPr>
          <a:xfrm>
            <a:off x="857160" y="4143240"/>
            <a:ext cx="3802320" cy="2251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024.jpg"/>
          <p:cNvPicPr/>
          <p:nvPr/>
        </p:nvPicPr>
        <p:blipFill>
          <a:blip r:embed="rId3"/>
          <a:stretch/>
        </p:blipFill>
        <p:spPr>
          <a:xfrm>
            <a:off x="4786200" y="3762360"/>
            <a:ext cx="3905280" cy="2611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020.jpg"/>
          <p:cNvPicPr/>
          <p:nvPr/>
        </p:nvPicPr>
        <p:blipFill>
          <a:blip r:embed="rId4"/>
          <a:stretch/>
        </p:blipFill>
        <p:spPr>
          <a:xfrm>
            <a:off x="1000080" y="1000080"/>
            <a:ext cx="4165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40" name="Рисунок 2" descr="012.jpg"/>
          <p:cNvPicPr/>
          <p:nvPr/>
        </p:nvPicPr>
        <p:blipFill>
          <a:blip r:embed="rId1"/>
          <a:stretch/>
        </p:blipFill>
        <p:spPr>
          <a:xfrm>
            <a:off x="892080" y="1285920"/>
            <a:ext cx="803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Символы Олимпиады-2014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42" name="Рисунок 2" descr="025.jpg"/>
          <p:cNvPicPr/>
          <p:nvPr/>
        </p:nvPicPr>
        <p:blipFill>
          <a:blip r:embed="rId1"/>
          <a:stretch/>
        </p:blipFill>
        <p:spPr>
          <a:xfrm>
            <a:off x="1000080" y="100008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027.png"/>
          <p:cNvPicPr/>
          <p:nvPr/>
        </p:nvPicPr>
        <p:blipFill>
          <a:blip r:embed="rId2"/>
          <a:stretch/>
        </p:blipFill>
        <p:spPr>
          <a:xfrm>
            <a:off x="5896080" y="3000240"/>
            <a:ext cx="30733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894280" cy="35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Impact"/>
              </a:rPr>
              <a:t>Лучшие фотографии Паралимпийских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Impact"/>
              </a:rPr>
              <a:t>игр-2008 в Пекине</a:t>
            </a:r>
            <a:endParaRPr b="0" lang="en-US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3500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хтование. Людмила Васильева (Россия) против Яо Фанг (Китай)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Тер-Комитас\Desktop\1223544952_paralympics_fencing_ludmila_vasilieva_ru.jpg"/>
          <p:cNvPicPr/>
          <p:nvPr/>
        </p:nvPicPr>
        <p:blipFill>
          <a:blip r:embed="rId1"/>
          <a:stretch/>
        </p:blipFill>
        <p:spPr>
          <a:xfrm>
            <a:off x="5372280" y="0"/>
            <a:ext cx="377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8964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импийские игры — ярчайший пример мужества, воли и силы духа, а сами паралимпийцы живое воплощение девиза "никогда не сдавайся"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Лучшие фотографии Паралимпийских игр-2008 в Пекине"/>
          <p:cNvPicPr/>
          <p:nvPr/>
        </p:nvPicPr>
        <p:blipFill>
          <a:blip r:embed="rId1"/>
          <a:stretch/>
        </p:blipFill>
        <p:spPr>
          <a:xfrm>
            <a:off x="611280" y="1844640"/>
            <a:ext cx="75754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1280" y="188640"/>
            <a:ext cx="83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ег на дистанцию 100 метров. Немецкий спортсмен Heinrich Popew и канадец Earle Connor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Лучшие фотографии Паралимпийских игр-2008 в Пекине"/>
          <p:cNvPicPr/>
          <p:nvPr/>
        </p:nvPicPr>
        <p:blipFill>
          <a:blip r:embed="rId1"/>
          <a:stretch/>
        </p:blipFill>
        <p:spPr>
          <a:xfrm>
            <a:off x="684360" y="1484280"/>
            <a:ext cx="7775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Impact"/>
              </a:rPr>
              <a:t>Победительница забега на 100 метров 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Impact"/>
              </a:rPr>
              <a:t>                                                          Perla Bustamante из Мексики.</a:t>
            </a:r>
            <a:br>
              <a:rPr sz="3600"/>
            </a:br>
            <a:endParaRPr b="0" lang="en-US" sz="28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1960" y="445284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Лучшие фотографии Паралимпийских игр-2008 в Пекине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В 2014 году в Сочи пройдут 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Impact"/>
              </a:rPr>
              <a:t>XXII</a:t>
            </a: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 Зимние Олимпийские игры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85" name="Рисунок 2" descr="001.jpg"/>
          <p:cNvPicPr/>
          <p:nvPr/>
        </p:nvPicPr>
        <p:blipFill>
          <a:blip r:embed="rId1"/>
          <a:stretch/>
        </p:blipFill>
        <p:spPr>
          <a:xfrm>
            <a:off x="1071720" y="1365120"/>
            <a:ext cx="785808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99640" y="188640"/>
            <a:ext cx="7775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скетбольный матч между канадской и австралийской сборн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Лучшие фотографии Паралимпийских игр-2008 в Пекине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5589720"/>
            <a:ext cx="79884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алийская паралимпийская сборная по баскетболу празднует победу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C:\Users\Тер-Комитас\Desktop\1223544868_paralympics_australia_basketball_team_ce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9640" y="5229000"/>
            <a:ext cx="831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итель сборной Великобритании на Паралимпийских играх в Пекине David Weir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C:\Users\Тер-Комитас\Desktop\1223545038_paralympics_handbike_david_weir_greatbri.jpg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135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велосипедис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reas Eskay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C:\Users\Тер-Комитас\Desktop\1223545120_paralympics_handbike_german_andreas_eska - копия.jpg"/>
          <p:cNvPicPr/>
          <p:nvPr/>
        </p:nvPicPr>
        <p:blipFill>
          <a:blip r:embed="rId1"/>
          <a:stretch/>
        </p:blipFill>
        <p:spPr>
          <a:xfrm>
            <a:off x="324000" y="1125360"/>
            <a:ext cx="8351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19280" y="189000"/>
            <a:ext cx="842472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ннис на Паралимпийских играх. Голландская теннисная пара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" descr="C:\Users\Тер-Комитас\Desktop\1223545233_paralympics_tennis_dutch_pair.jpg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ь марафона Mario Santillan из Мексики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Тер-Комитас\Desktop\1223545150_paralympics_marathon_mario_santillan_mex.jpg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C:\Users\Тер-Комитас\Desktop\1223545289_paralympics_closing_ceremony06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250920" y="189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оу-представление «Надежда не умирает» во время церемонии закрытия Паралимпийских игр-2008. Его автор, известный китайский кинорежиссер Чжан Имоу, накануне заявил: яркое шоу будет символизировать мужество как самих участников Паралимпиады, так и всех людей нашей планеты с ограниченными возможност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5" descr="i86.jpg"/>
          <p:cNvPicPr/>
          <p:nvPr/>
        </p:nvPicPr>
        <p:blipFill>
          <a:blip r:embed="rId1"/>
          <a:stretch/>
        </p:blipFill>
        <p:spPr>
          <a:xfrm>
            <a:off x="7643880" y="1000080"/>
            <a:ext cx="1289160" cy="1824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142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«Встанем, за руки взявшись,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в ладони ладонь –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в каждом сердце зажжется Олимпийский огонь!»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80" name="Рисунок 4" descr="fakel_00.jpg"/>
          <p:cNvPicPr/>
          <p:nvPr/>
        </p:nvPicPr>
        <p:blipFill>
          <a:blip r:embed="rId2"/>
          <a:stretch/>
        </p:blipFill>
        <p:spPr>
          <a:xfrm>
            <a:off x="6357960" y="2928960"/>
            <a:ext cx="2460600" cy="36957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i643.jpg"/>
          <p:cNvPicPr/>
          <p:nvPr/>
        </p:nvPicPr>
        <p:blipFill>
          <a:blip r:embed="rId3"/>
          <a:stretch/>
        </p:blipFill>
        <p:spPr>
          <a:xfrm>
            <a:off x="857160" y="1285920"/>
            <a:ext cx="1521000" cy="1714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9" descr="Olimp_24.jpg"/>
          <p:cNvPicPr/>
          <p:nvPr/>
        </p:nvPicPr>
        <p:blipFill>
          <a:blip r:embed="rId4"/>
          <a:stretch/>
        </p:blipFill>
        <p:spPr>
          <a:xfrm>
            <a:off x="1071720" y="2928960"/>
            <a:ext cx="5092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87" name="Рисунок 2" descr="002.jpg"/>
          <p:cNvPicPr/>
          <p:nvPr/>
        </p:nvPicPr>
        <p:blipFill>
          <a:blip r:embed="rId1"/>
          <a:stretch/>
        </p:blipFill>
        <p:spPr>
          <a:xfrm>
            <a:off x="309600" y="142920"/>
            <a:ext cx="8686800" cy="6500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500040" y="4500720"/>
            <a:ext cx="5716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1143000" y="4500720"/>
            <a:ext cx="5716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785960" y="4500720"/>
            <a:ext cx="85716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428760" y="592920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1285920" y="5857920"/>
            <a:ext cx="5713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1928880" y="5857920"/>
            <a:ext cx="642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4572000" y="3071880"/>
            <a:ext cx="71424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5286240" y="3071880"/>
            <a:ext cx="7146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6000840" y="3071880"/>
            <a:ext cx="5713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571680" y="3357720"/>
            <a:ext cx="185724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2643120" y="2500200"/>
            <a:ext cx="18576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7215120" y="2500200"/>
            <a:ext cx="8571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7000920" y="3143160"/>
            <a:ext cx="1071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6"/>
          <p:cNvSpPr/>
          <p:nvPr/>
        </p:nvSpPr>
        <p:spPr>
          <a:xfrm>
            <a:off x="7000920" y="4000680"/>
            <a:ext cx="10713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7072200" y="5000760"/>
            <a:ext cx="10717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6286680" y="5929200"/>
            <a:ext cx="1071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9"/>
          <p:cNvSpPr/>
          <p:nvPr/>
        </p:nvSpPr>
        <p:spPr>
          <a:xfrm>
            <a:off x="7358040" y="6357960"/>
            <a:ext cx="714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0"/>
          <p:cNvSpPr/>
          <p:nvPr/>
        </p:nvSpPr>
        <p:spPr>
          <a:xfrm>
            <a:off x="8143920" y="6429240"/>
            <a:ext cx="714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07" name="Рисунок 2" descr="003.jpg"/>
          <p:cNvPicPr/>
          <p:nvPr/>
        </p:nvPicPr>
        <p:blipFill>
          <a:blip r:embed="rId1"/>
          <a:stretch/>
        </p:blipFill>
        <p:spPr>
          <a:xfrm>
            <a:off x="428760" y="142920"/>
            <a:ext cx="85453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09" name="Рисунок 2" descr="004.jpg"/>
          <p:cNvPicPr/>
          <p:nvPr/>
        </p:nvPicPr>
        <p:blipFill>
          <a:blip r:embed="rId1"/>
          <a:stretch/>
        </p:blipFill>
        <p:spPr>
          <a:xfrm>
            <a:off x="857160" y="1000080"/>
            <a:ext cx="816300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СОВЕРШЕНСТВО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11" name="Рисунок 4" descr="5ef939.jpg"/>
          <p:cNvPicPr/>
          <p:nvPr/>
        </p:nvPicPr>
        <p:blipFill>
          <a:blip r:embed="rId1"/>
          <a:stretch/>
        </p:blipFill>
        <p:spPr>
          <a:xfrm>
            <a:off x="1357200" y="1000080"/>
            <a:ext cx="2714760" cy="28576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55015837_1265833288_amman.jpg"/>
          <p:cNvPicPr/>
          <p:nvPr/>
        </p:nvPicPr>
        <p:blipFill>
          <a:blip r:embed="rId2"/>
          <a:stretch/>
        </p:blipFill>
        <p:spPr>
          <a:xfrm>
            <a:off x="5000760" y="4044960"/>
            <a:ext cx="3922560" cy="2579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203220434_10.jpg"/>
          <p:cNvPicPr/>
          <p:nvPr/>
        </p:nvPicPr>
        <p:blipFill>
          <a:blip r:embed="rId3"/>
          <a:stretch/>
        </p:blipFill>
        <p:spPr>
          <a:xfrm>
            <a:off x="1093680" y="4000680"/>
            <a:ext cx="3430800" cy="2571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1254851546__42337997_skating_416.jpg"/>
          <p:cNvPicPr/>
          <p:nvPr/>
        </p:nvPicPr>
        <p:blipFill>
          <a:blip r:embed="rId4"/>
          <a:stretch/>
        </p:blipFill>
        <p:spPr>
          <a:xfrm>
            <a:off x="4545000" y="1000080"/>
            <a:ext cx="4060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ДРУЖБА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16" name="Рисунок 2" descr="005.jpg"/>
          <p:cNvPicPr/>
          <p:nvPr/>
        </p:nvPicPr>
        <p:blipFill>
          <a:blip r:embed="rId1"/>
          <a:stretch/>
        </p:blipFill>
        <p:spPr>
          <a:xfrm>
            <a:off x="2500200" y="2071800"/>
            <a:ext cx="49294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Impact"/>
              </a:rPr>
              <a:t>УВАЖЕНИЕ</a:t>
            </a:r>
            <a:endParaRPr b="0" lang="en-US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18" name="Рисунок 2" descr="006.jpg"/>
          <p:cNvPicPr/>
          <p:nvPr/>
        </p:nvPicPr>
        <p:blipFill>
          <a:blip r:embed="rId1"/>
          <a:stretch/>
        </p:blipFill>
        <p:spPr>
          <a:xfrm>
            <a:off x="1071720" y="1000080"/>
            <a:ext cx="757224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1f497d"/>
              </a:solidFill>
              <a:latin typeface="Impact"/>
            </a:endParaRPr>
          </a:p>
        </p:txBody>
      </p:sp>
      <p:pic>
        <p:nvPicPr>
          <p:cNvPr id="120" name="Рисунок 2" descr="007.jpg"/>
          <p:cNvPicPr/>
          <p:nvPr/>
        </p:nvPicPr>
        <p:blipFill>
          <a:blip r:embed="rId1"/>
          <a:stretch/>
        </p:blipFill>
        <p:spPr>
          <a:xfrm>
            <a:off x="1000080" y="1000080"/>
            <a:ext cx="7920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23:25Z</dcterms:created>
  <dc:creator>anna</dc:creator>
  <dc:description/>
  <dc:language>en-US</dc:language>
  <cp:lastModifiedBy>ЛЕВОН</cp:lastModifiedBy>
  <dcterms:modified xsi:type="dcterms:W3CDTF">2012-11-12T17:20:34Z</dcterms:modified>
  <cp:revision>32</cp:revision>
  <dc:subject/>
  <dc:title>ОЛИМПИЙСКИЙ УРОК</dc:title>
</cp:coreProperties>
</file>