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88A-E042-470C-ADF0-4292A91A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E72-B2CA-4D0E-A599-2A04F493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746-5A1E-4CB5-9217-491C277E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16A-F327-42E0-A074-89021092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F6B-B0B3-4B0F-BD5F-A27AFE17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F72-CC95-49BA-9302-57765E40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D4A-4FE1-497F-8015-B4681530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4E1-3D20-4794-8B87-63731D95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CB1-E386-491E-B7F5-6CD0938A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E20-A6AE-492A-AB8C-E5695607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F0F-D492-4CDE-9932-466C0F2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D8B-E02C-45B0-A1E0-0C8C233B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5289-14C0-4D08-AC53-91E72C1A8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476280"/>
            <a:ext cx="8497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птимизационное модел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59280" y="3141720"/>
            <a:ext cx="302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экономи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3680" y="5348160"/>
            <a:ext cx="319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Храмова Е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гимназии №1 г. Балак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068" t="19253" r="42808" b="54533"/>
          <a:stretch/>
        </p:blipFill>
        <p:spPr>
          <a:xfrm>
            <a:off x="1049400" y="4011480"/>
            <a:ext cx="7553160" cy="255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8200" y="1258920"/>
            <a:ext cx="864072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делите ячейки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 для значения параметров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.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В ячейку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4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введите формулу вычисления целевой функции. В ячейку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7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введите формулу вычисления ограничения на объем производства, в ячейку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 – ограничения емкости скла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режиме отображения формул фрагмент таблицы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080" y="130320"/>
            <a:ext cx="88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Компьютерное моделирова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080" y="130320"/>
            <a:ext cx="88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Исследование модел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8200" y="1093680"/>
            <a:ext cx="8640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" y="1844640"/>
            <a:ext cx="8640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оспользуемся надстройкой электронных таблиц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Поиск решения.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. Активизируйте надстройку – команда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Сервис – Надстройки.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На диалоговой панели установить флажок перед элементом списка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Поиск решения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.   Ввести команду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Сервис – Поиск реш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На появившейся диалоговой панели установить следующие параметры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34895" t="30889" r="4384" b="23342"/>
          <a:stretch/>
        </p:blipFill>
        <p:spPr>
          <a:xfrm>
            <a:off x="2354400" y="2081160"/>
            <a:ext cx="6624360" cy="374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9920" y="4740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граничения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78960" y="103032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дрес целевой яч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3240" y="1747800"/>
            <a:ext cx="38160" cy="1052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6320" y="797040"/>
            <a:ext cx="31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риант оптимизации значения целевой яч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584680" y="1455840"/>
            <a:ext cx="408240" cy="93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76360"/>
            <a:ext cx="2200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дреса ячеек, значения которых изменяются в поиске решения (в которых хранятся значения парамет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8480" y="3168720"/>
            <a:ext cx="561960" cy="662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247760" y="4570560"/>
            <a:ext cx="1301760" cy="46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93800" y="4410000"/>
            <a:ext cx="228312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7680" y="5094360"/>
            <a:ext cx="86407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Нажмите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после заполнения всех полей. Вы снова вернетесь в диалоговое окно </a:t>
            </a:r>
            <a:r>
              <a:rPr b="0" i="1" lang="ru-RU" sz="2300" spc="-1" strike="noStrike">
                <a:solidFill>
                  <a:srgbClr val="ffffff"/>
                </a:solidFill>
                <a:latin typeface="Arial"/>
              </a:rPr>
              <a:t>Поиск решения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обавьте еще одно ограничени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35883" t="47489" r="16156" b="33157"/>
          <a:stretch/>
        </p:blipFill>
        <p:spPr>
          <a:xfrm>
            <a:off x="1344600" y="2646360"/>
            <a:ext cx="666288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7680" y="704880"/>
            <a:ext cx="86407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Для ввода ограничений щелкнуть по кнопке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Добавить,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оявится диалоговое окно, в котором необходимо задать соответствующие параметры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34895" t="30889" r="4384" b="23342"/>
          <a:stretch/>
        </p:blipFill>
        <p:spPr>
          <a:xfrm>
            <a:off x="1327320" y="1805040"/>
            <a:ext cx="6581520" cy="372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20840" y="566640"/>
            <a:ext cx="835632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се введенные ограничения появляются в соответствующем пол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000" y="5589720"/>
            <a:ext cx="561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Далее щелкните по кнопке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Выполнить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0080" y="130320"/>
            <a:ext cx="88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Получение результа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7160" y="1476360"/>
            <a:ext cx="864072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появившемся окне выберите пункт </a:t>
            </a:r>
            <a:r>
              <a:rPr b="0" i="1" lang="ru-RU" sz="2300" spc="-1" strike="noStrike">
                <a:solidFill>
                  <a:srgbClr val="ffffff"/>
                </a:solidFill>
                <a:latin typeface="Arial"/>
              </a:rPr>
              <a:t>Сохранить найденное решение.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Нажмите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i="1" lang="ru-RU" sz="23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6473" t="47439" r="10393" b="25805"/>
          <a:stretch/>
        </p:blipFill>
        <p:spPr>
          <a:xfrm>
            <a:off x="1117440" y="3060720"/>
            <a:ext cx="7059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902" t="19341" r="58505" b="54810"/>
          <a:stretch/>
        </p:blipFill>
        <p:spPr>
          <a:xfrm>
            <a:off x="1305000" y="1795320"/>
            <a:ext cx="6221160" cy="2971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47680" y="617400"/>
            <a:ext cx="864072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олучили решение: целевая функция достигает максимального значения 80 при значениях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 = 10, y = 60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160" y="5102280"/>
            <a:ext cx="86407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Следовательно, наибольшая выручка достигается предприятием при производстве 10 мотоциклов и 60 велосипедов в день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3520" y="934920"/>
            <a:ext cx="86090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фере управления сложными системами (например, в экономике) применяется оптимизационное моделирование, в процессе которого осуществляется поиск наиболее оптимального пути развития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итерием оптимальности могут быть различные параметры: максимальное количество выпускаемой продукции, ее низкая себестоимость.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Целев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4160" y="1295280"/>
            <a:ext cx="8616960" cy="53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сложных систем зависит от многих факторов (параметров). Выражением такой зависимости является целевая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= F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…,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ение целевого параме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…,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араметры, влияющие на развитие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 исследования – нахождение экстремума функции и определение значений параметров, при которых этот экстремум достиг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760" y="2743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Задачи линейного программиро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5680" y="2109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360" y="1581120"/>
            <a:ext cx="86439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евая функция может быть нелинейной, и тогда она имеет экстрему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нейная функция экстремумов не имеет.       Задача поиска оптимального решения приобретает смысл только при наличии определенных ограничений на параметры. Если эти ограничения также имеют линейный характер, то такие задачи называются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дачами линейного программ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4160" y="1149480"/>
            <a:ext cx="860580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fe9eb"/>
                </a:solidFill>
                <a:latin typeface="Arial"/>
              </a:rPr>
              <a:t>      </a:t>
            </a:r>
            <a:r>
              <a:rPr b="0" i="1" lang="ru-RU" sz="2300" spc="-1" strike="noStrike">
                <a:solidFill>
                  <a:srgbClr val="ffffff"/>
                </a:solidFill>
                <a:latin typeface="Arial"/>
              </a:rPr>
              <a:t>На некотором предприятии могут выпускать изделия двух видов (например, мотоциклы и велосипеды). В силу ограниченности возможностей сборочного цеха в нем могут собирать за день либо 25 мотоциклов (если не собирать вообще велосипеды), либо 100 велосипедов (если не собирать вообще мотоциклы), либо какую-нибудь комбинацию тех и других, определяемую приемлемыми трудозатратами. Склад может принять не более 70 изделий любого вида в сутки. Известно, что мотоцикл стоит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300" spc="-1" strike="noStrike">
                <a:solidFill>
                  <a:srgbClr val="ffffff"/>
                </a:solidFill>
                <a:latin typeface="Arial"/>
              </a:rPr>
              <a:t>в 2 раза дороже велосипеда. Требуется найти такой план выпуска продукции, который обеспечил бы предприятию наибольшую выручк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3840" y="227160"/>
            <a:ext cx="88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Задач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080" y="1530360"/>
            <a:ext cx="8640720" cy="57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fe9eb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бозначим число выпускаемых в день мотоциклов –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x,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елосипедов –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y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Пусть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– время (в часах), уходящее на производство одного мотоцикла, а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3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– одного велосипеда. По условию задачи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3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= 4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 Если завод работает круглосуточно, то при одновременном выпуске обоих издел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  <a:ea typeface="Arial"/>
              </a:rPr>
              <a:t>·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x +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  <a:ea typeface="Arial"/>
              </a:rPr>
              <a:t>·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y ≤ 24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  <a:ea typeface="Arial"/>
              </a:rPr>
              <a:t>·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x +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  <a:ea typeface="Arial"/>
              </a:rPr>
              <a:t>·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y ≤ 24,   4x + y ≤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- максимальное число производимых в день велосипедов, равное 100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840" y="247680"/>
            <a:ext cx="88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Построение математической модел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70040" y="5224320"/>
            <a:ext cx="331560" cy="824400"/>
            <a:chOff x="770040" y="5224320"/>
            <a:chExt cx="331560" cy="824400"/>
          </a:xfrm>
        </p:grpSpPr>
        <p:grpSp>
          <p:nvGrpSpPr>
            <p:cNvPr id="55" name=""/>
            <p:cNvGrpSpPr/>
            <p:nvPr/>
          </p:nvGrpSpPr>
          <p:grpSpPr>
            <a:xfrm>
              <a:off x="770040" y="5224320"/>
              <a:ext cx="331560" cy="824400"/>
              <a:chOff x="770040" y="5224320"/>
              <a:chExt cx="331560" cy="82440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770040" y="5224320"/>
                <a:ext cx="331560" cy="824400"/>
                <a:chOff x="770040" y="5224320"/>
                <a:chExt cx="331560" cy="8244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70040" y="5606640"/>
                  <a:ext cx="331560" cy="1800"/>
                </a:xfrm>
                <a:prstGeom prst="line">
                  <a:avLst/>
                </a:prstGeom>
                <a:ln w="12600">
                  <a:solidFill>
                    <a:srgbClr val="cfe9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972360" y="58352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90200" y="5224320"/>
                  <a:ext cx="30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" name=""/>
            <p:cNvSpPr/>
            <p:nvPr/>
          </p:nvSpPr>
          <p:spPr>
            <a:xfrm>
              <a:off x="857880" y="567036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459480" y="4265640"/>
            <a:ext cx="331560" cy="824400"/>
            <a:chOff x="6459480" y="4265640"/>
            <a:chExt cx="331560" cy="824400"/>
          </a:xfrm>
        </p:grpSpPr>
        <p:grpSp>
          <p:nvGrpSpPr>
            <p:cNvPr id="62" name=""/>
            <p:cNvGrpSpPr/>
            <p:nvPr/>
          </p:nvGrpSpPr>
          <p:grpSpPr>
            <a:xfrm>
              <a:off x="6459480" y="4265640"/>
              <a:ext cx="331560" cy="824400"/>
              <a:chOff x="6459480" y="4265640"/>
              <a:chExt cx="331560" cy="8244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6459480" y="4265640"/>
                <a:ext cx="331560" cy="824400"/>
                <a:chOff x="6459480" y="4265640"/>
                <a:chExt cx="331560" cy="82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459480" y="4647960"/>
                  <a:ext cx="331560" cy="1800"/>
                </a:xfrm>
                <a:prstGeom prst="line">
                  <a:avLst/>
                </a:prstGeom>
                <a:ln w="12600">
                  <a:solidFill>
                    <a:srgbClr val="cfe9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661800" y="48765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479640" y="4265640"/>
                  <a:ext cx="30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" name=""/>
            <p:cNvSpPr/>
            <p:nvPr/>
          </p:nvSpPr>
          <p:spPr>
            <a:xfrm>
              <a:off x="6547320" y="47113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00" y="2109960"/>
            <a:ext cx="8578800" cy="35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зможности производств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 услов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x + y ≤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одно условие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граниченная емкость скла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y ≤ 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1120" y="274680"/>
            <a:ext cx="88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Ограничения на параметр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4160" y="1873080"/>
            <a:ext cx="853416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fe9eb"/>
                </a:solidFill>
                <a:latin typeface="Arial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бозначим цену мотоцикла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уб.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, цену велосипеда –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уб.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 По условию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= 2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бщая цена дневной продукци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 = a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·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x + a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·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y = 2a</a:t>
            </a:r>
            <a:r>
              <a:rPr b="0" lang="ru-RU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·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x + a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·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y=a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·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(2x + y)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Так как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заданная положительная константа, то наибольшего значения следует добиваться от величин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f = 2x + y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Это  и будет </a:t>
            </a:r>
            <a:r>
              <a:rPr b="1" i="1" lang="ru-RU" sz="2300" spc="-1" strike="noStrike">
                <a:solidFill>
                  <a:srgbClr val="ffffff"/>
                </a:solidFill>
                <a:latin typeface="Arial"/>
              </a:rPr>
              <a:t>целевая функция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1120" y="274680"/>
            <a:ext cx="88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Определение целевой функ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1120" y="439560"/>
            <a:ext cx="88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Математическая модель решения задач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280" y="1865160"/>
            <a:ext cx="865044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fe9eb"/>
                </a:solidFill>
                <a:latin typeface="Arial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реди неотрицательных целочисленных решений системы линейных неравен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найти такое, которое соответствует максимуму линейной фун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 = 2x + y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22480" y="2922480"/>
            <a:ext cx="1590120" cy="852120"/>
            <a:chOff x="3822480" y="2922480"/>
            <a:chExt cx="1590120" cy="852120"/>
          </a:xfrm>
        </p:grpSpPr>
        <p:sp>
          <p:nvSpPr>
            <p:cNvPr id="75" name=""/>
            <p:cNvSpPr/>
            <p:nvPr/>
          </p:nvSpPr>
          <p:spPr>
            <a:xfrm>
              <a:off x="3822480" y="3423960"/>
              <a:ext cx="145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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2480" y="3184560"/>
              <a:ext cx="145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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22480" y="2943000"/>
              <a:ext cx="145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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92520" y="335412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77800" y="3354120"/>
              <a:ext cx="17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62440" y="292248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52400" y="30258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28680" y="338616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7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84440" y="33861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3080" y="33861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73040" y="2954160"/>
              <a:ext cx="439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54360" y="29541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38040" y="295416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4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09:46:45Z</dcterms:created>
  <dc:creator>РМУ</dc:creator>
  <dc:description/>
  <dc:language>en-US</dc:language>
  <cp:lastModifiedBy>гимназия №1</cp:lastModifiedBy>
  <dcterms:modified xsi:type="dcterms:W3CDTF">2007-03-20T16:50:59Z</dcterms:modified>
  <cp:revision>12</cp:revision>
  <dc:subject/>
  <dc:title>Слайд 1</dc:title>
</cp:coreProperties>
</file>