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CE5-0B59-4E96-8C10-E074F636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2BE-545D-4FC7-920F-D01C80D1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F461-5008-4F1A-812E-6E70447A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B7D0-B6A1-424A-B8DE-534321BB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9AD3-8BB1-42F3-82AF-0049A397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3C88-F956-4AE4-B24C-04BF48D5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5A68-DB67-416F-AE41-FA3E6BE8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F14-5616-4336-95C6-B0E17D32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2D9-C4BA-4109-9F17-6035AA4A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DE75-B97F-4742-9428-A784741C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23F-3061-4051-B391-B4A0D0DB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42F-6CA3-4FFA-AFC2-76CF1F86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F12D-B5B3-465C-AADA-3C589F9364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43280" y="0"/>
            <a:ext cx="45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к-музей имени А. К. Толстого — один из интереснейших парков города Брянска и России. Благодаря уникальной коллекции деревянных скульптур, является не только местом отдыха, но и одной из важнейших городских достопримечательностей. В 1982 году парк-музей им. А. К. Толстого был занесен в книгу «Парки мир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0_1b7ea_3dd9ada1_XL"/>
          <p:cNvPicPr/>
          <p:nvPr/>
        </p:nvPicPr>
        <p:blipFill>
          <a:blip r:embed="rId1"/>
          <a:stretch/>
        </p:blipFill>
        <p:spPr>
          <a:xfrm>
            <a:off x="0" y="0"/>
            <a:ext cx="4640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0_1bc03_bf2966cf_XL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7380360" y="47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сн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untitled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7380360" y="69228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м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8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5512680" y="623736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янская Мадо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untitled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7383240" y="333360"/>
            <a:ext cx="150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ыб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малыш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pic15249190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56400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до - мель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b_B6A2D355F4D3ED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6300720" y="5950080"/>
            <a:ext cx="25401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удо -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н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0:32:47Z</dcterms:created>
  <dc:creator>User</dc:creator>
  <dc:description/>
  <dc:language>en-US</dc:language>
  <cp:lastModifiedBy>User</cp:lastModifiedBy>
  <dcterms:modified xsi:type="dcterms:W3CDTF">2012-11-11T23:21:44Z</dcterms:modified>
  <cp:revision>8</cp:revision>
  <dc:subject/>
  <dc:title>Слайд 1</dc:title>
</cp:coreProperties>
</file>