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4BA3-B835-49D5-98F1-7F5C08371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34A5-BBDA-4950-9172-49F2EBC2B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7BC9-DEB0-459E-B9D3-CC4A6C8BD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906B-0B8C-42E7-B8FA-99EC6946F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BD8B-7762-459E-93E9-C929BECC2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1F5E-5B3C-446A-8636-BE4E4D051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DA65-4B74-46FC-A9DE-97D61CFBC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75B5-9520-4941-A5D5-D08E31891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D512-1E68-4709-8BD0-9759D8062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01A1-037C-456C-AA0D-CE40E560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B09F-BA2C-4572-A4D5-EABEE51F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D1D1-2E1C-4A21-BE1B-AB805B0F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34817-F02D-43C5-8E16-EE5C2B4F1C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untitl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untitled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562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7458840" y="692280"/>
            <a:ext cx="12002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ка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untitled"/>
          <p:cNvPicPr/>
          <p:nvPr/>
        </p:nvPicPr>
        <p:blipFill>
          <a:blip r:embed="rId1"/>
          <a:stretch/>
        </p:blipFill>
        <p:spPr>
          <a:xfrm>
            <a:off x="0" y="-66600"/>
            <a:ext cx="9325080" cy="6991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7458480" y="907920"/>
            <a:ext cx="168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еклоду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20:32:47Z</dcterms:created>
  <dc:creator>User</dc:creator>
  <dc:description/>
  <dc:language>en-US</dc:language>
  <cp:lastModifiedBy>User</cp:lastModifiedBy>
  <dcterms:modified xsi:type="dcterms:W3CDTF">2012-11-11T23:28:46Z</dcterms:modified>
  <cp:revision>9</cp:revision>
  <dc:subject/>
  <dc:title>Слайд 1</dc:title>
</cp:coreProperties>
</file>