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A2D-B8E5-4012-BB1B-D9FAC1F3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F39-56C3-46CF-86A3-719A5F9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2D7-C5F6-4ECD-84A9-D489570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99C-0FD5-445E-84E1-D188C588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526-5FC6-4B7D-922A-89E4C7C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943-4F87-4880-939E-708539B1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166-46BA-4B07-B2A3-1C5A370A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EF9-D698-456C-9BBD-8EDD87E3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480-D200-4D1B-9F24-973C8518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288-4E0C-48F5-BE06-5413BC4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04B-4A2F-4EE2-993A-EC2DECA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5CF-BF48-48F2-908A-5689509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03E6-9381-4B3F-BD23-2016ED1C2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ntitl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untitl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238160" y="4762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а -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310520" y="549360"/>
            <a:ext cx="15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я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32:47Z</dcterms:created>
  <dc:creator>User</dc:creator>
  <dc:description/>
  <dc:language>en-US</dc:language>
  <cp:lastModifiedBy>User</cp:lastModifiedBy>
  <dcterms:modified xsi:type="dcterms:W3CDTF">2012-11-11T23:32:20Z</dcterms:modified>
  <cp:revision>7</cp:revision>
  <dc:subject/>
  <dc:title>Слайд 1</dc:title>
</cp:coreProperties>
</file>