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753-60F4-4D64-9BED-24E19E26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D2C-013B-4309-AF25-947DCB1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E51-F3F0-43B4-9172-42408182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E27-C603-43D3-93AC-42FDCAE5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DDB-0138-41BC-A044-C0BBD9C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0D9-A999-47AC-ABD2-65526B0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C02-CB21-4CDA-8EB9-4943ED16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E31-1DB8-4B57-98FC-DA643B2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3AE-6B68-4E2F-99A1-014807C9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F6A-F92D-4AF5-A111-D31B7A7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964-9CF9-4EBC-B214-FF2F3F6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DA3-6862-4709-8B72-2E6C29B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22E3-770F-4AF2-8541-757194B99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ntitled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untitl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075080" y="42372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206480" y="42372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7165080" y="547560"/>
            <a:ext cx="15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я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77320" cy="673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32:47Z</dcterms:created>
  <dc:creator>User</dc:creator>
  <dc:description/>
  <dc:language>en-US</dc:language>
  <cp:lastModifiedBy>User</cp:lastModifiedBy>
  <dcterms:modified xsi:type="dcterms:W3CDTF">2012-11-11T23:37:40Z</dcterms:modified>
  <cp:revision>6</cp:revision>
  <dc:subject/>
  <dc:title>Слайд 1</dc:title>
</cp:coreProperties>
</file>