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DCA-3849-4195-9817-4319A100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CED-296E-463C-8A83-F2203533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F30-941C-4FC4-ACCA-B4D9D0F5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A18-DAD6-43CC-A270-C9740165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F1C-7FE8-4037-B4CB-C8605AB4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E89-915B-464B-9ABE-ABC06AD7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2DC-AD6E-4A3A-9B08-A9B91B10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453-2D68-4FBD-A577-E53AE5F1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AE1-EF6E-4182-8745-5143FE41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165-A021-41B4-AFE1-42CC9464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FF0-C761-491F-90C0-1753B55F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91E-6E41-45BF-A6A4-5BD9B807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124-137A-4A3B-8F87-D3ECFEF7E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361280" y="42372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зь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у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7650720" y="4237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6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SC00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826920" y="4508640"/>
            <a:ext cx="58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 презент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БОУ "СОШ № 64" г. Брянс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мина Т. 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32:47Z</dcterms:created>
  <dc:creator>User</dc:creator>
  <dc:description/>
  <dc:language>en-US</dc:language>
  <cp:lastModifiedBy>User</cp:lastModifiedBy>
  <dcterms:modified xsi:type="dcterms:W3CDTF">2012-11-11T23:39:47Z</dcterms:modified>
  <cp:revision>5</cp:revision>
  <dc:subject/>
  <dc:title>Слайд 1</dc:title>
</cp:coreProperties>
</file>