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F3E-7D49-4AAF-AF5F-CE59CCBB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F3F-8ACA-4134-B876-F742AD4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D44-83F5-4DE2-A7F2-794C8F8B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F3A-56F0-42AB-A0F6-B74E5CC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E4A11-E80E-441E-AE04-F2E97D4A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7AC5-6841-4934-8675-C1F0D44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A116-7F47-448A-BEB4-A86489A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5D58-C61A-4E38-B61D-A689C959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8C4B-4EB3-48A8-ABC9-6199C09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0EBD-0415-493A-BFE8-E0DA78D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3FA83-9D73-40CC-94F3-62C22B3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B1B-C84D-4E3E-8389-0662AB8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969A5-FA55-4350-B9B8-2D8E779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2AE60-669B-4045-BA61-90C19944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9F0C5-C907-4E29-A28C-50002F25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FF4D4-19B9-4A3B-A2D4-6D5B4D74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BE88C-29ED-43E6-B245-38F77BE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4AC8-C8AC-4105-8426-C6A9150A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7F03-251C-426A-A298-55E7B69F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B01C-54D2-4CF5-B89C-05AAD30E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3D84-843D-4CB3-8BDF-381F8398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AF69-EAC2-430F-91B8-D3F000D0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35E-C6F8-4ED5-BD51-CC28A0FF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F796-481F-4A21-835D-09FA0BD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2A33-AE38-42E8-8FF9-9BA038A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751C-F7B9-42C7-AD1C-77C9BA6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4B81-8AC9-4AFA-8470-AD3C8DB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B726-0458-47C3-A0FB-9A8CDC12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0BCE-F09C-4FC5-8685-ADB4E7F7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198C-26A1-44DE-A93A-700BD30B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D4C-F65C-4157-9CBB-6645BE5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573-B239-457C-B4E5-7AE45B4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0ED-3898-4470-B2A6-49009F68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711-92B0-4ED4-B452-5C06A36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418-3111-4517-A8A5-63AE12B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A48-5F88-404E-B7BF-D5F5206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7BF-74AE-44EF-8268-8C56FAE1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4B6C-A75F-446E-B950-822E331C3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9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DAB1-006A-45DC-98EE-16983E34F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292929"/>
                </a:solidFill>
                <a:latin typeface="Monotype Corsiva"/>
              </a:rPr>
              <a:t>Урок по астрономии «Строение солнечной системы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nga"/>
              </a:rPr>
              <a:t>Учитель: Бабенкова З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unga"/>
              </a:rPr>
              <a:t>МОУ «Румянцевская СОШ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ff"/>
                </a:solidFill>
                <a:latin typeface="Monotype Corsiva"/>
              </a:rPr>
              <a:t>Сатур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са- 95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од вращ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ч 37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-17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мосфера-94% 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% 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спутников-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438156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0000"/>
                </a:solidFill>
                <a:latin typeface="Monotype Corsiva"/>
              </a:rPr>
              <a:t>Ура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Масса- 14,6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Период вращен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7 ч 14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Температура—2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Атмосфера-83% 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5%Не,2% ме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Число спутников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172120" y="1484280"/>
            <a:ext cx="3720960" cy="4216320"/>
          </a:xfrm>
          <a:prstGeom prst="rect">
            <a:avLst/>
          </a:prstGeom>
          <a:ln w="0">
            <a:noFill/>
          </a:ln>
        </p:spPr>
      </p:pic>
    </p:spTree>
  </p:cSld>
  <p:transition advTm="1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00"/>
                </a:solidFill>
                <a:latin typeface="Monotype Corsiva"/>
              </a:rPr>
              <a:t>Непту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Масса-17,7 масс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Период вращения-16ч 07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Температура—2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Атмосфера-84%Н,15% Не,1%ме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Число спутников-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816360" cy="24494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572000" y="1413000"/>
            <a:ext cx="4103640" cy="25207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Monotype Corsiva"/>
              </a:rPr>
              <a:t>Плуто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а-0,0022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- -2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од вращ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7,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планета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терои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</a:rPr>
              <a:t>Закончит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ланета,суточный перепад темпера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верхности которой составляет 100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ланета,в атмосфере которой часто пр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исходят пылевые бури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ланета,обладающая биосферой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актически не имеют атмосферы план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ы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Monotype Corsiva"/>
              </a:rPr>
              <a:t>Солнечная сист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89960" cy="461484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84728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66"/>
                </a:solidFill>
                <a:latin typeface="Monotype Corsiva"/>
              </a:rPr>
              <a:t>Планеты земной групп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1189080" y="3716280"/>
            <a:ext cx="12241080" cy="830124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3300"/>
                </a:solidFill>
                <a:latin typeface="Monotype Corsiva"/>
              </a:rPr>
              <a:t>Меркурий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Масса-0,055 м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Период вращени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58,8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емпература-днем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+430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-170 ноч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6"/>
          <a:stretch/>
        </p:blipFill>
        <p:spPr>
          <a:xfrm>
            <a:off x="4500720" y="1484280"/>
            <a:ext cx="450036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17080" cy="1332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ff"/>
                </a:solidFill>
                <a:latin typeface="Monotype Corsiva"/>
              </a:rPr>
              <a:t>Вене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3898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Масса -0,816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Период вращ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43 с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Температура- + 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Атмосфера-96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углекислого газ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,5 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70520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8000"/>
                </a:solidFill>
                <a:latin typeface="Monotype Corsiva"/>
              </a:rPr>
              <a:t>Земл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асса – 1(в ма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ериод вращени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23ч 5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тмосфера- 78% азота,21 % кислоро-д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исло спутников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Температура-+60-+17,-80 ноч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435640" y="4149720"/>
            <a:ext cx="2449440" cy="1762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824200" cy="211752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hruti"/>
              </a:rPr>
              <a:t>МА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ериод вращения 24 ч37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тмосфера-95%углекислого газа,2,5%аз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асса-0,107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мпература-+15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60,-120 ноч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 спутника-Фобос,Дей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4572000" y="393336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4105440" cy="28080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2233800" cy="22323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6877080" y="3860640"/>
            <a:ext cx="1727280" cy="2232360"/>
          </a:xfrm>
          <a:prstGeom prst="rect">
            <a:avLst/>
          </a:prstGeom>
          <a:ln w="0">
            <a:noFill/>
          </a:ln>
        </p:spPr>
      </p:pic>
    </p:spTree>
  </p:cSld>
  <p:transition advTm="14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971640" y="404640"/>
            <a:ext cx="6638760" cy="111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ланеты-гиганты</a:t>
            </a:r>
            <a:endParaRPr b="1" lang="en-US" sz="7200" spc="1" strike="noStrike">
              <a:ln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408720" cy="57326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Monotype Corsiva"/>
              </a:rPr>
              <a:t>Юпит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Масса-318 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Период вращен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9 ч 3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тмосфера-89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водо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1 % г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Число спутников-63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5:13:05Z</dcterms:created>
  <dc:creator>User</dc:creator>
  <dc:description/>
  <dc:language>en-US</dc:language>
  <cp:lastModifiedBy>спец</cp:lastModifiedBy>
  <dcterms:modified xsi:type="dcterms:W3CDTF">2008-10-16T10:31:01Z</dcterms:modified>
  <cp:revision>14</cp:revision>
  <dc:subject/>
  <dc:title>Планеты земной группы</dc:title>
</cp:coreProperties>
</file>