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DD1-D559-4DAD-8BAD-53298143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032-FB6A-465F-A656-20E1687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C57-73A0-43B0-B18B-8F04D61A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EA1-1C42-415E-98D5-A96D2EBD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5E7-561B-49A2-A897-B6EF222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214-041A-4A5A-A4CF-3D850DB7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3CC-64EA-4190-A9FE-1408EC4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DF9-3092-4291-913E-0B2CA013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860-6A6F-419F-8EF0-F8F0654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F0F-C48B-49DD-9EE5-D53BE40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EAB-FC76-4FA8-A551-50E8713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30A-9B33-4588-A0A7-EFBF575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2CB8-22B9-42E4-AAC7-9F9B9EB03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аринные русские ме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*50 копеек = 100 копе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388620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95320" y="6854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 пала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495320" y="16002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невной рацион для поросен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офель 10 фунтов, свекла – 2 фу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упай овощей на три дня, если д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та картофеля стоят гривенник,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т свеклы – алты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фунта картофеля = 1 коп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фунтов картофеля = 5*2 фунта = 5 копе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фунт свеклы = алт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фунта свеклы = 2 алтына = 6 копе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копеек + 6 копеек = 11 копеек – днев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*11 копеек = 33 копейки – на 3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Из числа всей ее (барыни) челяди самым замечательным лицом был дворник Герасим, мужчина двенадцати вершков роста, сложенный богатырем и глухонемой от рождения» – так описывает И.С. Тургенев своего героя в начале рассказа «Муму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старину рост человека определялся 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ршках свыше обязательных д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рмального человека 2 аршин (1,42 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вестно, что 1 вершок приблизите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вен 4,45 см, таким образом, р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расима в "Муму" достигал 1,95 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Пользователь\Рабочий стол\0012-012-Starinnye-mery-dliny-mozhno-vstretit-v-proizvedenijakh-russkikh-poetov-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аблица старинных мер в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ст = 72 пудам = 1,2 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дь = 14 пудам = 230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ковец = 10 пудам = 1,64 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д = 40 фунтам = 16  безменам = 16,38 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т =96 золотникам = 409,5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олотник = 4,3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аблица старинных мер дл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ля = 1600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ста = 500 саженям = 1,07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жень = 3 аршинам = 7 футам = 2,13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шин =4 четвертям = 16 вершкам = 28 дюй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71,12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йм = 10 линиям = 2,54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я = 10 точкам = 2,54 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609480"/>
            <a:ext cx="3733920" cy="5516640"/>
            <a:chOff x="457200" y="609480"/>
            <a:chExt cx="3733920" cy="5516640"/>
          </a:xfrm>
        </p:grpSpPr>
        <p:pic>
          <p:nvPicPr>
            <p:cNvPr id="47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457200" y="609480"/>
              <a:ext cx="373392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457200" y="609480"/>
              <a:ext cx="373392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19720" y="1600200"/>
            <a:ext cx="4114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431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блица старинных денежных един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бль = 2 полт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тина = 50 копей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ятиалтынный = 15 копей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тын = 3 копей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ивенник = 10 копейкам 2 деньги =1копей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ош = 0,5 копей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шка = 0,25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795480" cy="5791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 пала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419720" y="12193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ется зоосад: 2 цыпленка, 5 гу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ыплено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пятиалты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с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тина с алты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пятиалтынных = 3*15 копеек = 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пе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тина с алтыном = 50+3 копейки = 53 копей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*45 копеек + 5*53 копейки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= 90 копеек + 265 копеек = 355 копе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4280" y="6858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 пала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724280" y="152388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нашем краю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овно в раю: рябину, грибы корзиной бери. Кладу на весы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та еды. Покупай грибы. За фунт плати полти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2-04-24T17:39:16Z</dcterms:modified>
  <cp:revision>9</cp:revision>
  <dc:subject/>
  <dc:title>Название презентации</dc:title>
</cp:coreProperties>
</file>