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FF83-76C6-4CBE-A878-00A7CFC8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2D1C-7F7A-4775-9693-A7C3854F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98E9A-90F9-4F09-B529-2DABA5D9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D09C-DB00-4DF9-BBE7-11FF5EF2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6150-E876-43C9-A535-64DA9FF6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73BD-F842-48EB-A15E-7D4FEC58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F6B4-1004-4312-97D4-31E8CAC2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C913-39D4-432A-AECD-CB85EC08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6420-E1A6-4C56-B013-10BF9DF2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8E4E-9962-4B5A-9866-0F852237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F763-D33A-45D3-B915-A1239786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C343-7CBB-484E-82BE-1176EB68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64B9-6457-48C5-B866-04CB5B5F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5704-6835-4ECE-B8D2-FCDF5668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5FC6-3514-4014-8A43-5DF2780F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02F9-4CA6-4AA8-BAD1-A07E65BA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DD92-B73F-480F-895D-A5C5C281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81C7-673B-43BD-A6B5-A97AEB31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EB92-AD22-40D7-8EAC-5542C0E3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1D21-6643-4C5B-B0B4-8551B55E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A38C-18CA-4C8F-A549-D193900C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EA49-47E0-4566-8EBB-57C79DDF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0D44-C1E9-48FA-882C-3829B4A8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869F-709E-44FA-9233-EE862CBB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65E2-2890-4A61-9C05-B74C41DD2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696B-6C39-44BA-A9B2-A2FBAA664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rsa@gst-amur.ru" TargetMode="External"/><Relationship Id="rId2" Type="http://schemas.openxmlformats.org/officeDocument/2006/relationships/hyperlink" Target="mailto:soa@gst-amur.ru" TargetMode="External"/><Relationship Id="rId3" Type="http://schemas.openxmlformats.org/officeDocument/2006/relationships/hyperlink" Target="http://www.panaboard.ru/" TargetMode="External"/><Relationship Id="rId4" Type="http://schemas.openxmlformats.org/officeDocument/2006/relationships/hyperlink" Target="http://www.pebstudio.ru/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ани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S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артне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длагает современное комплексное решение для образовательных учрежден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ффективный, интересный, занимательный обучающ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1485720" cy="704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29163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плексное 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3933360"/>
            <a:ext cx="8075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мплект входят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активная доска multitou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soni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ный универсальный проекто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функциональная документ-кам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Интерактивная электронная доска Panasonic  UB-T580G"/>
          <p:cNvPicPr/>
          <p:nvPr/>
        </p:nvPicPr>
        <p:blipFill>
          <a:blip r:embed="rId1"/>
          <a:stretch/>
        </p:blipFill>
        <p:spPr>
          <a:xfrm>
            <a:off x="0" y="1413000"/>
            <a:ext cx="3546360" cy="25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Epson EB-93"/>
          <p:cNvPicPr/>
          <p:nvPr/>
        </p:nvPicPr>
        <p:blipFill>
          <a:blip r:embed="rId2"/>
          <a:stretch/>
        </p:blipFill>
        <p:spPr>
          <a:xfrm>
            <a:off x="3276720" y="1844640"/>
            <a:ext cx="273528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Документ-камера (ELPDC11)"/>
          <p:cNvPicPr/>
          <p:nvPr/>
        </p:nvPicPr>
        <p:blipFill>
          <a:blip r:embed="rId3"/>
          <a:stretch/>
        </p:blipFill>
        <p:spPr>
          <a:xfrm>
            <a:off x="6300720" y="148428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020000" y="5116680"/>
            <a:ext cx="212400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чему мы выбрали для Вас именно это 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ртативность комплект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нимает минимум места, комплект компактен и мобилен, что позволяет переносить как весь комплект, так отдельные его устройства из класса в клас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стота и экономичность в использовании  устройст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Доступная це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ый комфорт для глаз при просмот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4495680"/>
            <a:ext cx="29163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 интерактивных досок multitou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soni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ет возможность одновременно работать на доске нескольких челов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щать объекты как рукой так и стилус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стота в использовании программного обеспечения – больше функций и возмож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алерея изображен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включающая в себя обучающие плакаты, изображения по разным темам школьных предметов. Теперь не нужно тратить время на поиск необходимых иллюстраций!!!!!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опитание по USB-шине от П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лая толщина доски — 80 м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227640" y="4495680"/>
            <a:ext cx="2916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имущества проекторо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зможность просмотра фотографий, изображений напрямую с USB устройств накопления да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втоматическая коррекция вертикальных трапецеидальных искаж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ецирование изображения с максимально близкого расположения к доске: от 10 см 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оздает теней на экране, не слепит докладч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27640" y="4495680"/>
            <a:ext cx="2916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документ-камера?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устройство, которое моментально передает на экран изображение документа или предмета в зоне охвата камер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е подключение к проектору  E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 головки камеры на 90 градусов по горизонтали и вертик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ое распознавание соотношения сторон изображения и точное заполнение экрана при работе с проекторами Ep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изация изображения из микроскопа с помощью адаптера, входящего в компл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яя память – 1Г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ь сканирования до формата A3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32720" y="4724280"/>
            <a:ext cx="1871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а компл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557360"/>
          <a:ext cx="8507520" cy="4206960"/>
        </p:xfrm>
        <a:graphic>
          <a:graphicData uri="http://schemas.openxmlformats.org/drawingml/2006/table">
            <a:tbl>
              <a:tblPr/>
              <a:tblGrid>
                <a:gridCol w="501480"/>
                <a:gridCol w="5268960"/>
                <a:gridCol w="1440000"/>
                <a:gridCol w="1297080"/>
              </a:tblGrid>
              <a:tr h="158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терактивная доска Elite Panaboard UB-T58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(диагональ 77", 117х158см, мультитач, распознает 2 касания, инфракрасная технология,  управление пальцем,  USB, программное обеспечение Elite Panaboard Software и Elite Panaboard book на русском язык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5 000 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8 859 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льтимедиа проектор Epson EB-X1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(XGA 1024х768,  2800 ANSI, 3 000:1, автоматическая коррекция вертикальных трапецеидальных искажений, возможность просмотра изображений напрямую с USB носителей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 600 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кумент-камера Epson DC-1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(5M пиксел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автоматический баланс белого, подстветка, автоматический фокус, светосила объектива F=2.8, частота кадров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встроенная память 1Г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 700 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8360" y="5229360"/>
            <a:ext cx="219564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удовольствием ответим на ваши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133720"/>
            <a:ext cx="7991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(4162) 23-76-76, 37-56-56, 37-56-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rsa@gst-amur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умеев Серг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.204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soa@gst-amur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ыкова Олеся  (доб.20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usatov-gst@mail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Усатов Миха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4365720"/>
            <a:ext cx="80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ую информацию о товаре Вы можете узнать на сай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www.panaboard.ru</a:t>
            </a:r>
            <a:br>
              <a:rPr sz="1800"/>
            </a:b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ww.pebstudio.ru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227640" y="4495680"/>
            <a:ext cx="2916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01:59:10Z</dcterms:created>
  <dc:creator>soa</dc:creator>
  <dc:description/>
  <dc:language>en-US</dc:language>
  <cp:lastModifiedBy>iii</cp:lastModifiedBy>
  <dcterms:modified xsi:type="dcterms:W3CDTF">2012-10-15T23:51:18Z</dcterms:modified>
  <cp:revision>14</cp:revision>
  <dc:subject/>
  <dc:title>Слайд 1</dc:title>
</cp:coreProperties>
</file>