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040C-C0BB-4BA0-9217-D9CF4592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8DA9-7440-4CDA-A69D-C61F1834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288A-DD63-4687-970D-E64FC617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F81F-2625-4BD4-83A1-1D6DC3CF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E76A-35B9-4F0C-A71E-BEE6B452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1558-AD55-4239-ACFE-8A007237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C3F0-9B1B-4E4F-8189-A39B1697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853E-F65D-4FB0-A2EA-6AC1FAF4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83A6-7B15-46C1-8763-4024CE43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8E94-6E90-4D34-B831-9E4AD5C5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EEF0-4B9D-44BE-AAAA-DF3C7FA9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7B78-D84B-4B7D-B981-7A7F0A4C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5034-0F67-4C4A-BD4D-384C2DED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6AC9-5487-48F2-97AD-009839E9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1001-9E65-4C89-8053-2DF090AB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A492-3AE7-4A39-A948-2A223DD3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4C87-1BDF-4E13-867D-C39841E0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81F6-3EBA-418A-8E18-34811802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7CB-B17A-401C-ACC1-456AF145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CC8-0059-4AEE-9D6A-D235CF53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24CB-56C8-42E3-AE85-0F855FE8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CD5-8C22-4765-BED0-AFC7D0AC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C537-4FB1-4131-B602-AFE5992B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C257-D089-4051-B7E8-5BE2BFF6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51CB-067D-4310-BC12-221D96871A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D388-CC53-4886-B73B-8581A2846B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t is the most intense mode of individualism that the world has know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Wilde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ords and express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der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do one’s own ed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e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k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olen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dma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Sherlok Holme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e Baskerville Do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task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Choose the right var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Answer the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Express your opi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t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lco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tain c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heat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e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ror mov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nema-go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il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inem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o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omp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z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n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 of 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u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e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chit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culptu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dr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a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ll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t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 of 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dsc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aint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691920"/>
            <a:ext cx="771516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ge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Literatu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2879640" cy="2208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916360" y="2276640"/>
            <a:ext cx="3168360" cy="2860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580000" y="2924280"/>
            <a:ext cx="273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27640" y="260280"/>
            <a:ext cx="4535280" cy="5222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4762440" cy="3097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24000" y="476280"/>
            <a:ext cx="3744720" cy="201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6:40:21Z</dcterms:created>
  <dc:creator>JOKER</dc:creator>
  <dc:description/>
  <dc:language>en-US</dc:language>
  <cp:lastModifiedBy>JOKER</cp:lastModifiedBy>
  <dcterms:modified xsi:type="dcterms:W3CDTF">2012-02-21T16:06:42Z</dcterms:modified>
  <cp:revision>6</cp:revision>
  <dc:subject/>
  <dc:title>Слайд 1</dc:title>
</cp:coreProperties>
</file>