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100-E8B7-4C9A-99D8-C82D9F25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260-A4CF-49FA-9CA3-5F98D0DA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3FD-4451-4DB1-80C3-D6C9FA3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331-AD0D-48E0-AEE9-283201AB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941-0950-4A1D-8BF7-8EC552E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EB88-638F-461F-9D29-73800B17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E2F8-6370-4FBE-83A2-40685EC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BE1-DCE2-48B7-A612-F3C06C7D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7308-73BA-4D23-BAA0-60AFA2C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C22-1BDF-44B1-A4B9-F8DC9EA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4F8F-61B3-4797-8255-3ADD625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EB4-419A-4F66-815B-17D489E1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2F3C-6FFF-4A30-B746-C93A090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517-A246-402B-BF57-4208B5D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3D9E-63F0-4CF9-BB1C-5D06C46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9C7A-A2AD-4699-9A13-6FA7DA83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048F-49C6-46BE-851A-85A90569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347-9CFE-4B75-A12D-BB1A9AA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53F-B517-414A-9027-CB41EF6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597-7F75-4691-A27E-1FBCCD26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893-D435-4FE9-B00E-98B2789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304-495D-4931-B192-0F6F0077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7A0-5A8F-4D8D-B4FC-45E3EA3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F16-24F5-438C-A7B6-E993005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2C58-3A28-4301-ACFF-36599FE85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421-288F-4765-9624-77A8186DF6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250920" y="620640"/>
            <a:ext cx="84294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по физике-7 класс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: Плотность веще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работка учителя физики МОУ СОШ №20 Варданян Н.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755640" y="2276640"/>
            <a:ext cx="8388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06056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 Организационный мо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ка домашнего зад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  Фронтальный опр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 Изуч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  Закрепление. Работа с карточ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  Итоги урока. Домашнее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06056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2. Проверка домашнего задания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является причиной изменения скорости те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какого из двух взаимодействующих тел изменится после взаимодействия больше? Меньш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ом случае скорости обоих тел после взаимодействия изменятся одинако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единицу массы. Где и как хранится эталон масс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другие единицы массы вы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68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Думай быстр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Физическая велич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Физическое тел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Вещ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Физическое я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Раздел физ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Единица измер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Профессия, имеюща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е к физ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643280" y="2276640"/>
            <a:ext cx="1314720" cy="94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molni"/>
          <p:cNvPicPr/>
          <p:nvPr/>
        </p:nvPicPr>
        <p:blipFill>
          <a:blip r:embed="rId1"/>
          <a:stretch/>
        </p:blipFill>
        <p:spPr>
          <a:xfrm>
            <a:off x="250920" y="0"/>
            <a:ext cx="2808360" cy="170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аист"/>
          <p:cNvPicPr/>
          <p:nvPr/>
        </p:nvPicPr>
        <p:blipFill>
          <a:blip r:embed="rId2"/>
          <a:stretch/>
        </p:blipFill>
        <p:spPr>
          <a:xfrm>
            <a:off x="6227640" y="4365720"/>
            <a:ext cx="25923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468360" y="0"/>
            <a:ext cx="5688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тность веще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042920" y="1340280"/>
            <a:ext cx="744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ЛОТНОСТЬ (</a:t>
            </a:r>
            <a:r>
              <a:rPr b="1" i="1" lang="ru-RU" sz="20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калярная физическая величина, равная для однородного вещества отношению массы тела к его объ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Единицей плотности в СИ является килограмм на кубический метр (кг/м</a:t>
            </a:r>
            <a:r>
              <a:rPr b="0" lang="ru-RU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4" descr="resDCD92022-75AD-464E-8160-A663AAF00679"/>
          <p:cNvPicPr/>
          <p:nvPr/>
        </p:nvPicPr>
        <p:blipFill>
          <a:blip r:embed="rId1"/>
          <a:stretch/>
        </p:blipFill>
        <p:spPr>
          <a:xfrm>
            <a:off x="5796000" y="3903840"/>
            <a:ext cx="3348000" cy="2954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6"/>
          <p:cNvSpPr/>
          <p:nvPr/>
        </p:nvSpPr>
        <p:spPr>
          <a:xfrm>
            <a:off x="6523560" y="4042800"/>
            <a:ext cx="195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Тела равного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объем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9" descr="res188FD948-117A-49BF-B6DA-63DD99111DA4"/>
          <p:cNvPicPr/>
          <p:nvPr/>
        </p:nvPicPr>
        <p:blipFill>
          <a:blip r:embed="rId2"/>
          <a:stretch/>
        </p:blipFill>
        <p:spPr>
          <a:xfrm>
            <a:off x="0" y="3930480"/>
            <a:ext cx="3348000" cy="2927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/>
          <p:cNvSpPr/>
          <p:nvPr/>
        </p:nvSpPr>
        <p:spPr>
          <a:xfrm>
            <a:off x="1339560" y="4187160"/>
            <a:ext cx="178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Тела равной м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3348000" y="386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ρ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7020000" y="333360"/>
            <a:ext cx="21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3419640" y="508464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34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 плотность измеряют   _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_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ем правило перевода из одной размерности плотности в друг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.к.  1г = 0,001 кг, а 1 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0,00000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 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г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0,001кг____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 1000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кг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0,000001м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543564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 Black"/>
              </a:rPr>
              <a:t>Одно и то же вещество в различных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ffffb7"/>
                </a:solidFill>
                <a:latin typeface="Arial Black"/>
              </a:rPr>
              <a:t> состояниях имеет различную плотность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6" descr="Ледники"/>
          <p:cNvPicPr/>
          <p:nvPr/>
        </p:nvPicPr>
        <p:blipFill>
          <a:blip r:embed="rId1"/>
          <a:stretch/>
        </p:blipFill>
        <p:spPr>
          <a:xfrm>
            <a:off x="3492360" y="2565360"/>
            <a:ext cx="4464360" cy="35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Утес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35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S3600012"/>
          <p:cNvPicPr/>
          <p:nvPr/>
        </p:nvPicPr>
        <p:blipFill>
          <a:blip r:embed="rId3"/>
          <a:stretch/>
        </p:blipFill>
        <p:spPr>
          <a:xfrm>
            <a:off x="0" y="3500280"/>
            <a:ext cx="406728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259560" y="3789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 воды равна 1000кг/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503600" y="609300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 льда равна 900кг/м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574160" y="2421000"/>
            <a:ext cx="45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 водяного пара равна 0,59кг/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отность ль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862520" cy="3240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017.jpg"/>
          <p:cNvPicPr/>
          <p:nvPr/>
        </p:nvPicPr>
        <p:blipFill>
          <a:blip r:embed="rId2"/>
          <a:stretch/>
        </p:blipFill>
        <p:spPr>
          <a:xfrm>
            <a:off x="4572000" y="3213000"/>
            <a:ext cx="4324320" cy="3240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022.jpg"/>
          <p:cNvPicPr/>
          <p:nvPr/>
        </p:nvPicPr>
        <p:blipFill>
          <a:blip r:embed="rId3"/>
          <a:stretch/>
        </p:blipFill>
        <p:spPr>
          <a:xfrm>
            <a:off x="324000" y="4213080"/>
            <a:ext cx="3952800" cy="2644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580000" y="23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ЧИ-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§21  , вопросы к параграфу; задачи №№ 245,252,256 (В.И.Лукашик, Е.В.Иванова «Сборник задач по физике 7-9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омашний эксперимент :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Определение массы воздуха в комнате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мерьте длину а, ширин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ысот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шей комна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-816120" y="2133360"/>
            <a:ext cx="99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ычислите объем комнаты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ычислите массу воздуха в вашей комна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формуле: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ρ 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,     гд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ρ = 1,3 кг/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BD18250_"/>
          <p:cNvPicPr/>
          <p:nvPr/>
        </p:nvPicPr>
        <p:blipFill>
          <a:blip r:embed="rId1"/>
          <a:stretch/>
        </p:blipFill>
        <p:spPr>
          <a:xfrm>
            <a:off x="2700360" y="4149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BD18182_"/>
          <p:cNvPicPr/>
          <p:nvPr/>
        </p:nvPicPr>
        <p:blipFill>
          <a:blip r:embed="rId2"/>
          <a:stretch/>
        </p:blipFill>
        <p:spPr>
          <a:xfrm rot="2307600">
            <a:off x="4140000" y="4005000"/>
            <a:ext cx="1095120" cy="86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BD18182_"/>
          <p:cNvPicPr/>
          <p:nvPr/>
        </p:nvPicPr>
        <p:blipFill>
          <a:blip r:embed="rId3"/>
          <a:stretch/>
        </p:blipFill>
        <p:spPr>
          <a:xfrm rot="18570600">
            <a:off x="2153880" y="3974400"/>
            <a:ext cx="1095480" cy="86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BD18182_"/>
          <p:cNvPicPr/>
          <p:nvPr/>
        </p:nvPicPr>
        <p:blipFill>
          <a:blip r:embed="rId4"/>
          <a:stretch/>
        </p:blipFill>
        <p:spPr>
          <a:xfrm rot="7750800">
            <a:off x="4025160" y="5414760"/>
            <a:ext cx="1095480" cy="86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D18182_"/>
          <p:cNvPicPr/>
          <p:nvPr/>
        </p:nvPicPr>
        <p:blipFill>
          <a:blip r:embed="rId5"/>
          <a:stretch/>
        </p:blipFill>
        <p:spPr>
          <a:xfrm rot="13601400">
            <a:off x="2225160" y="5414400"/>
            <a:ext cx="1095480" cy="866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BD18193_"/>
          <p:cNvPicPr/>
          <p:nvPr/>
        </p:nvPicPr>
        <p:blipFill>
          <a:blip r:embed="rId6"/>
          <a:stretch/>
        </p:blipFill>
        <p:spPr>
          <a:xfrm rot="5400000">
            <a:off x="4744080" y="4552200"/>
            <a:ext cx="2468880" cy="1085760"/>
          </a:xfrm>
          <a:prstGeom prst="rect">
            <a:avLst/>
          </a:prstGeom>
          <a:ln w="0">
            <a:noFill/>
          </a:ln>
        </p:spPr>
      </p:pic>
      <p:sp>
        <p:nvSpPr>
          <p:cNvPr id="139" name="Line 12"/>
          <p:cNvSpPr/>
          <p:nvPr/>
        </p:nvSpPr>
        <p:spPr>
          <a:xfrm>
            <a:off x="826920" y="6308640"/>
            <a:ext cx="604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V="1">
            <a:off x="826920" y="3715920"/>
            <a:ext cx="122400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826920" y="364464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V="1">
            <a:off x="6877080" y="3789360"/>
            <a:ext cx="107964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2050920" y="3789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3851280" y="621648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1188720" y="50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6980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0:11:34Z</dcterms:created>
  <dc:creator>Нарине Агасиевна</dc:creator>
  <dc:description/>
  <dc:language>en-US</dc:language>
  <cp:lastModifiedBy>ЛЕВОН</cp:lastModifiedBy>
  <dcterms:modified xsi:type="dcterms:W3CDTF">2012-11-12T17:11:38Z</dcterms:modified>
  <cp:revision>9</cp:revision>
  <dc:subject/>
  <dc:title>Слайд 1</dc:title>
</cp:coreProperties>
</file>