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31D-AFE5-4421-8133-59D67856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17C-12EB-4156-9DE5-36B30C5F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FE0-CC23-4B2D-B0E4-7F6E380A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003-2FD9-4151-8F83-8F3902B5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9979-6F1E-4138-942B-BFCE12ED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9198-6BF4-4191-8103-EBAFBFDD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3D19-0BCB-4D18-B520-E5F27CD0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8222-71F0-42B3-A679-E7CD6F69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B311-BC5A-44B5-B3B0-6BDD277B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2DD0-D628-4D33-93C8-AE3848DD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6A0-4AA6-4BA8-B328-E004296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16B-67AA-4E8E-847D-29093AFC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F692-7FE9-4A68-BF48-C0D7EDB2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D997-4175-4333-BEBD-3891C202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E738-16AA-4E13-8112-7DDDDB16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4698-99CE-48D2-9FCE-8A463C94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DF61-179C-478C-A81E-AF32F7DF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01D-0AAB-46D6-9FFA-FDF07573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4A7-5F5C-4CD4-9051-63A50B92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2DE-E850-40EC-B7C4-67317F34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252-D14F-45B6-8D2C-0E35222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6C9-8FEB-4055-AD23-D46AA23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957-817F-46D7-9029-BADFC63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30B-59E2-4B8A-B5DE-95006F5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E53-C8DC-46AF-9329-E7E9381D42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E57D-8F89-4234-9B99-137D38D55D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../../Program%20Files/&#1084;&#1086;&#1103;/&#1061;&#1080;&#1084;&#1080;&#1103;/&#1092;&#1080;&#1079;&#1084;&#1080;&#1085;&#1091;&#1090;&#1082;&#1080;/&#1086;&#1073;&#1083;&#1072;&#1082;&#1072;.ppsx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ОБОБЩЕНИЕ И СИСТЕМАТИЗАЦИЯ ЗНАНИЙ ПО ТЕМЕ «АТОМЫ ХИМИЧЕСКИХ ЭЛЕМЕНТОВ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79280" y="3789360"/>
            <a:ext cx="5140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Verdana"/>
              </a:rPr>
              <a:t>Подготовка к контрольной работе по теме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85840" y="214200"/>
          <a:ext cx="8501040" cy="6215040"/>
        </p:xfrm>
        <a:graphic>
          <a:graphicData uri="http://schemas.openxmlformats.org/drawingml/2006/table">
            <a:tbl>
              <a:tblPr/>
              <a:tblGrid>
                <a:gridCol w="1700280"/>
                <a:gridCol w="1699920"/>
                <a:gridCol w="1700280"/>
                <a:gridCol w="1700280"/>
                <a:gridCol w="170028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ем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ем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ль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ем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ль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1397160"/>
          <a:ext cx="8215200" cy="131760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173240"/>
                <a:gridCol w="1173240"/>
                <a:gridCol w="1172880"/>
                <a:gridCol w="1175040"/>
                <a:gridCol w="1172880"/>
              </a:tblGrid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00040" y="1397160"/>
          <a:ext cx="8215200" cy="131760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173240"/>
                <a:gridCol w="1173240"/>
                <a:gridCol w="1172880"/>
                <a:gridCol w="1175040"/>
                <a:gridCol w="1172880"/>
              </a:tblGrid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28760" y="1397160"/>
          <a:ext cx="8286480" cy="1388880"/>
        </p:xfrm>
        <a:graphic>
          <a:graphicData uri="http://schemas.openxmlformats.org/drawingml/2006/table">
            <a:tbl>
              <a:tblPr/>
              <a:tblGrid>
                <a:gridCol w="1184040"/>
                <a:gridCol w="1182960"/>
                <a:gridCol w="1184040"/>
                <a:gridCol w="1184400"/>
                <a:gridCol w="1184040"/>
                <a:gridCol w="1182960"/>
                <a:gridCol w="1184040"/>
              </a:tblGrid>
              <a:tr h="13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28760" y="1397160"/>
          <a:ext cx="8286480" cy="1388880"/>
        </p:xfrm>
        <a:graphic>
          <a:graphicData uri="http://schemas.openxmlformats.org/drawingml/2006/table">
            <a:tbl>
              <a:tblPr/>
              <a:tblGrid>
                <a:gridCol w="1184040"/>
                <a:gridCol w="1182960"/>
                <a:gridCol w="1184040"/>
                <a:gridCol w="1184400"/>
                <a:gridCol w="1184040"/>
                <a:gridCol w="1182960"/>
                <a:gridCol w="1184040"/>
              </a:tblGrid>
              <a:tr h="13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43290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сь мир большо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 «А» до «Я»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емля и небо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ы и я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ава, песок и снегопад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ядер атомных распад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Солнца све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блеск Луны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таблице той заключен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сложность в ней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сто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в каждой клетке и везде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то? Почему? Зачем? и Где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2" descr="менделеев"/>
          <p:cNvPicPr/>
          <p:nvPr/>
        </p:nvPicPr>
        <p:blipFill>
          <a:blip r:embed="rId1"/>
          <a:stretch/>
        </p:blipFill>
        <p:spPr>
          <a:xfrm>
            <a:off x="4857840" y="85716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1397160"/>
          <a:ext cx="8143920" cy="1317600"/>
        </p:xfrm>
        <a:graphic>
          <a:graphicData uri="http://schemas.openxmlformats.org/drawingml/2006/table">
            <a:tbl>
              <a:tblPr/>
              <a:tblGrid>
                <a:gridCol w="1357200"/>
                <a:gridCol w="1357560"/>
                <a:gridCol w="1357200"/>
                <a:gridCol w="1357200"/>
                <a:gridCol w="1357560"/>
                <a:gridCol w="1357200"/>
              </a:tblGrid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00040" y="1397160"/>
          <a:ext cx="8143920" cy="1317600"/>
        </p:xfrm>
        <a:graphic>
          <a:graphicData uri="http://schemas.openxmlformats.org/drawingml/2006/table">
            <a:tbl>
              <a:tblPr/>
              <a:tblGrid>
                <a:gridCol w="1357200"/>
                <a:gridCol w="1357560"/>
                <a:gridCol w="1357200"/>
                <a:gridCol w="1357200"/>
                <a:gridCol w="1357560"/>
                <a:gridCol w="1357200"/>
              </a:tblGrid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0040" y="1397160"/>
          <a:ext cx="8143920" cy="1317600"/>
        </p:xfrm>
        <a:graphic>
          <a:graphicData uri="http://schemas.openxmlformats.org/drawingml/2006/table">
            <a:tbl>
              <a:tblPr/>
              <a:tblGrid>
                <a:gridCol w="1357200"/>
                <a:gridCol w="1357560"/>
                <a:gridCol w="1357200"/>
                <a:gridCol w="1357200"/>
                <a:gridCol w="1357560"/>
                <a:gridCol w="1357200"/>
              </a:tblGrid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Program Files\моя\Химия\картинки для слайдов\девочка с книгой.jpg"/>
          <p:cNvPicPr/>
          <p:nvPr/>
        </p:nvPicPr>
        <p:blipFill>
          <a:blip r:embed="rId1"/>
          <a:stretch/>
        </p:blipFill>
        <p:spPr>
          <a:xfrm>
            <a:off x="357120" y="114300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физминут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9152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2484360" y="404640"/>
            <a:ext cx="352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927840" y="6545880"/>
            <a:ext cx="21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Verdana"/>
              </a:rPr>
              <a:t>© Осиевская И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08000" y="6524640"/>
            <a:ext cx="8928000" cy="333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Организационная диаграмма 3" descr=""/>
          <p:cNvPicPr/>
          <p:nvPr/>
        </p:nvPicPr>
        <p:blipFill>
          <a:blip r:embed="rId1"/>
          <a:stretch/>
        </p:blipFill>
        <p:spPr>
          <a:xfrm>
            <a:off x="353880" y="628560"/>
            <a:ext cx="843624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9152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484360" y="404640"/>
            <a:ext cx="352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927840" y="6545880"/>
            <a:ext cx="21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Verdana"/>
              </a:rPr>
              <a:t>© Осиевская И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08000" y="6524640"/>
            <a:ext cx="8928000" cy="333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Организационная диаграмма 3" descr=""/>
          <p:cNvPicPr/>
          <p:nvPr/>
        </p:nvPicPr>
        <p:blipFill>
          <a:blip r:embed="rId1"/>
          <a:stretch/>
        </p:blipFill>
        <p:spPr>
          <a:xfrm>
            <a:off x="353880" y="628560"/>
            <a:ext cx="843624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гадайте химический эле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1680" y="1785960"/>
          <a:ext cx="8001000" cy="392904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) 3-й период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группа 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) 20 р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+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20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)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)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й период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группа 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р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+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12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)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)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3:06:20Z</dcterms:created>
  <dc:creator>User</dc:creator>
  <dc:description/>
  <dc:language>en-US</dc:language>
  <cp:lastModifiedBy>Учитель</cp:lastModifiedBy>
  <dcterms:modified xsi:type="dcterms:W3CDTF">2012-11-08T13:23:37Z</dcterms:modified>
  <cp:revision>46</cp:revision>
  <dc:subject/>
  <dc:title>ОБОБЩЕНИЕ И СИСТЕМАТИЗАЦИЯ ЗНАНИЙ ПО ТЕМЕ «АТОМЫ ХИМИЧЕСКИХ ЭЛЕМЕНТОВ»</dc:title>
</cp:coreProperties>
</file>