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4AE-1D31-4D62-B954-48DE14CD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538-E114-452D-B2C5-27B8E196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9536B-54D8-42D2-A8D1-5918BA1E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7387D-1F3C-4D5D-AEAF-4BE151A2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1A1C6-AA12-4E64-ACD7-C90AB4D4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39A6D-1809-40F0-9E90-F6AE3BB5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E0739-162D-43FB-999C-696E5BD4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48AFF-8BC9-4CCA-8924-AE65F6E1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053F2-2EA5-4C66-91E0-E339F85D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FEB7F-B80C-499B-8879-212B8AF6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83E6F-F6A1-4791-8135-FC4ED5FA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05C-47DA-4942-8E89-CB31D616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EEB-4CD4-4CB4-870F-67603275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CA6A-0CD7-4ED6-B189-D7A1EE4A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1800-1C9B-4651-81E6-0E30320A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61B6-A780-4F86-9549-9826E140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30E7-8F07-435E-B2C6-2D537252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4E6C-8FA3-49B4-845D-45CB8F3E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0CA4-FA7C-486D-AFFB-E35FBBB5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291D-8F46-47B5-802D-6A6E3B56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A27-0536-472D-945A-A96649B2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C9A0-A894-4E68-A9BD-B877C6E7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9C72-6A5D-4334-A80D-C20831D6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0348-2071-41B3-807A-B13940B8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77F2-0716-43B1-A39C-579CB9F7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ACA7-4550-42AF-8A85-8E7CCA0A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5683-104C-46BA-9A7F-7A5626D9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BE4A-6828-41CE-ADDB-3A770230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3F77-160D-4163-94C9-757C0692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6D5C-0190-4282-96C9-A50064BC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00A6-29DC-43BC-8B05-045F51A2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B81-8F79-4932-A775-89F0438E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2779E-757D-4C91-804F-C3723559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D02C-E637-49B2-98E9-5F56A6E7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92E1D-1CFB-482F-9488-BC6D775A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1689-AEFD-4016-91FF-8F479022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AC64-224D-40AD-9637-0CBD134E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6D76-E0DF-4A30-838E-9A097305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46799-EB0B-4708-BFF3-28C7852D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1AEF7-CF8A-47DC-ADCF-D9D5C17A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EA622-FC21-44D5-91DA-0F8D1DA2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41BFF-43C8-4471-A89A-2425160D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57E-CE9B-403F-B325-2B0224F7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EF931-E893-463A-9119-F6DEA6A8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ECEB-AD03-464F-A48E-0C2F7CBD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5F7F-76E7-4779-A6B1-780ECE7E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55E7A-07CE-43F1-A548-F21D653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BF9D-1FFA-48EB-A813-5350ED64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A61D-BF9E-4618-A324-8CCD960A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7DAB-589A-4D60-A237-EDA17909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79AF-D2B0-4B1C-B297-8EB576F5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CACB2-D318-4238-8574-63F1E217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CBE69-70F1-40DA-8928-3241C792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EC3-6172-4E23-8180-5AE42BA5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FA1DF-4058-4A2F-8C53-90A50073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6F3DD-C89C-4FFE-8793-1D81BE51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BC02C-AE54-49C8-A2D6-7FDE6D61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67028-5B1C-40C3-A225-7B10BDC1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01774-E00A-4DB5-9F46-570847E6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0D287-63E6-42F0-958E-6AE5430F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3C9D3-6A3A-4333-9E08-B07B0391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3CCC1-F28A-4D76-A2BC-BA44343B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C870A-CF3F-4EAD-BAB5-4B2B1F4A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F1F71-6178-4C21-ACCF-1E9A1680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B14-4163-46AE-8797-87F5889A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157AB-053E-4B4B-BA78-F50AB3D2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4D24-095E-4FE2-B9DC-8F2ED0B5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8835F-1E44-48A1-A4FC-A01F6A72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4D56-45AD-480B-BC3F-2752DDC5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FB69A-CA02-466A-AF27-5DC8F3A9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239E7-4069-445D-8053-22E4124A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B43A-2BA7-45E1-A12B-AD4D0DE6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ACE73-E49D-4F15-BF92-6429799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8F22-E706-4F52-966F-28D033A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E6142-ED97-4A18-BE04-305B5BF8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404-66E2-41A1-9AA4-FE1A002E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7C8F2-650C-4E6C-B9B8-AF8090EF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9B71C-8E62-4304-9A85-A18436F1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8EEB1-1FFD-4C39-BB61-36443C30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4A2FE-29B9-49F5-9C9B-A263BEB8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4B881-D4D9-4F5B-A2E9-8F38031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857EE-BBA6-4D48-9641-1C5493EA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0085E-101D-4966-96B6-4AF923A9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74E6D-0DC3-4DEC-BE73-9F3FC7CA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D9D5E-6385-4FE1-BD6B-FAEDCC4B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758DD-6EAC-4D8C-96C1-C69D9F6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58A-FA96-4D4B-9F48-56695AC3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22730-D344-4E4A-B526-4FAFCD0E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75AC5-8F8D-423D-9153-0D0BA5A6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51777-222D-442D-94A0-550C1CE5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21F10-BD04-41B8-969E-7C78D185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BDEB4-351F-44B0-910B-262C4DDF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62C99-55A9-47E1-915F-9C61ADB1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6B7D2-DDB9-4E66-915C-7691B19C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757E9-5E37-483D-AB10-7A554576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0DA6A-D327-486B-9799-21DF7D18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2EBE1-5B48-4400-8451-89AF2B2C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60D-1AE8-47BA-A4BD-6B9335DA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033B1-1F23-44B8-A4AC-1B08F3A2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DD183-3C88-4A69-A8A1-541373E3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50B77-C675-4AEA-9903-686F228C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5DF76-C897-4048-A98E-7686A730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40DDA-C931-4134-9938-2DB916C6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6F977-071D-41F0-9290-180B796F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3F1D2-6BD3-4D44-8D14-10B9B73E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2E6EA-487E-41B8-AB2D-D97930E5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57A50-C3D4-4B60-9579-15BBB4D2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370A1-721A-438A-B546-F47B99A0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1F99-2C37-46B8-A4B3-A7B88EA09B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EC2B-B017-45BE-9816-A4F1B8C41A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CC9F-BA50-4B8C-9F8B-B2B04CB58F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4943-FF14-4725-BE86-85F054813F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2A1F-7894-4CAB-9094-CC97809177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12A4-EEAF-49C4-B088-BAFA6CEC18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E0AB-E802-4D67-B3AB-58A640DE21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3B6C-12D7-4CCB-A648-9474A90306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87BE-98BD-4B1A-BA22-50DA1BC03A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12760" y="4780080"/>
            <a:ext cx="863280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517680" y="476280"/>
            <a:ext cx="7949880" cy="14857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755280" y="2276280"/>
            <a:ext cx="69771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А) географы  б) астрономы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В) историки           г) химики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542880" y="487440"/>
            <a:ext cx="7924680" cy="17985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332000" y="2133360"/>
            <a:ext cx="6400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а) Земля     б) Марс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в) Венера       г) Луна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3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3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517680" y="401760"/>
            <a:ext cx="7949880" cy="10000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371600" y="1341000"/>
            <a:ext cx="6400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-457200"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а) звез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г) созвезд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б) Земл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А) Плуто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А) Солнц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) Орбит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А) Мар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Б) комет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Б) астроном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spcBef>
                <a:spcPts val="499"/>
              </a:spcBef>
              <a:buClr>
                <a:srgbClr val="f0a22e"/>
              </a:buClr>
              <a:buSzPct val="70000"/>
              <a:buFont typeface="Franklin Gothic 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) Венер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3b14"/>
                </a:solidFill>
                <a:latin typeface="Franklin Gothic Book"/>
              </a:rPr>
              <a:t>Если    1.        9-10  </a:t>
            </a:r>
            <a:r>
              <a:rPr b="0" lang="ru-RU" sz="2000" spc="-1" strike="noStrike">
                <a:solidFill>
                  <a:srgbClr val="603b14"/>
                </a:solidFill>
                <a:latin typeface="Franklin Gothic Book"/>
              </a:rPr>
              <a:t>правильных ответов      </a:t>
            </a: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« 5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            </a:t>
            </a:r>
            <a:r>
              <a:rPr b="0" lang="ru-RU" sz="3600" spc="-1" strike="noStrike">
                <a:solidFill>
                  <a:srgbClr val="603b14"/>
                </a:solidFill>
                <a:latin typeface="Franklin Gothic Book"/>
              </a:rPr>
              <a:t>2.       7-8                           </a:t>
            </a: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«4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            </a:t>
            </a:r>
            <a:r>
              <a:rPr b="0" lang="ru-RU" sz="3600" spc="-1" strike="noStrike">
                <a:solidFill>
                  <a:srgbClr val="603b14"/>
                </a:solidFill>
                <a:latin typeface="Franklin Gothic Book"/>
              </a:rPr>
              <a:t>3.       5-6                           </a:t>
            </a: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«3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            </a:t>
            </a:r>
            <a:r>
              <a:rPr b="0" lang="ru-RU" sz="3600" spc="-1" strike="noStrike">
                <a:solidFill>
                  <a:srgbClr val="603b14"/>
                </a:solidFill>
                <a:latin typeface="Franklin Gothic Book"/>
              </a:rPr>
              <a:t>4.       меньше   5             </a:t>
            </a:r>
            <a:r>
              <a:rPr b="0" lang="ru-RU" sz="3600" spc="-1" strike="noStrike">
                <a:solidFill>
                  <a:srgbClr val="695008"/>
                </a:solidFill>
                <a:latin typeface="Franklin Gothic Book"/>
              </a:rPr>
              <a:t>«</a:t>
            </a:r>
            <a:r>
              <a:rPr b="0" lang="ru-RU" sz="4800" spc="-1" strike="noStrike">
                <a:solidFill>
                  <a:srgbClr val="695008"/>
                </a:solidFill>
                <a:latin typeface="Franklin Gothic Book"/>
              </a:rPr>
              <a:t>2»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3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роза2.gif"/>
          <p:cNvPicPr/>
          <p:nvPr/>
        </p:nvPicPr>
        <p:blipFill>
          <a:blip r:embed="rId1"/>
          <a:stretch/>
        </p:blipFill>
        <p:spPr>
          <a:xfrm>
            <a:off x="1476360" y="1341360"/>
            <a:ext cx="583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а) звезда              б) планета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в) метеорит         г) Луна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542880" y="847800"/>
            <a:ext cx="7924680" cy="13651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а) орбита        б) комет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в) астероид   г) созвездие</a:t>
            </a:r>
            <a:r>
              <a:rPr b="0" lang="ru-RU" sz="36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517680" y="542880"/>
            <a:ext cx="7949880" cy="14511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а)  Луна        б) Земля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в)  Марс         г) Венера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17680" y="603360"/>
            <a:ext cx="7949880" cy="1536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а) Плутон         б) Венер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в) Марс           г) Меркурий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517680" y="542880"/>
            <a:ext cx="7949880" cy="12366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900000" y="1989000"/>
            <a:ext cx="68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А) Солнце             Б) Лун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В) Сириус    г) Полярна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3" descr=""/>
          <p:cNvPicPr/>
          <p:nvPr/>
        </p:nvPicPr>
        <p:blipFill>
          <a:blip r:embed="rId1"/>
          <a:stretch/>
        </p:blipFill>
        <p:spPr>
          <a:xfrm>
            <a:off x="517680" y="689040"/>
            <a:ext cx="7949880" cy="14875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3272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а) астероидами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б) спутниками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в) орбитами   г) кометами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517680" y="689040"/>
            <a:ext cx="7949880" cy="1487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371600" y="2060280"/>
            <a:ext cx="640080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А) Марс             б) Нептун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В) Уран              г) Юпитер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517680" y="401760"/>
            <a:ext cx="7949880" cy="10000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а) астероиды б) кометы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в) планеты      г) звёзды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2T18:05:49Z</dcterms:modified>
  <cp:revision>6</cp:revision>
  <dc:subject/>
  <dc:title>Тест по окружающему миру 4 класс по теме: « Солнечная система»</dc:title>
</cp:coreProperties>
</file>