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EB98-AAEB-4AA7-920C-26AF270E37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E0B2-C97D-44F1-9772-D1C058DEE5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97CB-6686-4F59-9FA6-D6F48A74FF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EFE3-59F9-40CC-8E30-6696566330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F4B0-4E1C-49C4-A7CD-DC6F039472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DE57-7C96-46C9-8EAE-5A4E912943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2DD1-D9FD-4C87-A75B-34C68685D0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549F-DC2D-4D0D-B73B-700FB4600F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3C3A-8173-434D-8F24-7D90F92A9D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515B-6A66-43E9-8A64-9D38FF34F1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82BE-F195-489E-9B38-A18CE38346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1870-4393-445D-BBFF-B6EC7ABF3F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8385-DB5A-4F51-9DDA-2175971097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D88A-5D7C-45EB-8927-8AF4C58487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DF21-8D77-49C8-81F2-CB4D43FE46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48AB-54B2-493F-93E4-46F08556EB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FF6-FAEC-4D2A-998A-DA39E78E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7F9-DD19-45FE-8FA4-FFA1AFF4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1CF-9E00-47A2-BD71-FF4A3CD2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DE49-E27E-4AF6-97AC-2394D4C0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2127-786B-4B8E-8EE3-15F5DE70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909E-A7EE-418C-A640-D2ED5674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4AAB-B83D-4168-A1A4-CB2608A9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262B-6D27-47EB-A3E5-BF599631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CCF5-AD3A-443A-B444-72260B1E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2F13-5222-46A2-99C4-A03661B2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6CC6-AA85-4550-B8B9-1D8252CB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446-B9CE-47C0-A281-0BDB930A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57D4-1229-4631-AD2B-09A9EDF8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F1BD-47D6-4B62-9EB4-C0167275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D43A-C401-47BB-924D-E870B29D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E8FC-2A30-4CE1-81EA-FF0F0949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220B-65F5-4DBB-AAC7-4F3243FF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8DE-8136-485A-8FFD-E582BFCF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374B-6AF4-4FFD-9228-18C9BAB8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BC5-111E-4DEB-BE48-BF0E1C51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E500-EC3B-4880-87F5-A164D1BD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E757-6A2E-4BD0-8B3D-05788C62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2D4-42FD-4B21-B6BB-E53E36AF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DEFF-68AF-46C6-AF91-FA174320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763A-02ED-4393-9265-47F053954B5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A42D-169C-49C1-AB18-F602B211B16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712800" y="1212840"/>
            <a:ext cx="7808760" cy="1420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2216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КАК СРЕДСТВО РАЗВИТИЯ РЕЧИ И  ТВОРЧЕСТВ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общение опыта работы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кевич Татьяна Валерьевна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емерово 2011 г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жно активное взаимодействие всех участников воспитательно-образовательного процесса для организации самостоятельной </a:t>
            </a:r>
            <a:br>
              <a:rPr sz="2000"/>
            </a:br>
            <a:r>
              <a:rPr b="1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ворческой   деятельности      детей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ть возможность выбора в процессе игров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ть детей комментировать (сопровождать речью свои действия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 и тактично наблюдать за игрой дет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реализации различных видов  игров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щрять проявление детского словотворче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щрять самостоятельное экспериментирование, проводить исследования, опыт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детям право выбора средств для импровизации и самовыраже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самостоятельной деятельности детей по сохранению и  улучшению окружающей среды (уход за растениями и животными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вать в  игровой  деятельности «языком чувств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-4572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  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1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1100"/>
            </a:b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4617b"/>
                </a:solidFill>
                <a:latin typeface="Calibri"/>
              </a:rPr>
              <a:t>          </a:t>
            </a:r>
            <a:br>
              <a:rPr sz="1100"/>
            </a:br>
            <a:r>
              <a:rPr b="0" lang="ru-RU" sz="1100" spc="-1" strike="noStrike">
                <a:solidFill>
                  <a:srgbClr val="04617b"/>
                </a:solidFill>
                <a:latin typeface="Calibri"/>
              </a:rPr>
              <a:t>          </a:t>
            </a:r>
            <a:br>
              <a:rPr sz="1100"/>
            </a:br>
            <a:r>
              <a:rPr b="0" lang="ru-RU" sz="1100" spc="-1" strike="noStrike">
                <a:solidFill>
                  <a:srgbClr val="04617b"/>
                </a:solidFill>
                <a:latin typeface="Calibri"/>
              </a:rPr>
              <a:t>        </a:t>
            </a:r>
            <a:br>
              <a:rPr sz="1300"/>
            </a:b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          </a:t>
            </a: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               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едущие цели взаимодействия детского сада с семьей — создание в детском саду необходимых условий для развития ответственных и взаимоза­висимых отношений с семьями воспитанников, обеспечивающих целостное развитие личности дошкольника, повышение компетентности родителей в области воспитания. 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сновные формы взаимодействия с семьей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накомство с семьей: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стречи-знакомства, посещение семей, анкетирование семей.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нформирование родителей о ходе образовательного процесса: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ни открытых дверей, индивидуальные и</a:t>
            </a:r>
            <a:r>
              <a:rPr b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групповые консультации, родительские собрания, оформление информационных стендов, организация выста­вок детского творчества, приглашение родителей на детские концерты и</a:t>
            </a:r>
            <a:r>
              <a:rPr b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аздники, создание памяток.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бразование родителей: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лекции, семинары-практикумы, проведение мастер-классов, тренингов, создание библиотеки).</a:t>
            </a: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овместная деятельность: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влечение родителей к организации вечеров музыки и поэзии, конкурсов, семейных праздников, прогулок, экскурсий, семейного театра, к</a:t>
            </a:r>
            <a:r>
              <a:rPr b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участию в</a:t>
            </a:r>
            <a:r>
              <a:rPr b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етской исследова­тельской и проектной деятельности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собой формой общественной жизни дошкольников является игра, в которой они по  желанию объединяются, самостоятельно действуют, осуществляют свои замыслы, познают мир. Самостоятельная игровая деятельность способствует физическому и психическому развитию каждого ребёнка, воспитанию нравственно-волевых качеств, творческих способностей.</a:t>
            </a:r>
            <a:br>
              <a:rPr sz="20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ля развития всех психических процессов у детей дошкольного возраста,  используются  разного рода игры. Ведь игра в дошкольном  возрасте является  основным видом деятельности. Игра доставляет ребёнку радость и сопровождается положительными эмоциями: он удивляется, радуется, познает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гра - путь детей к познанию окружающего мира. 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ля ребёнка игра – средство самореализации и самовыражения. Она позволяет ребёнку выйти за пределы ограниченного мира и построить свой собственный.     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Игры необходимы для здоровья ребенка, они делают его жизнь содержательной, полной, создают уверенность в своих силах. 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Игра – самостоятельная деятельность, в которой дети общаются со сверстниками. Их  объединяет общая цель, совместные усилия к её достижению, общие переживания. Игра способствует формированию добрых чувств, стремлений, навыков. Используемые на практике игры могут быть, как индивидуальными, так и групповыми, проводиться  как в совместной деятельности взрослого и детей, так и в  самостоятельной деятельности детей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овременное дошкольное образование призвано развивать фундаментальные интегративные качества ребёнка, личностные достижения, которые могут служить основой успешности обучения в школе и дальнейшей социализации в окружающем мире.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Таким образом, игровая деятельность  - это целенаправленная творческая деятельность, в процессе которой дошкольники  глубже и ярче постигают явления окружающей действительности и познают мир, развивается речь и творчество детей.  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04520"/>
            <a:ext cx="7467480" cy="180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Желаю творческих успехов!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речевому развитию детей занимает одно из центральных мест в дошкольном учреждении, это объясняется важностью периода дошкольного детства в речевом становлении ребёнка. Данное направление представлено в Федеральных государственных требованиях к структуре основной общеобразовательной программы дошкольного образования образовательной областью «Коммуникация», содержание которой направлено на достижение целей овладения конструктивными способами и средствами взаимодействия с окружающими людьми через решение следующих задач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свободного общения детей со взрослыми и сверстникам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всех компонентов устной речи детей (лексической стороны, грамматического строя речи, произносительной стороны речи; связной речи - диалогической и монологической форм) в различных формах и видах детск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ктическое овладение детьми нормами реч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мственность ДОУ и начальной школы в определении общих целей и задач непрерывного образования обеспечит согласованность и перспективность всех компонентов системы образования (целей, задач, содержания, методов, средств, форм организации воспитания и обучения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Цель.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Обеспечение сквозных результатов по формированию опыта социального взаимодействия детей через ведущий вид деятельности дошкольников игру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 активного речевого  общения детей, расширение и обогащение словарного запас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совершенствование всех сторон устной речи каждого ребёнка (произношение, словарь, грамматический строй, связная речь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 диалогической  речи: активное участие в беседе,  умение слушать, отвечать, задавать вопрос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  родителей на возможности развития коммуникативной сферы ребёнка в семье и детском сад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ложительных  взаимоотношений между детьми (дружелюбие, взаимопомощь), воспитание  организованности, настойчивости, выдержки, умение выполнять правила игр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 драматизировать небольшие сказки или  отрывки из сказо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лкой моторики ру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только тогда становится полноправным  гражданином общества, когда взаимодействует с другими его членами, когда происходит усвоение накопленного предыдущими поколениями культурного опыта в рамках отдельно взятой семьи и всей нации, когда  осуществляется полноценный обмен этим опытом, когда устанавливаются межличностные контакт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Всё это было бы невозможно без речи. Её роль в становлении ребёнка как личности невозможно переоценить. Речь способствует формированию интеллекта, увеличивает познавательную активность, значительно расширяет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озор маленького челове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Задача взрослых – родителей и педагогов  - помочь ему овладеть устной речью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ечественными  психологами и педагогами доказано, что игра является деятельностью, в которой у дошкольника развиваются действия и представления, ориентация в отношениях между людьми, первоначальные навыки кооперации (А.Н. Леонтьев, А.П. Усова, Д, Б.Эльконин). 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Н.Я. Михайленко отмечает, что свободная сюжетная игра – самая привлекательная деятельность для детей дошкольного возраста. Её привлекательность объясняется тем, что в игре ребёнок испытывает «внутреннее субъективное ощущение свободы».  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685800" y="1371600"/>
            <a:ext cx="7620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опы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полагает активную игровую совместную деятельность детей и взрослых, в ходе которой развиваются компетент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ности устанавливать контакт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ова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ть нравственное отношение к окружающему ми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использование знаний в различных ситуациях, установление взаимосвязей и зависим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владение различными источниками полученных зн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мение инициировать и поддерживать общение среди сверстников,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зультат реализации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владение средствами общения и использование вербальных и невербальных средств общения, развитие конструктивного и  свободног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ого взаимодействия дошкольников в зависимости от ситуац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витие интегративных качеств дошкольни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Дети могут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ктивно сопровождать речью свою деятельность (игровые, бытовые и другие действия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ктивно употреблять слова, обозначающие эмоциональное состояние (сердитый, печальный), этические качества (хитрый, добрый), эстетические характеристики, разнообразные свойства и качества предмет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смысливать причинно-следственные  отношения; употреблять сложносочиненные  и сложноподчиненные предлож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дробно, с детализацией и повторами рассказывать о содержании сюжетной картинки, с помощью взрослого повторять образцы описания игрушки, драматизировать отрывки из знакомых произведен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ссказывать истории, что является следствием    развития фантаз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бота  построена  на основе преемственности  программы  «Радуга», В.В.Гербовой, Т.С.Комаровой и Примерной основной общеобразовательной программы дошкольного образования «ОТ РОЖДЕНИЯ ДО ШКОЛЫ»  под ред. Н. Е. Вераксы, Т. С. Комаровой, М. А. Васильевой в соответствии с Федеральными государственными требованиями. 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Схема реализации опыта работы по образовательным областям </a:t>
            </a:r>
            <a:br>
              <a:rPr sz="2000"/>
            </a:b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в разных видах детской деятельности  через игру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143000"/>
          <a:ext cx="8610480" cy="5686560"/>
        </p:xfrm>
        <a:graphic>
          <a:graphicData uri="http://schemas.openxmlformats.org/drawingml/2006/table">
            <a:tbl>
              <a:tblPr/>
              <a:tblGrid>
                <a:gridCol w="2498760"/>
                <a:gridCol w="6111720"/>
              </a:tblGrid>
              <a:tr h="60948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грация образовательных обла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игр в  совместной деятельности взрослого и детей и самостоятельной деятельности дете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 игры, сюжетно-ролевые игры, природоведческие и познавательные игры, настольно-печатны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 игры, игры со словом, математические игры,    физминутки, пальчиковы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удожественной литерату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-инсценировки, игры-драматизации, пальчиковы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е  твор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ые игры, физмин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 игры, игровы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ые игры, дидактические игры, игры со слов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е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ые игры, игры на сближение, социальное взаимодей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мячом, подвижные игры со словом, игры с речевым сопровождением, пальчиковы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ые игры, народные игры, инсценировки, логоритмика, игры-хоровод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ление с  разными видами игр, создание игротеки игр, пальчиковые игры, народные игры,  игры-инсцениров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02:50:06Z</dcterms:created>
  <dc:creator>Мой</dc:creator>
  <dc:description/>
  <dc:language>en-US</dc:language>
  <cp:lastModifiedBy>танюшка</cp:lastModifiedBy>
  <dcterms:modified xsi:type="dcterms:W3CDTF">2012-11-12T08:15:00Z</dcterms:modified>
  <cp:revision>59</cp:revision>
  <dc:subject/>
  <dc:title>МИНИСТЕРСТВО ОБРАЗОВАНИЯ И НАУКИ РЕСПУБЛИКИ БУРЯТИЯ  МУНИЦИПАЛЬНОЕ ОБРАЗОВАНИЕ «МУЙСКИЙ РАЙОН» ДОШКОЛЬНОЕ ОБРАЗОВАТЕЛЬНОЕ УЧРЕЖДЕНИЕ  ЦЕНТР РАЗВИТИЯ РЕБЁНКА  ДЕТСКИЙ САД  «СКАЗКА»</dc:title>
</cp:coreProperties>
</file>