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5D02-4A5E-40D9-A1FF-60FE40E14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E11C-5570-4AC8-97BB-329EA387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A024-074D-4FEF-96C9-A16AE820E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C514-9F7C-4D71-B2AC-EC76B2B40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5609-2BF5-411A-83DA-56440833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7025-AA11-4552-996C-C37D9F2D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9207-72B7-4CE8-9FDB-6DB50A56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F88B-2D39-4F10-8DF0-CFC46590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B753-31FF-4DCC-B37E-237F6604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431E-4E68-4C85-9449-0B798F61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5261-C9E2-4A06-832C-08264759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58DD-57DB-4F5B-9759-85FD158C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0A92-24E9-431E-86DA-84B5BD0CB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068640"/>
            <a:ext cx="9144000" cy="3789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0" y="476280"/>
            <a:ext cx="10656720" cy="530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>
                    <a:alpha val="47000"/>
                  </a:srgbClr>
                </a:solidFill>
                <a:latin typeface="Arial"/>
              </a:rPr>
              <a:t>"Гроза  двенадцатого  года"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>
                  <a:alpha val="47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181440" y="4797360"/>
            <a:ext cx="932508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После 17 часов наступающий порыв французской кавалерии, понесшей громадные потери, иссяк, и сражение стало затухать. Только артиллерийские перестрелки продолжались до темноты. В сумерках Наполеон отвел кавалерию с захваченных позиций ближе к 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7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573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24000" y="-360"/>
            <a:ext cx="946800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Кровопролитнейшее сражение закончилось практически вничью. Французы не смогли разгромить русскую армию, которая, хотя и была вытеснена практически со всех занимаемых на начало сражения позиций, но, отойдя на 1-1,5 км, заняла новые и стояла на них непоколебимо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4581360"/>
            <a:ext cx="9144000" cy="22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Горько плакал старый Кутузов, оставляя Москву Наполеону, но все таки сказал: «Нельзя погубить остаток войска. Без войска погибнет вся Россия, а с войском мы вернём Москву!» Так и случилось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24000" y="5084640"/>
            <a:ext cx="94680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полеон гордо вошёл в Москву. «Приведите ко мне русских послов, пусть заявят мне свою покорность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о Москва была пуста…Жители уехали из неё, а дома свои сожгли. Запылала Москва, поднялся ветер и огонь, как река пошёл по улица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1127" t="1558" r="1127" b="1558"/>
          <a:stretch/>
        </p:blipFill>
        <p:spPr>
          <a:xfrm>
            <a:off x="103320" y="79200"/>
            <a:ext cx="8937360" cy="49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364000" cy="184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полеон смотрел из Кремля на пылающую Москв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464328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076720" y="0"/>
            <a:ext cx="406728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507672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96720" y="4436640"/>
            <a:ext cx="954072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Отступление из-под Бородина и оставление Москвы рассматривалось русскими не как бегство от преследующего победителя, а как тактический маневр для продолжения борьбы и окончательного разгрома противника. И этот маневр себя оправдал. Дальше Москвы французы продвинуться не смогли, а уже 18 октября началось их отступление, которое под ударами русских войск переросло в повальное бег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24000" y="4365360"/>
            <a:ext cx="946800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Настали холода. Голод мучил французов. И тогда Наполеон ушёл из Москвы. Под ударами войск Кутузова французская армия отступала по заснеженным дорогам к границам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rcRect l="1890" t="3150" r="3780" b="6299"/>
          <a:stretch/>
        </p:blipFill>
        <p:spPr>
          <a:xfrm>
            <a:off x="173160" y="146160"/>
            <a:ext cx="86248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00000" y="0"/>
            <a:ext cx="3779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В день Рождества Христова Россия праздновала избавление от  наполеоновского нашествия. «Господь не оставил нас и спас от врагов!» - говорили русские. В память этой победы выстроили в Москве великолепный Храм Христа-Спасите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43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0"/>
                            </p:stCondLst>
                            <p:childTnLst>
                              <p:par>
                                <p:cTn id="30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5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7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3366"/>
                </a:solidFill>
                <a:latin typeface="Arial"/>
              </a:rPr>
              <a:t>Россия во все времена участвовала в война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93320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степняки-кочев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немецкие и шведские рыцари (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XIII 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век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монголо-тата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поляки, шве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7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?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За какое отличие от других сражений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война 1812 года получила название              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«ОТЕЧЕСТВЕННАЯ»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Clr clrSpc="rgb">
                                      <p:cBhvr>
                                        <p:cTn id="314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15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16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17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300"/>
                            </p:stCondLst>
                            <p:childTnLst>
                              <p:par>
                                <p:cTn id="31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7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7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7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7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77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1" dur="77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3" dur="77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5" dur="77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7532640"/>
          </a:xfrm>
          <a:prstGeom prst="rect">
            <a:avLst/>
          </a:prstGeom>
          <a:solidFill>
            <a:srgbClr val="e7b7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В Отечественной войне 1812 года решалась судьба всей России – будет ли она сущест-вовать или её поработят армии захватчик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remove" presetClass="emph" presetID="33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5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9" dur="3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6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0"/>
            <a:ext cx="8424720" cy="81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История России богата знаменательными событиями. Во все века героизм, мужество воинов России, мощь и слава русского оружия были неотъемлемой частью величия Российского государства. Помимо военных побед, существуют события, достойные быть увековеченными в народной памяти. </a:t>
            </a:r>
            <a:br>
              <a:rPr sz="2800"/>
            </a:b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Федеральный закон устанавливает дни славы русского оружия – дни воинской славы (победные дни) России в ознаменование славных побед российских войск, которые сыграли решающую роль в истории России, и памятные даты в истории Отечества, связанные с важными историческими событиями в жизни государства и об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38120" y="907920"/>
            <a:ext cx="826776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 1812 году Россия участвовала</a:t>
            </a:r>
            <a:endParaRPr b="0" lang="en-US" sz="4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 Отечественной </a:t>
            </a:r>
            <a:endParaRPr b="0" lang="en-US" sz="4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ойне</a:t>
            </a:r>
            <a:endParaRPr b="0" lang="en-US" sz="4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?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За какое отличие от других сражений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война 1812 года получила название              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«ОТЕЧЕСТВЕННАЯ»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Clr clrSpc="rgb">
                                      <p:cBhvr>
                                        <p:cTn id="47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8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9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50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300"/>
                            </p:stCondLst>
                            <p:childTnLst>
                              <p:par>
                                <p:cTn id="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7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Участие России в войнах </a:t>
            </a:r>
            <a:r>
              <a:rPr b="0" i="1" lang="en-US" sz="3200" spc="-1" strike="noStrike">
                <a:solidFill>
                  <a:srgbClr val="cc3300"/>
                </a:solidFill>
                <a:latin typeface="Arial"/>
              </a:rPr>
              <a:t>XVI 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– начала </a:t>
            </a:r>
            <a:r>
              <a:rPr b="0" i="1" lang="en-US" sz="3200" spc="-1" strike="noStrike">
                <a:solidFill>
                  <a:srgbClr val="cc3300"/>
                </a:solidFill>
                <a:latin typeface="Arial"/>
              </a:rPr>
              <a:t>XIX 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ве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-36360" y="907920"/>
          <a:ext cx="9216720" cy="6031080"/>
        </p:xfrm>
        <a:graphic>
          <a:graphicData uri="http://schemas.openxmlformats.org/drawingml/2006/table">
            <a:tbl>
              <a:tblPr/>
              <a:tblGrid>
                <a:gridCol w="1865160"/>
                <a:gridCol w="1230480"/>
                <a:gridCol w="1296720"/>
                <a:gridCol w="1587600"/>
                <a:gridCol w="1371600"/>
                <a:gridCol w="186516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обы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 кем была вой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и каком правите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 какой целью Россия вступила в вой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акая часть населения принимала учас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Чем закончи-лась война для Росс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 начал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VII 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Польш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Шве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Между-царст</a:t>
                      </a: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Защита государ-ства от завоева-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Ополче-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(народ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Изгнание захватч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 начал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VIII 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Шве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Петр</a:t>
                      </a: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За выход к Балтий-скому мор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Армия и фл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Выход России к мор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 начал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IX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в.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1812г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Фран</a:t>
                      </a: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ция, армии других стр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Алек-сандр </a:t>
                      </a: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Защита государ-ства от завоева-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Армия, ополче-ние, партиза-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Изгнание захватч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96720" y="3716280"/>
            <a:ext cx="954072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Ежегодно в первое воскресенье сентября на Бородинском поле широко отмечается годовщина  сражения. Десятки тысяч людей приезжают в Бородино, чтобы ощутить свою причастность к героическому прошлому Российского государст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24000" y="0"/>
            <a:ext cx="3888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Император Александр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попросил Кутузова принять командование войсками. Полководцу шёл 67-й год. Солдаты уважали его и шутили: «Пришёл Кутузов бить французов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еред битвою над головою главнокомандующего взвился орёл. «Дети, -сказал Кутузов своим солдатам, - орёл предсказывает нам победу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564000" y="404640"/>
            <a:ext cx="5329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81440" y="3860640"/>
            <a:ext cx="554508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Бородинское поле - место святое для каждого русского человека. Именно здесь в сентябре 1812 года сошлись в ожесточенном противостоянии русская армия под командованием прославленного полководца Михаила Илларионовича Кутузова и Великая армия французского императора Наполеона Бонапа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028680" cy="3529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435640" y="260280"/>
            <a:ext cx="3452760" cy="6264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95280" y="321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f7f8"/>
                </a:solidFill>
                <a:latin typeface="Arial"/>
              </a:rPr>
              <a:t>М.КУТУ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5877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НАПОЛЕ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2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0"/>
            <a:ext cx="3635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Бородинское сраже-ние стало самым кровопролитным. Только убитых свы-ше 100 тыс.- 58 тыс. французов и 45 тыс. русских, из них более 78 генера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 самом поле про-сто невозможно бы-ло сражаться – на-столько оно было завалено убитыми и еще не вывезенными тяжелоране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этой грандиозной битве участвовало около 300 тысяч че-ловек при 1200 артиллерийских оруд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052880" y="260280"/>
            <a:ext cx="4834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9:18:08Z</dcterms:created>
  <dc:creator>Admin</dc:creator>
  <dc:description/>
  <dc:language>en-US</dc:language>
  <cp:lastModifiedBy>Admin</cp:lastModifiedBy>
  <dcterms:modified xsi:type="dcterms:W3CDTF">2010-02-17T17:59:50Z</dcterms:modified>
  <cp:revision>18</cp:revision>
  <dc:subject/>
  <dc:title>Слайд 1</dc:title>
</cp:coreProperties>
</file>