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55AC-7B74-4C19-AE61-017AF733F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90A8-99F4-42ED-ACBC-D828BEA1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593F-5FA2-424E-BB14-C691EC57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0168-CC5F-4F22-BDA8-8E9641318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FC11-653B-449D-B906-871D7BF1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3D14-CC50-4424-B29F-943E8FF4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ADA3-514E-48CF-B7FA-40881FE2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B6D8-42F8-4420-9156-019C3D75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94EC-ADAA-4B89-AE4F-50EB9A58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32F2-333F-4155-8053-17E2752A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C6A8-85CF-4AA4-A673-741D7236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4A6F-FB1A-4E34-BF45-EC38EA31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027C-8885-489C-8D1F-D856F829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EBF7-40A5-482D-87BE-E9925528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D4B8-637D-4B05-93B6-662DC859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05DD-5CA2-47CA-BF32-5B761285F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E8EA-3ADF-45C1-889F-03C0855D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ABA8-9726-43F5-9C1C-AB979401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4D73-1C7D-4CA3-AC8F-FCF5611E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4100-4E26-47AB-899F-D612BC82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F82E-4B53-4040-8D52-118A1419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11B5-845C-4929-9DC0-54016724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BF2D-B127-45C0-82C0-5B6AD539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4ECD-BE50-4392-959A-27DC7155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C08D-0223-4873-886F-8AB0A7D89A2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BF4F-8814-4685-97BB-8ED7EA2F426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87280" y="206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Comic Sans MS"/>
              </a:rPr>
              <a:t>Развитие хоккея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Comic Sans MS"/>
              </a:rPr>
              <a:t>с шайбой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Comic Sans MS"/>
              </a:rPr>
              <a:t>в Нагорск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556000" y="4508640"/>
            <a:ext cx="1866600" cy="1895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1800000" cy="43243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076720" y="566100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ХК «Нагорс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Comic Sans MS"/>
              </a:rPr>
              <a:t>ПЕРВЫЕ ШАГИ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1214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53440" cy="3816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619280" y="5805360"/>
            <a:ext cx="56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СБОРНАЯ ВЕТЕРАНОВ НАГОРСКОГО ХОККЕ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Comic Sans MS"/>
              </a:rPr>
              <a:t>Товарищеская встреча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Comic Sans MS"/>
              </a:rPr>
              <a:t>«Нагорск - Синегорье»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48836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Comic Sans MS"/>
              </a:rPr>
              <a:t>Турнир на приз газеты «Нагорская жизнь»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920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Comic Sans MS"/>
              </a:rPr>
              <a:t>Матч «Нагорск – Стулово»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56000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10:36:17Z</dcterms:created>
  <dc:creator>123</dc:creator>
  <dc:description/>
  <dc:language>en-US</dc:language>
  <cp:lastModifiedBy>123</cp:lastModifiedBy>
  <dcterms:modified xsi:type="dcterms:W3CDTF">2012-11-12T18:53:04Z</dcterms:modified>
  <cp:revision>33</cp:revision>
  <dc:subject/>
  <dc:title>Развитие хоккея  с шайбой  в Нагорске</dc:title>
</cp:coreProperties>
</file>