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E57-CB14-4AC3-BFD6-E6D10FF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A96-906F-46AC-9084-2BB751EE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75F-825B-4208-A1A5-1068DC38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881-826A-4EFA-AFC6-022330A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2E89-F4ED-4605-A75C-D1A1DDDD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7CA-A51D-4DE7-A299-D74CB82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80F-A535-4EB3-9CE1-96B46F3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7E0-83A5-4848-8A74-8A69D7D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D2EC-4034-4BA4-ABA8-17D13966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C352-51FF-41DA-B255-4C8C5E6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28F-5818-4E24-90AE-5B6610F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2DE-CAEB-40FF-8F35-2CC592E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1438-3756-412E-A47A-5D8E7DB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B227-9F5D-41D8-B95C-F44B592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923-6225-4A11-B73D-D4EBFC20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AB0-1C80-45E9-A0AF-1565EAA8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FE15-A9E5-4B79-A2A4-BAB7C963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0F8-18F5-4CA5-9DB6-EC65612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183-57B6-45C6-8592-EEF78A9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753-7DEB-4AAC-A162-EC02F56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418-C7D2-44FE-A734-C1C779D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393-FEED-445E-B8C9-5C76D9E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C0E-DB31-47A8-81F5-B757E48D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88B-751F-4231-BFE6-B170740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E44-7083-4462-8277-3F37381F23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CAA-7EB2-4964-984C-D1F106EF6C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Турнир на кубок легиона г. Кир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Закрытие турнир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Встреча команд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«Нагорск – Б. Холуница»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(предсезонье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Турнир села Мулин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63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Очередная шайба в ворота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5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0:36:17Z</dcterms:created>
  <dc:creator>123</dc:creator>
  <dc:description/>
  <dc:language>en-US</dc:language>
  <cp:lastModifiedBy>123</cp:lastModifiedBy>
  <dcterms:modified xsi:type="dcterms:W3CDTF">2012-11-12T18:59:06Z</dcterms:modified>
  <cp:revision>35</cp:revision>
  <dc:subject/>
  <dc:title>Развитие хоккея  с шайбой  в Нагорске</dc:title>
</cp:coreProperties>
</file>