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231-BA75-4802-BDE2-D6316F26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5F1-E610-4A1F-8EFD-E6595A67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FC2-4170-44C9-9015-034A045E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6C4-E4C6-48A7-961A-296AB62C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8B88-6D69-433F-887A-4E8E9BEB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BBF6-A700-4B3C-A54D-D72C93E6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6EA0-7593-4D32-BD3E-47EC7D42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3899-EF35-48BA-AC46-49D93761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824C-62EA-41BC-B70B-52CE3132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DB87-18CC-4D4C-9B0F-E250C4A4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63E3-89AB-40D3-9FA3-4588B71D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9AD-1C21-4F0D-B178-4F2EF944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2E34-9294-4273-8738-CF84C2BB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4779-9994-450A-B83E-5B749659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B749-06D9-44AD-B2E7-38CE4D74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DC8D-5E97-48FA-B3CE-DBE0CFED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5718-EAB3-42B0-BCF8-69758C07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AA1-FF47-440B-8B78-4AE8193E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59E-38D5-424E-ABD1-308C5A2D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18C-FB75-4736-97F9-E0BE2C07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DCB-F0DD-4E47-B288-56B32D85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C79-325A-40BE-883C-C7180565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0B5-D657-405A-A5BC-510DE074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C6C-610A-4462-84F7-BB23744E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247A-4CD8-4086-9BDF-A28E54BC83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30F6-112F-45A6-B593-B5D459FE2F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Встреча команд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«Нагорск – Б. Холуница»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(предсезонье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Кубок «Третьяка»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 г. Б. Холуниц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6920" y="1681200"/>
            <a:ext cx="770580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Разминка перед матчем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4360" y="1647720"/>
            <a:ext cx="78483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Капитан команды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ХК «Нагорск»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(юниоры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41148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941720"/>
            <a:ext cx="57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аботу выполнил учитель физической куль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КОУ СОШ с УИОП пгт Нагорск Тетенькин В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616572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Нагорск,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0:36:17Z</dcterms:created>
  <dc:creator>123</dc:creator>
  <dc:description/>
  <dc:language>en-US</dc:language>
  <cp:lastModifiedBy>123</cp:lastModifiedBy>
  <dcterms:modified xsi:type="dcterms:W3CDTF">2012-11-12T18:57:31Z</dcterms:modified>
  <cp:revision>32</cp:revision>
  <dc:subject/>
  <dc:title>Развитие хоккея  с шайбой  в Нагорске</dc:title>
</cp:coreProperties>
</file>