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87D-940B-400B-9C21-213DDF6B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F8B-B1A3-4A58-B7AD-AD2565F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99A-604A-4DF3-B21F-8DBDB21F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DEB-AB6F-4EE3-8DDE-BCC89A22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840-931E-4EBA-8066-97349061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CC8-FB42-4F67-A41C-2A8C54E6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2B3-9CBF-498E-ABD1-347425C4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561-E8E5-411B-8F06-29934266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84D-0535-4082-A125-2C9CDACE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A37-7A9F-4F5B-99F4-466EA44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D91-D357-4FAA-BA08-BF30E8F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3E1-8110-4B58-9123-C118D24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2D41-9316-4316-8B1E-0380C4CC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f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8000" y="2205000"/>
            <a:ext cx="4753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ши задач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2997360"/>
            <a:ext cx="18860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0f3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60280"/>
            <a:ext cx="813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3 коробках лежит 15 карандашей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олько карандашей лежит в 7 таких же коробках 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1079640" cy="65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295640" cy="78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96360" y="1628640"/>
            <a:ext cx="1223640" cy="74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42920" y="2708280"/>
            <a:ext cx="14716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1 ко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2708280"/>
            <a:ext cx="2409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л-во ко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27640" y="270828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го кар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67280" y="3284640"/>
            <a:ext cx="100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ко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59640" y="328464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67280" y="3933720"/>
            <a:ext cx="1052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ко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32720" y="3860640"/>
            <a:ext cx="12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3284640"/>
            <a:ext cx="115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16000" y="4005360"/>
            <a:ext cx="115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 кар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3789360"/>
            <a:ext cx="1224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дин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4437000"/>
            <a:ext cx="3603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486900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) 15 : 3 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00360" y="4869000"/>
            <a:ext cx="40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(кар.)- в 1 коробк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3284640"/>
            <a:ext cx="2001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16000" y="3933720"/>
            <a:ext cx="20016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5589720"/>
            <a:ext cx="194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) 5   7 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63640" y="5805360"/>
            <a:ext cx="698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16360" y="5516640"/>
            <a:ext cx="163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 (кар.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6165720"/>
            <a:ext cx="8362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 : 35 карандашей лежит в 7 коробка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0463 L -0.14965 0.00578 E">
                                      <p:cBhvr>
                                        <p:cTn id="10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7:00:23Z</dcterms:created>
  <dc:creator>Добрынина</dc:creator>
  <dc:description/>
  <dc:language>en-US</dc:language>
  <cp:lastModifiedBy>Добрынина</cp:lastModifiedBy>
  <dcterms:modified xsi:type="dcterms:W3CDTF">2012-09-06T17:21:06Z</dcterms:modified>
  <cp:revision>3</cp:revision>
  <dc:subject/>
  <dc:title>Слайд 1</dc:title>
</cp:coreProperties>
</file>