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C20-E8DC-4856-B130-723FCB8A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F57-C17A-45AE-BA36-C7E3ED8D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410-C1A2-40CC-A0D1-F46D1B94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7AF-F41E-4250-A422-9C579619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1EB-3F0A-4428-A076-5DE18705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437-D8AE-4196-872F-23BFAA78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4B3-E9C0-4552-98BA-5E394EAE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094-B34B-46DE-BC55-C70877AA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D62-90B3-42F7-8714-0FEA088C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21C-EA9C-4C6C-91FF-E54F4642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955-B3E3-4B0A-934F-7CA28934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C64-019B-4314-BB61-91F897D2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8F91-AB27-4978-8E77-E0330B0AD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fb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8000" y="2205000"/>
            <a:ext cx="475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ши задач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2997360"/>
            <a:ext cx="18860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0f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260280"/>
            <a:ext cx="8137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3 коробках лежит 15 карандаше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олько карандашей лежит в 7 таких же коробках 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516720" y="1700280"/>
            <a:ext cx="1079640" cy="655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48360" y="1628640"/>
            <a:ext cx="1295640" cy="78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96360" y="1628640"/>
            <a:ext cx="1223640" cy="743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42920" y="2708280"/>
            <a:ext cx="14716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1 ко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76720" y="2708280"/>
            <a:ext cx="2409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л-во ко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27640" y="270828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его ка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067280" y="3284640"/>
            <a:ext cx="100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кор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659640" y="3284640"/>
            <a:ext cx="133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 кар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067280" y="3933720"/>
            <a:ext cx="1052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 кор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32720" y="3860640"/>
            <a:ext cx="12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 кар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16000" y="3284640"/>
            <a:ext cx="115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 кар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16000" y="4005360"/>
            <a:ext cx="115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 кар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3789360"/>
            <a:ext cx="12240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дин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4437000"/>
            <a:ext cx="36036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5640" y="4869000"/>
            <a:ext cx="1895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) 15 : 3 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700360" y="4869000"/>
            <a:ext cx="4000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(кар.)- в 1 коробк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3284640"/>
            <a:ext cx="2001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16000" y="3933720"/>
            <a:ext cx="20016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55640" y="558972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) 5   7 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63640" y="5805360"/>
            <a:ext cx="698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916360" y="5516640"/>
            <a:ext cx="163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 (кар.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1280" y="6165720"/>
            <a:ext cx="8362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 : 35 карандашей лежит в 7 коробка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0463 L -0.14965 0.00578 E">
                                      <p:cBhvr>
                                        <p:cTn id="10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7:00:23Z</dcterms:created>
  <dc:creator>Добрынина</dc:creator>
  <dc:description/>
  <dc:language>en-US</dc:language>
  <cp:lastModifiedBy>Добрынина</cp:lastModifiedBy>
  <dcterms:modified xsi:type="dcterms:W3CDTF">2012-09-06T17:21:06Z</dcterms:modified>
  <cp:revision>3</cp:revision>
  <dc:subject/>
  <dc:title>Слайд 1</dc:title>
</cp:coreProperties>
</file>