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5.png" ContentType="image/png"/>
  <Override PartName="/ppt/media/image2.jpeg" ContentType="image/jpeg"/>
  <Override PartName="/ppt/media/image3.gif" ContentType="image/gif"/>
  <Override PartName="/ppt/media/image12.png" ContentType="image/png"/>
  <Override PartName="/ppt/media/image1.jpeg" ContentType="image/jpeg"/>
  <Override PartName="/ppt/media/image4.gif" ContentType="image/gif"/>
  <Override PartName="/ppt/media/image10.png" ContentType="image/png"/>
  <Override PartName="/ppt/media/image6.jpeg" ContentType="image/jpeg"/>
  <Override PartName="/ppt/media/image8.png" ContentType="image/png"/>
  <Override PartName="/ppt/media/image13.png" ContentType="image/png"/>
  <Override PartName="/ppt/media/image7.jpeg" ContentType="image/jpe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2695C-08E6-4644-8F62-E08C81B19AD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ACE23-5E55-45AF-AB2A-26843EBA87E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4B205-F3F4-4619-AD6B-E7A448A7D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BEA6E-8661-48E7-B25C-174115A87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07FE9-D5A6-427E-8287-1295CE41E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155C9-2CFE-40C7-BBEF-8613FEB48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3BE37-609E-4BA3-BC18-7861D0D35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E9986-2D29-4E8E-9EE9-6099D28C3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7D506-4181-4646-8BF8-82408520C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9F279-7025-4837-9ED6-226B4815F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7628D-6EA0-47D1-8D81-408434382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D0F6D-EAE8-4753-8907-4235E747F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D3DED-DC96-45DD-98D0-9E7372F34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16D74-E7B7-4A1E-AFCF-0B02C97DD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53262-6707-44F9-8460-0D6336886A0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440" y="1571400"/>
            <a:ext cx="8458200" cy="407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Calibri"/>
              </a:rPr>
              <a:t>Самый   </a:t>
            </a:r>
            <a:br>
              <a:rPr sz="9600"/>
            </a:br>
            <a:r>
              <a:rPr b="0" lang="ru-RU" sz="9600" spc="-1" strike="noStrike">
                <a:solidFill>
                  <a:srgbClr val="000000"/>
                </a:solidFill>
                <a:latin typeface="Calibri"/>
              </a:rPr>
              <a:t> умный.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Прямоугольник 4"/>
          <p:cNvSpPr/>
          <p:nvPr/>
        </p:nvSpPr>
        <p:spPr>
          <a:xfrm>
            <a:off x="366480" y="6286680"/>
            <a:ext cx="960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bf1de"/>
                </a:solidFill>
                <a:latin typeface="Calibri"/>
              </a:rPr>
              <a:t>http://aida.ucoz.ru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3" descr="H:\Documents and Settings\Aida\Рабочий стол\ТЕКСТУРЫ и фоны, клипарты\3 ЧАСТЬ!!!\141.gif"/>
          <p:cNvPicPr/>
          <p:nvPr/>
        </p:nvPicPr>
        <p:blipFill>
          <a:blip r:embed="rId2"/>
          <a:stretch/>
        </p:blipFill>
        <p:spPr>
          <a:xfrm>
            <a:off x="142920" y="4786200"/>
            <a:ext cx="1214280" cy="1581120"/>
          </a:xfrm>
          <a:prstGeom prst="rect">
            <a:avLst/>
          </a:prstGeom>
          <a:ln w="0">
            <a:noFill/>
          </a:ln>
          <a:effectLst>
            <a:outerShdw dist="38183" dir="135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51" name="Picture 10" descr="H:\Documents and Settings\Aida\Рабочий стол\СБОРНИК! 26-03-2003 картинки\sm6.gif"/>
          <p:cNvPicPr/>
          <p:nvPr/>
        </p:nvPicPr>
        <p:blipFill>
          <a:blip r:embed="rId3"/>
          <a:stretch/>
        </p:blipFill>
        <p:spPr>
          <a:xfrm flipH="1" rot="602400">
            <a:off x="999720" y="5214600"/>
            <a:ext cx="571680" cy="42876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Тур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9. Кто изображен на гербе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оссийской Федерации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) одноглавый орел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) лев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) двуглавый оре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Тур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0. Какое из слов устаревшее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) изображать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) наблюдать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) молвит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Тур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1. Какое из небесных тел не является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ланетой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) Марс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) Солнц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) Земл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Тур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2. Какую сказку написал не Х.К.Андерсен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) «Снежная королева»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) «Гадкий утенок»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) «Кот в сапогах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Тур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3. Какое сравнение используют, когда говорят об очень сильном дожде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) льет «как из бочки»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) льет «как из ведра»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) льет «как из кастрюли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Тур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4. Что вырабатывается с помощью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ививок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) иммунитет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) интуиция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) рефлекс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Тур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5. Что попало Каю в глаз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) снежинка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) соринка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) осколок стекла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пасибо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Удачи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вам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в следующем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туре 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«Дешифровщик»</a:t>
            </a:r>
            <a:br>
              <a:rPr sz="44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женское имя    4 1 6 3 0   (Мария)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714240" y="1571760"/>
          <a:ext cx="8215560" cy="4929120"/>
        </p:xfrm>
        <a:graphic>
          <a:graphicData uri="http://schemas.openxmlformats.org/drawingml/2006/table">
            <a:tbl>
              <a:tblPr/>
              <a:tblGrid>
                <a:gridCol w="2738520"/>
                <a:gridCol w="2738520"/>
                <a:gridCol w="2738520"/>
              </a:tblGrid>
              <a:tr h="123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б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1224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дее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1224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жзий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1224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1233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л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1224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9bbb5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оп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1224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9bbb5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ст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1224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9bbb59">
                        <a:alpha val="20000"/>
                      </a:srgbClr>
                    </a:solidFill>
                  </a:tcPr>
                </a:tc>
              </a:tr>
              <a:tr h="123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фх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цчш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щъыь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123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9bbb5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эюя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9bbb5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9bbb59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«Дешифровщик»</a:t>
            </a:r>
            <a:br>
              <a:rPr sz="4400"/>
            </a:br>
            <a:br>
              <a:rPr sz="44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хвойное дерево    6 5 6 5 1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714240" y="2071800"/>
          <a:ext cx="8001000" cy="4357440"/>
        </p:xfrm>
        <a:graphic>
          <a:graphicData uri="http://schemas.openxmlformats.org/drawingml/2006/table">
            <a:tbl>
              <a:tblPr/>
              <a:tblGrid>
                <a:gridCol w="2667240"/>
                <a:gridCol w="2666880"/>
                <a:gridCol w="2666880"/>
              </a:tblGrid>
              <a:tr h="108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б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дее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жзий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0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л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bbb5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оп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bbb5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ст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bbb59">
                        <a:alpha val="20000"/>
                      </a:srgbClr>
                    </a:solidFill>
                  </a:tcPr>
                </a:tc>
              </a:tr>
              <a:tr h="108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фх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цчш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щъыь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bbb5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эюя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bbb5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bbb59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14240" y="356760"/>
            <a:ext cx="8143920" cy="628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430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Тур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.</a:t>
            </a:r>
            <a:br>
              <a:rPr sz="4400"/>
            </a:br>
            <a:br>
              <a:rPr sz="44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1. Кто из персонажей стихотворения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А. Барто вздыхал: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«Ох, доска качается…»?</a:t>
            </a:r>
            <a:br>
              <a:rPr sz="3600"/>
            </a:br>
            <a:br>
              <a:rPr sz="3600"/>
            </a:b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 а) мишка;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б) зайка;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в) бычок.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Прямоугольник 7"/>
          <p:cNvSpPr/>
          <p:nvPr/>
        </p:nvSpPr>
        <p:spPr>
          <a:xfrm>
            <a:off x="366480" y="6429240"/>
            <a:ext cx="960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bf1de"/>
                </a:solidFill>
                <a:latin typeface="Calibri"/>
              </a:rPr>
              <a:t>http://aida.ucoz.ru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8778960" y="-19080"/>
            <a:ext cx="371520" cy="688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Тур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I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6840" y="1599840"/>
            <a:ext cx="8115480" cy="61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наешь ли ты сказки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4" descr="http://rq.foto.radikal.ru/0709/dc/63c3db4c069et.jpg"/>
          <p:cNvPicPr/>
          <p:nvPr/>
        </p:nvPicPr>
        <p:blipFill>
          <a:blip r:embed="rId1"/>
          <a:stretch/>
        </p:blipFill>
        <p:spPr>
          <a:xfrm>
            <a:off x="1285920" y="2428920"/>
            <a:ext cx="2328840" cy="35226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6" descr="http://s48.radikal.ru/i119/0812/dd/421342799542x.jpg"/>
          <p:cNvPicPr/>
          <p:nvPr/>
        </p:nvPicPr>
        <p:blipFill>
          <a:blip r:embed="rId2"/>
          <a:stretch/>
        </p:blipFill>
        <p:spPr>
          <a:xfrm>
            <a:off x="3857760" y="3000240"/>
            <a:ext cx="2358720" cy="33116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8" descr="http://www.raskraska.com/catalog0001/mini_293.gif"/>
          <p:cNvPicPr/>
          <p:nvPr/>
        </p:nvPicPr>
        <p:blipFill>
          <a:blip r:embed="rId3"/>
          <a:stretch/>
        </p:blipFill>
        <p:spPr>
          <a:xfrm>
            <a:off x="6500880" y="3619440"/>
            <a:ext cx="2143080" cy="3000600"/>
          </a:xfrm>
          <a:prstGeom prst="rect">
            <a:avLst/>
          </a:prstGeom>
          <a:ln w="0">
            <a:noFill/>
          </a:ln>
        </p:spPr>
      </p:pic>
      <p:pic>
        <p:nvPicPr>
          <p:cNvPr id="94" name="%C7%E0%F1%F2%E0%E2%EA%E0 - %C2 %E3%EE%F1%F2 %F3 %F1%EA%E0%E7%EA%E8.mp3" descr=""/>
          <p:cNvPicPr/>
          <p:nvPr/>
        </p:nvPicPr>
        <p:blipFill>
          <a:blip r:embed="rId4"/>
          <a:stretch/>
        </p:blipFill>
        <p:spPr>
          <a:xfrm>
            <a:off x="1428840" y="628668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95" name="%C7%E0%F1%F2%E0%E2%EA%E0 - %C2 %E3%EE%F1%F2 %F3 %F1%EA%E0%E7%EA%E8.mp3" descr=""/>
          <p:cNvPicPr/>
          <p:nvPr/>
        </p:nvPicPr>
        <p:blipFill>
          <a:blip r:embed="rId5"/>
          <a:stretch/>
        </p:blipFill>
        <p:spPr>
          <a:xfrm>
            <a:off x="2143080" y="628668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9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9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4430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95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95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34430" fill="hold"/>
                                        <p:tgtEl>
                                          <p:spTgt spid="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пасибо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дач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ам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следующе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уре 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уй пары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571320" y="2428920"/>
            <a:ext cx="835812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. сосна                                          а) пол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. одуванчик                                 б) рощ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. береза                                        в)  луг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4.  картофель                                 г) бо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-г, 2-в, 3-б, 4-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Прямая соединительная линия 4"/>
          <p:cNvSpPr/>
          <p:nvPr/>
        </p:nvSpPr>
        <p:spPr>
          <a:xfrm flipV="1">
            <a:off x="2500200" y="3286080"/>
            <a:ext cx="3429000" cy="642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ая соединительная линия 6"/>
          <p:cNvSpPr/>
          <p:nvPr/>
        </p:nvSpPr>
        <p:spPr>
          <a:xfrm>
            <a:off x="3357720" y="3357720"/>
            <a:ext cx="2428560" cy="571320"/>
          </a:xfrm>
          <a:prstGeom prst="line">
            <a:avLst/>
          </a:prstGeom>
          <a:ln w="93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ая соединительная линия 8"/>
          <p:cNvSpPr/>
          <p:nvPr/>
        </p:nvSpPr>
        <p:spPr>
          <a:xfrm>
            <a:off x="2786040" y="2786040"/>
            <a:ext cx="3000240" cy="1643040"/>
          </a:xfrm>
          <a:prstGeom prst="line">
            <a:avLst/>
          </a:prstGeom>
          <a:ln w="9360">
            <a:solidFill>
              <a:srgbClr val="3760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ая соединительная линия 11"/>
          <p:cNvSpPr/>
          <p:nvPr/>
        </p:nvSpPr>
        <p:spPr>
          <a:xfrm flipV="1">
            <a:off x="3357720" y="2857680"/>
            <a:ext cx="2500200" cy="1643040"/>
          </a:xfrm>
          <a:prstGeom prst="line">
            <a:avLst/>
          </a:prstGeom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" dur="20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уй пары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500040" y="2142720"/>
            <a:ext cx="8229600" cy="271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ctr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пуста                                       а) цвет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ctr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рыжовник                            б) деревь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ctr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лен                                            в) овощ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ctr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олокольчик                              г) ягод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Тур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II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00040" y="1785600"/>
            <a:ext cx="8400960" cy="197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Финальный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Рисунок 3" descr="http://nsc.1september.ru/2006/24/4.gif"/>
          <p:cNvPicPr/>
          <p:nvPr/>
        </p:nvPicPr>
        <p:blipFill>
          <a:blip r:embed="rId1"/>
          <a:stretch/>
        </p:blipFill>
        <p:spPr>
          <a:xfrm>
            <a:off x="1143000" y="3071880"/>
            <a:ext cx="928800" cy="1166760"/>
          </a:xfrm>
          <a:prstGeom prst="rect">
            <a:avLst/>
          </a:prstGeom>
          <a:ln w="0">
            <a:noFill/>
          </a:ln>
        </p:spPr>
      </p:pic>
      <p:pic>
        <p:nvPicPr>
          <p:cNvPr id="109" name="Рисунок 4" descr="http://nsc.1september.ru/2006/24/5.gif"/>
          <p:cNvPicPr/>
          <p:nvPr/>
        </p:nvPicPr>
        <p:blipFill>
          <a:blip r:embed="rId2"/>
          <a:stretch/>
        </p:blipFill>
        <p:spPr>
          <a:xfrm>
            <a:off x="2500200" y="5072040"/>
            <a:ext cx="895320" cy="1071720"/>
          </a:xfrm>
          <a:prstGeom prst="rect">
            <a:avLst/>
          </a:prstGeom>
          <a:ln w="0">
            <a:noFill/>
          </a:ln>
        </p:spPr>
      </p:pic>
      <p:pic>
        <p:nvPicPr>
          <p:cNvPr id="110" name="Рисунок 5" descr="http://nsc.1september.ru/2006/24/6.gif"/>
          <p:cNvPicPr/>
          <p:nvPr/>
        </p:nvPicPr>
        <p:blipFill>
          <a:blip r:embed="rId3"/>
          <a:stretch/>
        </p:blipFill>
        <p:spPr>
          <a:xfrm>
            <a:off x="4143240" y="3500280"/>
            <a:ext cx="914400" cy="1143000"/>
          </a:xfrm>
          <a:prstGeom prst="rect">
            <a:avLst/>
          </a:prstGeom>
          <a:ln w="0">
            <a:noFill/>
          </a:ln>
        </p:spPr>
      </p:pic>
      <p:pic>
        <p:nvPicPr>
          <p:cNvPr id="111" name="Рисунок 6" descr="http://nsc.1september.ru/2006/24/7.gif"/>
          <p:cNvPicPr/>
          <p:nvPr/>
        </p:nvPicPr>
        <p:blipFill>
          <a:blip r:embed="rId4"/>
          <a:stretch/>
        </p:blipFill>
        <p:spPr>
          <a:xfrm>
            <a:off x="6072120" y="4714920"/>
            <a:ext cx="1000080" cy="1357200"/>
          </a:xfrm>
          <a:prstGeom prst="rect">
            <a:avLst/>
          </a:prstGeom>
          <a:ln w="0">
            <a:noFill/>
          </a:ln>
        </p:spPr>
      </p:pic>
      <p:pic>
        <p:nvPicPr>
          <p:cNvPr id="112" name="Рисунок 7" descr="http://nsc.1september.ru/2006/24/8.gif"/>
          <p:cNvPicPr/>
          <p:nvPr/>
        </p:nvPicPr>
        <p:blipFill>
          <a:blip r:embed="rId5"/>
          <a:stretch/>
        </p:blipFill>
        <p:spPr>
          <a:xfrm>
            <a:off x="7286760" y="3000240"/>
            <a:ext cx="1004760" cy="12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Тур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. У какого растения никогд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е бывает цветов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) у папоротника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) у каштана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) у кактус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Тур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. Сколько планет в Солнечной системе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) 8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) 9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) 10.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Тур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4. Как называют науку, изучающую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шлое человечества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) история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) география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) литератур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Тур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5. Как называется подземная часть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стения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) почка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) корень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) цветок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Тур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6. Из чего получают сахар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) из сахарной свеклы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) из сахарного сиропа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) из сока деревье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Тур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7. Кто из указанных героев сказк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«Золотой ключик» является куклой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) папа Карло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) Тортила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) Мальвин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Тур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8. Как называется начало реки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) исток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) усть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) впадин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8T14:46:32Z</dcterms:created>
  <dc:creator>User</dc:creator>
  <dc:description/>
  <dc:language>en-US</dc:language>
  <cp:lastModifiedBy>User</cp:lastModifiedBy>
  <dcterms:modified xsi:type="dcterms:W3CDTF">2012-11-11T23:04:14Z</dcterms:modified>
  <cp:revision>32</cp:revision>
  <dc:subject/>
  <dc:title>Самый     умный.</dc:title>
</cp:coreProperties>
</file>