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724-33A2-4C8F-B272-281D1959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7F6-34A5-4474-80D9-A58D4135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98C-3B0D-4F7E-A689-9218A441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0A2-B046-4A8A-BFB8-6652AA1D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2A2-71D2-426F-AE19-53E758BA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2C99-9495-413B-9460-E173B64D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210E-1BCE-4CB9-8666-F450EB9F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9D98-682D-44FF-92A1-5C82E45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0C61-DE17-41E8-A3D2-12F03045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09F8-51E4-4C1E-BD5E-E9503249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CA96-447C-4831-B753-101D08E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114-1986-4F3F-B215-3A3A8DBB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CE23-763D-4EA7-874A-1E1EB2C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976C-1AB4-48FF-9D25-6C593FEA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8B83-1580-40E8-8D76-994BB5A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28E8-61AB-4D60-B463-03AD0AF4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06D7-2161-4065-AE66-735E8BF0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D7E4-413E-47EA-B36E-AEA1E0E1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2929-EA09-4BFA-8A07-271D029D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B8BB-DDC4-406A-B9AB-64D793EC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AA83-0848-47DB-A58D-0E5EA05A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A5E2-8DD9-4978-BB42-5D4876A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F5F-C0F2-4AB9-9DA8-DAD3BD09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4373-9130-4604-BBA7-BE0E8A3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DBC23-C1E1-45DF-9626-28E7DDF0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4ED7-CC83-4FA3-B1E3-F0787DB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65C9-F6D9-43CD-BB7A-E2495E9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AAE3-ADE9-4788-B7EF-FE7E03AF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1C5D-CF5C-4D47-AA37-52099C1D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8B54-9D3A-46F8-B705-05C9589E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1AE4-3ABF-4F94-9C20-326EB168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FB9C9-497E-466B-BEE5-93ABEB25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763A8-761B-47B8-9CD0-1691176D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A86-CBC0-46A0-8ABC-80DA837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BDB4-5F02-4C3F-9119-6967F8FA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5EC8-5B77-456D-AE73-D2C088CC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C67E-87C1-42BD-B190-7D742309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F76C-DB99-4BD6-9DE6-338DA35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CDDD-5DC8-495A-AD17-A25F155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9113-3E80-4934-AA24-3915241A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798D-A391-401A-A425-B976BD9A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AF52-B20C-457F-A146-2CC0BAB3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3120-DF24-4A14-8A57-A8D1427E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74C7D-56ED-4F9A-90D4-C30336D2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992-AAAE-40EF-B1DB-AB261311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99BE-5DC5-416C-88CA-556314DB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FB6DF-EC3A-4712-9BAF-FB0EFFB6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81127-1DBA-420C-BB0F-860FE0AD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D953-B8E3-44F8-83A2-DE271739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ADEF-6F4A-4837-94AC-55FAAE7F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9588-007A-4D94-BD8A-7A187743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A36B8-8C7B-4373-BC9B-B4ACFFB9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8E55-9869-4981-9239-C2B5559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1DDA5-ACB0-474F-960A-A800124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687CE-2A1C-4D32-9CFE-DCA38E8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71C-5B5B-4C84-9753-E8D2D9A1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EFB61-0601-47DE-B687-2D538640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D2C5-F97C-4473-BA66-69F3F9EB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81CD2-0D63-4695-A7F2-582BD7C1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460B-D9DA-4212-B7F3-E5223BB6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5506-20E8-4CB7-9D5B-77DF471E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96BC2-DA66-479B-9E7E-ACA45455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1172-4271-4B73-8B75-2BEABA04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BECD9-F652-4BE9-AE8B-5ECBEC91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8BB21-0BEC-4073-9823-A373DFEE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572FE-1AA3-4C6F-BF39-E95BE33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B6F-CE29-4146-8689-3F65696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4C0D3-B638-4E0C-AD60-0C8AB7CE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5549C-B130-45BB-9476-F6B6EC7A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CA4CB-5ED9-476C-8F1C-6F1D8439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BC4-C553-493D-B1DE-AECF564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425-3A93-468E-8C33-4ADFF22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61FE-138B-4361-8731-B6D611885E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716-6BAE-48B4-AB67-C1E9B415F7C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4806-DBB8-44FF-88F6-46A4F97ACE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3803-4914-4221-80DC-667744989F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15E3-8377-430B-A87F-2354359FB0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4A62-FADC-4F7E-A5EF-959E10E38F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714240" y="181440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Формирование У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395280" y="1773360"/>
            <a:ext cx="820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1187280" y="1628640"/>
            <a:ext cx="3888000" cy="36720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3851280" y="1700280"/>
            <a:ext cx="3960720" cy="3673440"/>
          </a:xfrm>
          <a:prstGeom prst="ellipse">
            <a:avLst/>
          </a:prstGeom>
          <a:solidFill>
            <a:srgbClr val="9933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9"/>
          <p:cNvSpPr txBox="1"/>
          <p:nvPr/>
        </p:nvSpPr>
        <p:spPr>
          <a:xfrm rot="5599800">
            <a:off x="5229360" y="2554920"/>
            <a:ext cx="2238480" cy="182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11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ПЕТЕНТ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3" name="WordArt 10"/>
          <p:cNvSpPr txBox="1"/>
          <p:nvPr/>
        </p:nvSpPr>
        <p:spPr>
          <a:xfrm rot="16200000">
            <a:off x="1367640" y="2672640"/>
            <a:ext cx="2301840" cy="13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ПЕТЕНЦ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4" name="WordArt 11"/>
          <p:cNvSpPr txBox="1"/>
          <p:nvPr/>
        </p:nvSpPr>
        <p:spPr>
          <a:xfrm rot="5400000">
            <a:off x="3743280" y="3249360"/>
            <a:ext cx="1485720" cy="403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1476360" y="333360"/>
            <a:ext cx="6767640" cy="93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928800" y="214200"/>
            <a:ext cx="70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КЛЮЧЕВЫЕ КОМПЕТЕН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468360" y="17002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КОММУНИК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ИНФОРМАЦИ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ОЛЕРА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928800" y="214200"/>
            <a:ext cx="70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РУКТУРА КОМПЕТЕН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95280" y="1341360"/>
            <a:ext cx="820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ЦЕННОСТНЫЕ ОТНОШЕНИЯ К ЗН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ГОТОВНОСТЬ К ПРИМЕНЕНИЮ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ОЗИТИВНЫЙ ОПЫТ ПРИМЕН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928800" y="214200"/>
            <a:ext cx="7072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ВЯЗЬ КОМПЕТЕНТНОСТЕЙ С ПЛАНИРУЕМЫМИ РЕЗУЛЬТА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773360"/>
            <a:ext cx="237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611280" y="1773360"/>
            <a:ext cx="2089080" cy="792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611280" y="2852640"/>
            <a:ext cx="2089080" cy="792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611280" y="4005360"/>
            <a:ext cx="2089080" cy="792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611280" y="5157720"/>
            <a:ext cx="2089080" cy="792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5292720" y="1844640"/>
            <a:ext cx="2303640" cy="792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"/>
          <p:cNvSpPr/>
          <p:nvPr/>
        </p:nvSpPr>
        <p:spPr>
          <a:xfrm>
            <a:off x="5292720" y="2852640"/>
            <a:ext cx="2303640" cy="792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5292720" y="4076640"/>
            <a:ext cx="2303640" cy="792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5292720" y="5229360"/>
            <a:ext cx="2303640" cy="792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>
            <a:off x="169236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1619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3"/>
          <p:cNvSpPr/>
          <p:nvPr/>
        </p:nvSpPr>
        <p:spPr>
          <a:xfrm>
            <a:off x="154764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>
            <a:off x="270036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5"/>
          <p:cNvSpPr/>
          <p:nvPr/>
        </p:nvSpPr>
        <p:spPr>
          <a:xfrm>
            <a:off x="2700360" y="2997360"/>
            <a:ext cx="2592360" cy="360360"/>
          </a:xfrm>
          <a:prstGeom prst="rightArrow">
            <a:avLst>
              <a:gd name="adj1" fmla="val 50000"/>
              <a:gd name="adj2" fmla="val 179845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6"/>
          <p:cNvSpPr/>
          <p:nvPr/>
        </p:nvSpPr>
        <p:spPr>
          <a:xfrm>
            <a:off x="2700360" y="2060640"/>
            <a:ext cx="2592360" cy="360360"/>
          </a:xfrm>
          <a:prstGeom prst="rightArrow">
            <a:avLst>
              <a:gd name="adj1" fmla="val 50000"/>
              <a:gd name="adj2" fmla="val 179845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7"/>
          <p:cNvSpPr/>
          <p:nvPr/>
        </p:nvSpPr>
        <p:spPr>
          <a:xfrm>
            <a:off x="2700360" y="4292640"/>
            <a:ext cx="2592360" cy="360360"/>
          </a:xfrm>
          <a:prstGeom prst="rightArrow">
            <a:avLst>
              <a:gd name="adj1" fmla="val 50000"/>
              <a:gd name="adj2" fmla="val 179845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8"/>
          <p:cNvSpPr/>
          <p:nvPr/>
        </p:nvSpPr>
        <p:spPr>
          <a:xfrm>
            <a:off x="2700360" y="5373720"/>
            <a:ext cx="2592360" cy="360360"/>
          </a:xfrm>
          <a:prstGeom prst="rightArrow">
            <a:avLst>
              <a:gd name="adj1" fmla="val 50000"/>
              <a:gd name="adj2" fmla="val 179845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9"/>
          <p:cNvSpPr/>
          <p:nvPr/>
        </p:nvSpPr>
        <p:spPr>
          <a:xfrm>
            <a:off x="7596360" y="2276640"/>
            <a:ext cx="360360" cy="2304720"/>
          </a:xfrm>
          <a:custGeom>
            <a:avLst/>
            <a:gdLst>
              <a:gd name="textAreaLeft" fmla="*/ 0 w 360360"/>
              <a:gd name="textAreaRight" fmla="*/ 129960 w 360360"/>
              <a:gd name="textAreaTop" fmla="*/ 59760 h 2304720"/>
              <a:gd name="textAreaBottom" fmla="*/ 22449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11"/>
                </a:lnTo>
                <a:cubicBezTo>
                  <a:pt x="10800" y="9811"/>
                  <a:pt x="16200" y="10711"/>
                  <a:pt x="21600" y="10711"/>
                </a:cubicBezTo>
                <a:cubicBezTo>
                  <a:pt x="16200" y="10711"/>
                  <a:pt x="10800" y="11611"/>
                  <a:pt x="10800" y="125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8172360" y="3068640"/>
            <a:ext cx="792360" cy="3097080"/>
          </a:xfrm>
          <a:custGeom>
            <a:avLst/>
            <a:gdLst>
              <a:gd name="textAreaLeft" fmla="*/ 106200 w 792360"/>
              <a:gd name="textAreaRight" fmla="*/ 686160 w 792360"/>
              <a:gd name="textAreaTop" fmla="*/ 541800 h 3097080"/>
              <a:gd name="textAreaBottom" fmla="*/ 224532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17928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928800" y="214200"/>
            <a:ext cx="7072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ХНОЛОГИИ ФОРМИРОВАНИЯ У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11280" y="1484280"/>
            <a:ext cx="2881080" cy="1800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5724360" y="4437000"/>
            <a:ext cx="2881440" cy="1800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611280" y="4437000"/>
            <a:ext cx="2881080" cy="1800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5651640" y="1484280"/>
            <a:ext cx="2881080" cy="1800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132000" y="2781360"/>
            <a:ext cx="2881440" cy="2160360"/>
          </a:xfrm>
          <a:prstGeom prst="sun">
            <a:avLst>
              <a:gd name="adj" fmla="val 2500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5"/>
          <p:cNvSpPr/>
          <p:nvPr/>
        </p:nvSpPr>
        <p:spPr>
          <a:xfrm>
            <a:off x="3708360" y="1773360"/>
            <a:ext cx="1728720" cy="1006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6"/>
          <p:cNvSpPr/>
          <p:nvPr/>
        </p:nvSpPr>
        <p:spPr>
          <a:xfrm>
            <a:off x="3708360" y="4941720"/>
            <a:ext cx="1800360" cy="1008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7"/>
          <p:cNvSpPr/>
          <p:nvPr/>
        </p:nvSpPr>
        <p:spPr>
          <a:xfrm>
            <a:off x="1332000" y="3357720"/>
            <a:ext cx="1655640" cy="93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8"/>
          <p:cNvSpPr/>
          <p:nvPr/>
        </p:nvSpPr>
        <p:spPr>
          <a:xfrm>
            <a:off x="6084720" y="3284640"/>
            <a:ext cx="194328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2"/>
          <p:cNvSpPr/>
          <p:nvPr/>
        </p:nvSpPr>
        <p:spPr>
          <a:xfrm>
            <a:off x="0" y="0"/>
            <a:ext cx="932328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395280" y="333360"/>
            <a:ext cx="8282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РИМЕНЕНИЕ ЛЮБОЙ ТЕХНОГЛОГИИ ДОЛЖНО БЫТЬ ОРИЕНТИРОВАНО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формальное признание ученика субъектом собствен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каз от авторитарной позиции учителя в обуч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отовность к скрытому руководству деятельностью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олерантность, готовность к принятию различных точек зрения субъектов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тимистичный взгляд на перспективы развития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2"/>
          <p:cNvSpPr/>
          <p:nvPr/>
        </p:nvSpPr>
        <p:spPr>
          <a:xfrm>
            <a:off x="0" y="0"/>
            <a:ext cx="932328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395280" y="333360"/>
            <a:ext cx="828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ТРУКТУРА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Учебное целеполаг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ланирование способов достижения учебной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Учебн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нтроль и коррекция способа достижения учебной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ценка результата достижения учебной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20"/>
          <p:cNvSpPr/>
          <p:nvPr/>
        </p:nvSpPr>
        <p:spPr>
          <a:xfrm>
            <a:off x="3500280" y="521496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1"/>
          <p:cNvSpPr/>
          <p:nvPr/>
        </p:nvSpPr>
        <p:spPr>
          <a:xfrm>
            <a:off x="6858000" y="128592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22"/>
          <p:cNvSpPr/>
          <p:nvPr/>
        </p:nvSpPr>
        <p:spPr>
          <a:xfrm>
            <a:off x="71280" y="414324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23"/>
          <p:cNvSpPr/>
          <p:nvPr/>
        </p:nvSpPr>
        <p:spPr>
          <a:xfrm>
            <a:off x="71280" y="128592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24"/>
          <p:cNvSpPr/>
          <p:nvPr/>
        </p:nvSpPr>
        <p:spPr>
          <a:xfrm>
            <a:off x="6858000" y="414324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25"/>
          <p:cNvSpPr/>
          <p:nvPr/>
        </p:nvSpPr>
        <p:spPr>
          <a:xfrm>
            <a:off x="3357720" y="285840"/>
            <a:ext cx="2214360" cy="12142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500280" y="571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АЯ ЦЕЛЬ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12"/>
          <p:cNvSpPr/>
          <p:nvPr/>
        </p:nvSpPr>
        <p:spPr>
          <a:xfrm>
            <a:off x="3713040" y="2786040"/>
            <a:ext cx="1714680" cy="1143000"/>
          </a:xfrm>
          <a:prstGeom prst="ellipse">
            <a:avLst/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927600" y="30891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929280" y="142884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ОЕ СОДЕРЖАНИ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571920" y="5286240"/>
            <a:ext cx="22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ТРЕБОВАНИЯ К ПОДГОТОВК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6732720" y="436572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0" y="428616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ТЕХНОЛОГ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71280" y="142884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трелка вверх 19"/>
          <p:cNvSpPr/>
          <p:nvPr/>
        </p:nvSpPr>
        <p:spPr>
          <a:xfrm>
            <a:off x="4356000" y="1571760"/>
            <a:ext cx="357120" cy="11206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трелка вверх 26"/>
          <p:cNvSpPr/>
          <p:nvPr/>
        </p:nvSpPr>
        <p:spPr>
          <a:xfrm rot="10800000">
            <a:off x="4356000" y="4000320"/>
            <a:ext cx="357120" cy="11206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 вверх 27"/>
          <p:cNvSpPr/>
          <p:nvPr/>
        </p:nvSpPr>
        <p:spPr>
          <a:xfrm rot="3600000">
            <a:off x="5893200" y="1710360"/>
            <a:ext cx="357480" cy="17748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трелка вверх 28"/>
          <p:cNvSpPr/>
          <p:nvPr/>
        </p:nvSpPr>
        <p:spPr>
          <a:xfrm rot="7200000">
            <a:off x="5893560" y="3210840"/>
            <a:ext cx="357120" cy="17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верх 29"/>
          <p:cNvSpPr/>
          <p:nvPr/>
        </p:nvSpPr>
        <p:spPr>
          <a:xfrm rot="18000000">
            <a:off x="2892960" y="1710000"/>
            <a:ext cx="357480" cy="17748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трелка вверх 30"/>
          <p:cNvSpPr/>
          <p:nvPr/>
        </p:nvSpPr>
        <p:spPr>
          <a:xfrm rot="14400000">
            <a:off x="2821320" y="3138840"/>
            <a:ext cx="357120" cy="17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928800" y="214200"/>
            <a:ext cx="7072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ЧЕМ ОСНОВНАЯ ЦЕЛЬ СОВРЕМЕННОГО ОБРАЗОВА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8000" y="1773360"/>
            <a:ext cx="885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РАЗВИТИЕ ЛИЧНОСТИ, ИНТЕГРИРОВАННОЙ В МИРОВУЮ И НАЦИОНАЛЬНУЮ КУЛЬТУРУ, ОБЛАДАЮЩЕЙ КЛЮЧЕВЫМИ КОМПЕТЕНТНОСТЯМИ, СПОСОБНОЙ К ОТВЕТСВЕННОМУ ПОВЕДЕНИЮ И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АМОРЕ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928800" y="214200"/>
            <a:ext cx="70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Что значит самореализ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5280" y="1773360"/>
            <a:ext cx="820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Самореализация – это состояние совпадения двух услов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изнание обществом значимости деятельности, выполняемой личн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олучение личностью удовлетворения от результатов свое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971640" y="1700280"/>
            <a:ext cx="70722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КОГДА ВОЗМОЖНА САМОРЕАЛИЗ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ОТ КОГО ЗАВИСИТ САМОРЕАЛИЗ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50920" y="5516640"/>
            <a:ext cx="82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0" y="117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ЦИПЫ ОРГАНИЗАЦИИ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46"/>
          <p:cNvSpPr/>
          <p:nvPr/>
        </p:nvSpPr>
        <p:spPr>
          <a:xfrm>
            <a:off x="142920" y="1357200"/>
            <a:ext cx="2000160" cy="6429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47"/>
          <p:cNvSpPr/>
          <p:nvPr/>
        </p:nvSpPr>
        <p:spPr>
          <a:xfrm>
            <a:off x="142920" y="142884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ВИД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Б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48"/>
          <p:cNvSpPr/>
          <p:nvPr/>
        </p:nvSpPr>
        <p:spPr>
          <a:xfrm>
            <a:off x="3071880" y="1357200"/>
            <a:ext cx="2928960" cy="6429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49"/>
          <p:cNvSpPr/>
          <p:nvPr/>
        </p:nvSpPr>
        <p:spPr>
          <a:xfrm>
            <a:off x="2928960" y="135720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ЛЕКТИВ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50"/>
          <p:cNvSpPr/>
          <p:nvPr/>
        </p:nvSpPr>
        <p:spPr>
          <a:xfrm>
            <a:off x="6786720" y="1357200"/>
            <a:ext cx="2000160" cy="6429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6"/>
          <p:cNvSpPr/>
          <p:nvPr/>
        </p:nvSpPr>
        <p:spPr>
          <a:xfrm>
            <a:off x="6786720" y="142884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ИЕНТАЦИЯ НА 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57"/>
          <p:cNvSpPr/>
          <p:nvPr/>
        </p:nvSpPr>
        <p:spPr>
          <a:xfrm>
            <a:off x="108000" y="2565360"/>
            <a:ext cx="2000160" cy="6429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58"/>
          <p:cNvSpPr/>
          <p:nvPr/>
        </p:nvSpPr>
        <p:spPr>
          <a:xfrm>
            <a:off x="108000" y="270828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СТИ ДЛЯ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59"/>
          <p:cNvSpPr/>
          <p:nvPr/>
        </p:nvSpPr>
        <p:spPr>
          <a:xfrm>
            <a:off x="142920" y="3786120"/>
            <a:ext cx="2000160" cy="10000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60"/>
          <p:cNvSpPr/>
          <p:nvPr/>
        </p:nvSpPr>
        <p:spPr>
          <a:xfrm>
            <a:off x="108000" y="407664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НЫЙ ПОД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61"/>
          <p:cNvSpPr/>
          <p:nvPr/>
        </p:nvSpPr>
        <p:spPr>
          <a:xfrm>
            <a:off x="142920" y="5184720"/>
            <a:ext cx="2000160" cy="12445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62"/>
          <p:cNvSpPr/>
          <p:nvPr/>
        </p:nvSpPr>
        <p:spPr>
          <a:xfrm>
            <a:off x="108000" y="5445000"/>
            <a:ext cx="20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ИБКОСТЬ ОРГАНИЗАЦИОННЫХ ФОРМ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63"/>
          <p:cNvSpPr/>
          <p:nvPr/>
        </p:nvSpPr>
        <p:spPr>
          <a:xfrm>
            <a:off x="6786720" y="2568600"/>
            <a:ext cx="2000160" cy="6429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64"/>
          <p:cNvSpPr/>
          <p:nvPr/>
        </p:nvSpPr>
        <p:spPr>
          <a:xfrm>
            <a:off x="6786720" y="268128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ИЗАЦИЯ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65"/>
          <p:cNvSpPr/>
          <p:nvPr/>
        </p:nvSpPr>
        <p:spPr>
          <a:xfrm>
            <a:off x="6786720" y="3786120"/>
            <a:ext cx="2000160" cy="10000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66"/>
          <p:cNvSpPr/>
          <p:nvPr/>
        </p:nvSpPr>
        <p:spPr>
          <a:xfrm>
            <a:off x="6786720" y="3786120"/>
            <a:ext cx="20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ОГО СОПРОВОЖДЕНИЯ УЧЕБ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69"/>
          <p:cNvSpPr/>
          <p:nvPr/>
        </p:nvSpPr>
        <p:spPr>
          <a:xfrm>
            <a:off x="6786720" y="5184720"/>
            <a:ext cx="2000160" cy="12445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70"/>
          <p:cNvSpPr/>
          <p:nvPr/>
        </p:nvSpPr>
        <p:spPr>
          <a:xfrm>
            <a:off x="6804000" y="558972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НОУРОВНЕВОСТЬ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71"/>
          <p:cNvSpPr/>
          <p:nvPr/>
        </p:nvSpPr>
        <p:spPr>
          <a:xfrm>
            <a:off x="3500280" y="5184720"/>
            <a:ext cx="2000520" cy="12445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72"/>
          <p:cNvSpPr/>
          <p:nvPr/>
        </p:nvSpPr>
        <p:spPr>
          <a:xfrm>
            <a:off x="3500280" y="5497560"/>
            <a:ext cx="200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И ПРОЦЕССА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право 77"/>
          <p:cNvSpPr/>
          <p:nvPr/>
        </p:nvSpPr>
        <p:spPr>
          <a:xfrm rot="5400000">
            <a:off x="4250160" y="48934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право 78"/>
          <p:cNvSpPr/>
          <p:nvPr/>
        </p:nvSpPr>
        <p:spPr>
          <a:xfrm rot="16200000">
            <a:off x="3964680" y="2321640"/>
            <a:ext cx="85752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право 79"/>
          <p:cNvSpPr/>
          <p:nvPr/>
        </p:nvSpPr>
        <p:spPr>
          <a:xfrm rot="13800000">
            <a:off x="2064960" y="2440800"/>
            <a:ext cx="1560600" cy="21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право 80"/>
          <p:cNvSpPr/>
          <p:nvPr/>
        </p:nvSpPr>
        <p:spPr>
          <a:xfrm rot="18600000">
            <a:off x="5310720" y="2446560"/>
            <a:ext cx="1638360" cy="21456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трелка вправо 81"/>
          <p:cNvSpPr/>
          <p:nvPr/>
        </p:nvSpPr>
        <p:spPr>
          <a:xfrm rot="20400000">
            <a:off x="5826240" y="3076560"/>
            <a:ext cx="99540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трелка вправо 82"/>
          <p:cNvSpPr/>
          <p:nvPr/>
        </p:nvSpPr>
        <p:spPr>
          <a:xfrm rot="12000000">
            <a:off x="2150280" y="3133080"/>
            <a:ext cx="933480" cy="2142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право 83"/>
          <p:cNvSpPr/>
          <p:nvPr/>
        </p:nvSpPr>
        <p:spPr>
          <a:xfrm rot="1200000">
            <a:off x="6013080" y="4059360"/>
            <a:ext cx="798480" cy="2142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трелка вправо 84"/>
          <p:cNvSpPr/>
          <p:nvPr/>
        </p:nvSpPr>
        <p:spPr>
          <a:xfrm rot="9600000">
            <a:off x="2155680" y="4105080"/>
            <a:ext cx="798480" cy="2142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право 85"/>
          <p:cNvSpPr/>
          <p:nvPr/>
        </p:nvSpPr>
        <p:spPr>
          <a:xfrm rot="8400000">
            <a:off x="1972440" y="4813200"/>
            <a:ext cx="143532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право 86"/>
          <p:cNvSpPr/>
          <p:nvPr/>
        </p:nvSpPr>
        <p:spPr>
          <a:xfrm rot="2400000">
            <a:off x="5540040" y="4714920"/>
            <a:ext cx="141444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73"/>
          <p:cNvSpPr/>
          <p:nvPr/>
        </p:nvSpPr>
        <p:spPr>
          <a:xfrm>
            <a:off x="2857680" y="2857680"/>
            <a:ext cx="3214440" cy="192852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74"/>
          <p:cNvSpPr/>
          <p:nvPr/>
        </p:nvSpPr>
        <p:spPr>
          <a:xfrm>
            <a:off x="3357720" y="3214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714240" y="0"/>
            <a:ext cx="7858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МЕНЕНИЕ РОЛИ УЧАСТНИКОВ ПЕДАГОГИЧЕСКОГО ПРОЦЕ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ый прямоугольник 24"/>
          <p:cNvSpPr/>
          <p:nvPr/>
        </p:nvSpPr>
        <p:spPr>
          <a:xfrm>
            <a:off x="714240" y="11984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5"/>
          <p:cNvSpPr/>
          <p:nvPr/>
        </p:nvSpPr>
        <p:spPr>
          <a:xfrm>
            <a:off x="785880" y="1285920"/>
            <a:ext cx="121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УЧЕНИ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26"/>
          <p:cNvSpPr/>
          <p:nvPr/>
        </p:nvSpPr>
        <p:spPr>
          <a:xfrm>
            <a:off x="7143840" y="12412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7"/>
          <p:cNvSpPr/>
          <p:nvPr/>
        </p:nvSpPr>
        <p:spPr>
          <a:xfrm>
            <a:off x="7215120" y="1330200"/>
            <a:ext cx="121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УЧИТЕ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28"/>
          <p:cNvSpPr/>
          <p:nvPr/>
        </p:nvSpPr>
        <p:spPr>
          <a:xfrm>
            <a:off x="571680" y="1857240"/>
            <a:ext cx="1643040" cy="8575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9"/>
          <p:cNvSpPr/>
          <p:nvPr/>
        </p:nvSpPr>
        <p:spPr>
          <a:xfrm>
            <a:off x="500040" y="1859040"/>
            <a:ext cx="1785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ПОЛУЧАЕТ ГОТОВУ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0"/>
          <p:cNvSpPr/>
          <p:nvPr/>
        </p:nvSpPr>
        <p:spPr>
          <a:xfrm>
            <a:off x="7000920" y="1884240"/>
            <a:ext cx="1643040" cy="8575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31"/>
          <p:cNvSpPr/>
          <p:nvPr/>
        </p:nvSpPr>
        <p:spPr>
          <a:xfrm>
            <a:off x="6929280" y="1973160"/>
            <a:ext cx="1785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ТРАНСЛИРУ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32"/>
          <p:cNvSpPr/>
          <p:nvPr/>
        </p:nvSpPr>
        <p:spPr>
          <a:xfrm>
            <a:off x="324000" y="2852640"/>
            <a:ext cx="1858680" cy="2448000"/>
          </a:xfrm>
          <a:custGeom>
            <a:avLst/>
            <a:gdLst>
              <a:gd name="textAreaLeft" fmla="*/ 90720 w 1858680"/>
              <a:gd name="textAreaRight" fmla="*/ 1767960 w 1858680"/>
              <a:gd name="textAreaTop" fmla="*/ 90720 h 2448000"/>
              <a:gd name="textAreaBottom" fmla="*/ 2357280 h 2448000"/>
            </a:gdLst>
            <a:ahLst/>
            <a:rect l="textAreaLeft" t="textAreaTop" r="textAreaRight" b="textAreaBottom"/>
            <a:pathLst>
              <a:path w="21600" h="28447">
                <a:moveTo>
                  <a:pt x="3600" y="0"/>
                </a:moveTo>
                <a:arcTo wR="3600" hR="3600" stAng="16200000" swAng="-5400000"/>
                <a:lnTo>
                  <a:pt x="0" y="24847"/>
                </a:lnTo>
                <a:arcTo wR="3600" hR="3600" stAng="10800000" swAng="-5400000"/>
                <a:lnTo>
                  <a:pt x="18000" y="284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33"/>
          <p:cNvSpPr/>
          <p:nvPr/>
        </p:nvSpPr>
        <p:spPr>
          <a:xfrm>
            <a:off x="395280" y="2924280"/>
            <a:ext cx="172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</a:rPr>
              <a:t>СТАВИТ УЧЕБНУЮ ЦЕЛЬ, ПЛАНИРУЕТ СПОСОБЫ ЕЕ ДОСТИ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</a:rPr>
              <a:t>ОСУЩЕСТВЛЯЕТ КОНТРОЛЬ И КОРРЕКЦИЮ СПОСОБА; ПОИС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</a:rPr>
              <a:t>ВЫБОР, АНАЛИЗ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</a:rPr>
              <a:t>СИСТЕМАТИЗАЦИЮ ИНФОРМА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34"/>
          <p:cNvSpPr/>
          <p:nvPr/>
        </p:nvSpPr>
        <p:spPr>
          <a:xfrm>
            <a:off x="7000920" y="2857680"/>
            <a:ext cx="1643040" cy="15714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5"/>
          <p:cNvSpPr/>
          <p:nvPr/>
        </p:nvSpPr>
        <p:spPr>
          <a:xfrm>
            <a:off x="6929280" y="292896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</a:rPr>
              <a:t>СКРЫТО РУКОВОДИТ И ОРГАНИЗУЕТ ДЕЯТЕЛЬНОСТЬ УЧЕНИКА НА ОСНОВЕ СОЗДАННОЙ МОДЕЛ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36"/>
          <p:cNvSpPr/>
          <p:nvPr/>
        </p:nvSpPr>
        <p:spPr>
          <a:xfrm>
            <a:off x="2857680" y="4429080"/>
            <a:ext cx="3500280" cy="4287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37"/>
          <p:cNvSpPr/>
          <p:nvPr/>
        </p:nvSpPr>
        <p:spPr>
          <a:xfrm>
            <a:off x="2771640" y="4462560"/>
            <a:ext cx="358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НОВОЕ КАЧЕСТВ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0"/>
          <p:cNvSpPr/>
          <p:nvPr/>
        </p:nvSpPr>
        <p:spPr>
          <a:xfrm>
            <a:off x="1908000" y="5805360"/>
            <a:ext cx="5359680" cy="9288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1"/>
          <p:cNvSpPr/>
          <p:nvPr/>
        </p:nvSpPr>
        <p:spPr>
          <a:xfrm>
            <a:off x="1547640" y="5805360"/>
            <a:ext cx="590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РАЗВИТИЕ «КОМПЕТЕНТНОСТИ К ОБНОВЛЕНИЮ КОМПЕТЕНЦИЙ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38"/>
          <p:cNvSpPr/>
          <p:nvPr/>
        </p:nvSpPr>
        <p:spPr>
          <a:xfrm>
            <a:off x="2428920" y="5214960"/>
            <a:ext cx="4286160" cy="4287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9"/>
          <p:cNvSpPr/>
          <p:nvPr/>
        </p:nvSpPr>
        <p:spPr>
          <a:xfrm>
            <a:off x="2428920" y="5248440"/>
            <a:ext cx="428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НОВЫЙ ОБРАЗОВАТЕЛЬНЫЙ РЕЗУЛЬТ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42"/>
          <p:cNvSpPr/>
          <p:nvPr/>
        </p:nvSpPr>
        <p:spPr>
          <a:xfrm>
            <a:off x="3429000" y="1714680"/>
            <a:ext cx="2286000" cy="10713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3"/>
          <p:cNvSpPr/>
          <p:nvPr/>
        </p:nvSpPr>
        <p:spPr>
          <a:xfrm>
            <a:off x="3419640" y="1747800"/>
            <a:ext cx="2520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В ТРАДИЦИОН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СИСТЕМ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ОБРАЗОВАТЕЛЬНО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</a:rPr>
              <a:t>ПРОЦЕС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право 44"/>
          <p:cNvSpPr/>
          <p:nvPr/>
        </p:nvSpPr>
        <p:spPr>
          <a:xfrm>
            <a:off x="5796000" y="2133720"/>
            <a:ext cx="128592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право 45"/>
          <p:cNvSpPr/>
          <p:nvPr/>
        </p:nvSpPr>
        <p:spPr>
          <a:xfrm rot="10800000">
            <a:off x="2214360" y="2142720"/>
            <a:ext cx="12142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право 51"/>
          <p:cNvSpPr/>
          <p:nvPr/>
        </p:nvSpPr>
        <p:spPr>
          <a:xfrm rot="5400000">
            <a:off x="4464360" y="4821840"/>
            <a:ext cx="3571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углом 52"/>
          <p:cNvSpPr/>
          <p:nvPr/>
        </p:nvSpPr>
        <p:spPr>
          <a:xfrm rot="5400000">
            <a:off x="3159360" y="2824920"/>
            <a:ext cx="642960" cy="257148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углом 53"/>
          <p:cNvSpPr/>
          <p:nvPr/>
        </p:nvSpPr>
        <p:spPr>
          <a:xfrm flipV="1" rot="5400000">
            <a:off x="5391720" y="2824920"/>
            <a:ext cx="642960" cy="257148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Выгнутая влево стрелка 54"/>
          <p:cNvSpPr/>
          <p:nvPr/>
        </p:nvSpPr>
        <p:spPr>
          <a:xfrm>
            <a:off x="142920" y="2286000"/>
            <a:ext cx="428760" cy="1643040"/>
          </a:xfrm>
          <a:custGeom>
            <a:avLst/>
            <a:gdLst>
              <a:gd name="textAreaLeft" fmla="*/ 57240 w 428760"/>
              <a:gd name="textAreaRight" fmla="*/ 371520 w 428760"/>
              <a:gd name="textAreaTop" fmla="*/ 370440 h 1643040"/>
              <a:gd name="textAreaBottom" fmla="*/ 121896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44" stAng="-5400000" swAng="-5400000"/>
                <a:lnTo>
                  <a:pt x="0" y="11153"/>
                </a:lnTo>
                <a:arcTo wR="21600" hR="9744" stAng="10800000" swAng="-3612813"/>
                <a:lnTo>
                  <a:pt x="16200" y="21291"/>
                </a:lnTo>
                <a:lnTo>
                  <a:pt x="21600" y="20192"/>
                </a:lnTo>
                <a:lnTo>
                  <a:pt x="16200" y="18474"/>
                </a:lnTo>
                <a:lnTo>
                  <a:pt x="16200" y="19178"/>
                </a:lnTo>
                <a:arcTo wR="21600" hR="9744" stAng="7187187" swAng="3500434"/>
                <a:lnTo>
                  <a:pt x="57" y="10448"/>
                </a:lnTo>
                <a:arcTo wR="21600" hR="9744" stAng="-10687621" swAng="5287621"/>
                <a:close/>
              </a:path>
              <a:path fill="darkenLess" w="21600" h="21600">
                <a:moveTo>
                  <a:pt x="21600" y="0"/>
                </a:moveTo>
                <a:arcTo wR="21600" hR="9744" stAng="-5400000" swAng="-5400000"/>
                <a:lnTo>
                  <a:pt x="0" y="9744"/>
                </a:lnTo>
                <a:arcTo wR="21600" hR="9744" stAng="10800000" swAng="-112379"/>
                <a:lnTo>
                  <a:pt x="57" y="10448"/>
                </a:lnTo>
                <a:arcTo wR="21600" hR="9744" stAng="-10687621" swAng="5287621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Выгнутая вправо стрелка 55"/>
          <p:cNvSpPr/>
          <p:nvPr/>
        </p:nvSpPr>
        <p:spPr>
          <a:xfrm>
            <a:off x="8643960" y="2286000"/>
            <a:ext cx="357120" cy="1643040"/>
          </a:xfrm>
          <a:custGeom>
            <a:avLst/>
            <a:gdLst>
              <a:gd name="textAreaLeft" fmla="*/ 47880 w 357120"/>
              <a:gd name="textAreaRight" fmla="*/ 309240 w 357120"/>
              <a:gd name="textAreaTop" fmla="*/ 377280 h 1643040"/>
              <a:gd name="textAreaBottom" fmla="*/ 12211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20" stAng="-5400000" swAng="5400000"/>
                <a:lnTo>
                  <a:pt x="21600" y="11094"/>
                </a:lnTo>
                <a:arcTo wR="21600" hR="9920" stAng="0" swAng="3639225"/>
                <a:lnTo>
                  <a:pt x="5400" y="21285"/>
                </a:lnTo>
                <a:lnTo>
                  <a:pt x="0" y="20426"/>
                </a:lnTo>
                <a:lnTo>
                  <a:pt x="5400" y="18937"/>
                </a:lnTo>
                <a:lnTo>
                  <a:pt x="5400" y="19524"/>
                </a:lnTo>
                <a:arcTo wR="21600" hR="9920" stAng="3639225" swAng="-3545660"/>
                <a:lnTo>
                  <a:pt x="21562" y="10507"/>
                </a:lnTo>
                <a:arcTo wR="21600" hR="9920" stAng="-93565" swAng="-5306435"/>
                <a:close/>
              </a:path>
              <a:path fill="darkenLess" w="21600" h="21600">
                <a:moveTo>
                  <a:pt x="0" y="0"/>
                </a:moveTo>
                <a:arcTo wR="21600" hR="9920" stAng="-5400000" swAng="5400000"/>
                <a:lnTo>
                  <a:pt x="21600" y="11094"/>
                </a:lnTo>
                <a:arcTo wR="21600" hR="9920" stAng="0" swAng="-93565"/>
                <a:lnTo>
                  <a:pt x="21562" y="10507"/>
                </a:lnTo>
                <a:arcTo wR="21600" hR="9920" stAng="-93565" swAng="-5306435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трелка вниз 31"/>
          <p:cNvSpPr/>
          <p:nvPr/>
        </p:nvSpPr>
        <p:spPr>
          <a:xfrm>
            <a:off x="4427640" y="566100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928800" y="214200"/>
            <a:ext cx="70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ИДЫ КОМПЕТЕНТНОСТЕ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68360" y="112536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КЛЮЧ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ЕЦИАЛЬНЫЕ (ПРЕДМЕ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ОФЕССИОН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28800" y="214200"/>
            <a:ext cx="70722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КОМПЕТЕНЦИЯ –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КРУГ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 ДЕЛИГИРОВАННЫХ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ОЛНОМОЧИЙ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 И ЗНАНИЯ, НЕОБХОДИМЫЕ ДЛЯ ИХ РЕАЛ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468360" y="278136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КОМПЕТЕНТНОСТЬ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ВОЙСТВО ЛИЧНОСТИ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, ПРОЯВЛЯЮЩЕЕСЯ В ЕЕ ОСВЕДОМЛЕННОСТИ, ЖЕЛАНИИ И ГОТОВНОСТИ ДЕЙСТВОВАТЬ В ОПРЕДЕЛЕННОЙ ОБЛАСТИ, В НАЛИЧИИ НЕОБХОДИМ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26:01Z</dcterms:created>
  <dc:creator>vdronov</dc:creator>
  <dc:description/>
  <dc:language>en-US</dc:language>
  <cp:lastModifiedBy>КуликоваЛА</cp:lastModifiedBy>
  <dcterms:modified xsi:type="dcterms:W3CDTF">2012-11-12T13:45:32Z</dcterms:modified>
  <cp:revision>42</cp:revision>
  <dc:subject/>
  <dc:title>Слайд 1</dc:title>
</cp:coreProperties>
</file>