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FD2-265D-46D1-A983-C50B5959AC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4863-0903-4DF7-9964-A69B2C3546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207-A357-4625-AB7A-33C75CDD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D88-79BD-4A04-85D4-87726F4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4AF-A38F-43E7-AC7C-3EBF927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561-E19B-408B-A5BB-209E7F82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F10-7D64-4AA9-BF2F-861AC721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123-10E7-4841-9229-FFBDB53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F187-3860-4F5B-8601-91F0867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D23-94E4-413D-9BCA-E049FA9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A6E3-9566-4445-A04F-CA942EF2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DFF-ACFF-4624-A316-9D0B51BC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795-6E87-43D7-9FFF-0EDD581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C96-7412-4E35-A94E-FD7E746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F56-62D7-47CD-8EF9-DA6CD9F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49A-98A9-4AC8-AD91-855546A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BDF3-86C7-48E2-A854-082BB55B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31C-5FF7-405A-9C66-53434A39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0360-FFEE-4CEC-B884-8A09D971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C286-F237-45FF-B71E-3B58B304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E985-94AD-40DC-ABE0-0D676E83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0658-5ABA-48AC-BDEF-1A41976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C0D6-2A86-4F93-8002-E7EE5B9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C902-9F16-416C-854C-2B82446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ED0-052E-4051-A5AF-51D1D66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0767-EF99-4D74-AAF1-5650FC1F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C20C-10E1-4DF7-814D-96B2F350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054A-9D28-4158-A851-F12F0C6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6DD3-67DF-4035-BE84-1F1CDA8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2AA2-ABF9-494F-9523-4276EE2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7D89-E0C1-4BE7-A478-594CA30F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5D00-ED70-4E6E-8514-5EECBB5C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0C93-769E-4FFD-9555-ECFD2539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0A34-448A-4BF5-B9C2-4B24AB7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4EEE-89AB-4FBA-81EC-1C24380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12C-FD4A-40E3-9B04-2709D44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D209-8584-4F07-8EA7-E8DC3CE0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5AD4-ED4C-4FE0-9A68-F4C66AFE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525E-D40E-40A6-9103-2D0BA02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7B26-CAD0-4831-99D8-9F99D38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0AFD-AA7D-40D1-8C47-498C07C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E49A-EB7D-4A8B-A858-00F05F7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74EB-703B-46A1-88D1-84B8E50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5510-9CFB-44C0-BE2B-CC455F7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31D0-9E2B-4D25-BB44-8BCEA3D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3537-D707-43F5-BF6A-C5B5551C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CC6-BF24-4F3D-9DB1-3707FCD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B926-3A75-4F78-9014-63EC574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D950-EDB0-421D-B607-415422B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0069-22C9-45EA-BCD2-07668830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FBD6C-52CB-4BF1-A223-329CAA3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BB37-FB6E-439C-915A-4A0D983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4B87-76D0-43A1-993D-075315B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F805-E8D9-47EF-8DF6-4F68D83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B218-AAA2-41D6-A0C5-19C73F0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8BF5-5722-4CC0-8D93-DD40E14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C0F8-789B-48F0-9F65-9EC12473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155-9A1C-4549-AB62-F235CA4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67BD-F701-4275-9C67-7AFEA46A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0E16-DB16-4398-8604-D23EC0C6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49BA-E969-4620-BBA3-5EBDEA38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2A336-3541-4BAA-83F0-69420735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9CD3-A917-4BE8-AB53-64AA3923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E288-971B-4912-874F-47484C6D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99531-9C0B-484C-9448-4CFEE3D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D4C7-8D10-4214-8B3F-575AD03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D4F0-9459-41CA-A353-DBC0B7E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AE33-D334-442A-84BF-93217D1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0E9-491B-4980-BA1F-F8600EC0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49A0-B7A3-45A8-BC6D-F1F084B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E9BE-EEFF-4860-A997-832A6C08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4800-3672-461E-83F6-ECE37DE8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A70A-0CE2-4C30-897E-09C5F5F7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6D14-EAB4-4AE1-9F00-0D3883C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C142-DB6B-45E3-8FD6-F9F36210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6FA5-0819-483C-86E7-070975C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C57FB-BD81-40B0-B261-45ABDF6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1AB4F-9348-4BFD-86AA-29C748C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2A63-D3D7-4528-92FC-3C29139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168-E664-4282-B20A-443E126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ABA0E-3C99-447D-B2E2-9D5F9E36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92FE-DB88-4661-8EDE-9551F80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BDAD3-4B0F-4D06-8BEE-EBDC491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BD563-A9F3-44D2-8783-BFB513CF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55A9-0A1F-4E12-A250-2AEC7982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D3EA-FF51-4314-B7B0-49D1C643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5007F-D0E7-45A0-8E28-AF708C0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8803-9741-4162-8869-FFAAA5A0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5F7F-298C-4E36-9A2D-4457FB4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25CA-358A-4C8A-911C-BFA20E1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46C-2D62-4171-9085-1F1C6EA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D9C7-5B3D-48E2-B241-286284CE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FA2B7-2B92-478B-BA71-1ED6548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160F-57AE-48F5-BF8C-930B265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F24E-3974-4C22-8F51-1DF828C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B19F3-ABEA-47E2-BB62-50CA42EC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487CF-6B3E-4A0F-9C13-CFCA853A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B4C41-E68A-4BC2-844A-89F39630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AC87-42BD-426B-B818-5E5667A59932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D53-6F5D-4C28-9091-A06774D974EB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BB5-9735-4D42-B969-27F6785A965D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F9E-CE2A-4D89-A024-5451FCAC997A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B5F-22D2-416B-8D10-51B76E2BC358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E967-D2DB-41B7-8909-E80AC4043FBB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E64-69FC-41A3-9D18-FC6DE8BC6DDF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F33D-2D8F-430A-94B1-45A02E879D9F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35C-5B86-4ED2-99D2-D5E40EB06822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13D-5379-4D73-A1B9-CFC0670E1505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CEF-8DF1-4EC5-8E28-A682A4AFABB4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F41-20C7-4B69-88B4-9FD0B3CE37AF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45C-A7AA-4B65-A079-00511F06F455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671-68F3-4E21-ABA8-947CABF49380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06B-6FDC-4AF0-A715-E7BBA97B0A69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005-7973-42E8-AEB6-D4CC13301F1A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images.yandex.ru/yandsearch?rpt=simage&amp;ed=1&amp;text=&#1087;&#1088;&#1086;&#1092;&#1080;&#1083;&#1072;&#1082;&#1090;&#1080;&#1082;&#1072;%20&#1087;&#1089;&#1080;&#1093;&#1086;&#1072;&#1082;&#1090;&#1080;&#1074;&#1085;&#1099;&#1093;%20&#1074;&#1077;&#1097;&#1077;&#1089;&#1090;&#1074;%20&#1082;&#1072;&#1088;&#1090;&#1080;&#1085;&#1082;&#1080;&amp;img_url=www.ksu.ru%2Fkuoo%2Fbin_files%2F1!600.jpg&amp;spsite=mon.tatar.ru&amp;p=333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images.yandex.ru/yandsearch?rpt=simage&amp;ed=1&amp;text=&#1087;&#1088;&#1086;&#1092;&#1080;&#1083;&#1072;&#1082;&#1090;&#1080;&#1082;&#1072;%20&#1087;&#1089;&#1080;&#1093;&#1086;&#1072;&#1082;&#1090;&#1080;&#1074;&#1085;&#1099;&#1093;%20&#1074;&#1077;&#1097;&#1077;&#1089;&#1090;&#1074;%20&#1082;&#1072;&#1088;&#1090;&#1080;&#1085;&#1082;&#1080;&amp;img_url=mic-shuya.narod.ru%2FTEXT%2FIMAGES%2F034.jpg&amp;spsite=mtvfox1.narod.ru&amp;p=326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infosel.ru/news/photos/pav3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hyperlink" Target="http://21415s07.edusite.ru/fotogalereya/raznoe8/vred_08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85560" y="981000"/>
            <a:ext cx="65530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6339"/>
                </a:solidFill>
                <a:latin typeface="Arial"/>
              </a:rPr>
              <a:t>Методы и формы профилактической работы</a:t>
            </a:r>
            <a:br>
              <a:rPr sz="2800"/>
            </a:br>
            <a:r>
              <a:rPr b="1" lang="ru-RU" sz="2800" spc="-1" strike="noStrike">
                <a:solidFill>
                  <a:srgbClr val="146339"/>
                </a:solidFill>
                <a:latin typeface="Arial"/>
              </a:rPr>
              <a:t>по употреблению психоактивных веществ в работе классных руководителей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1680" y="2142720"/>
            <a:ext cx="8075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53"/>
                </a:solidFill>
                <a:latin typeface="Arial"/>
              </a:rPr>
              <a:t>Иванушкина Лариса Ивановна, учитель начальных классов Овсянниковской средней общеобразовательной школ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64653"/>
                </a:solidFill>
                <a:latin typeface="Arial"/>
              </a:rPr>
              <a:t>Анцупова  Александра Николаевна, учитель    валеологии,  Шаховской средней общеобразовательной школ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333360"/>
            <a:ext cx="1617840" cy="13669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8436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Картинка 417 из 1900"/>
          <p:cNvPicPr/>
          <p:nvPr/>
        </p:nvPicPr>
        <p:blipFill>
          <a:blip r:embed="rId6"/>
          <a:stretch/>
        </p:blipFill>
        <p:spPr>
          <a:xfrm>
            <a:off x="5076720" y="4149720"/>
            <a:ext cx="3095640" cy="21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AC80-5288-4B76-AD60-876773FD49BD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655308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6339"/>
                </a:solidFill>
                <a:latin typeface="Arial"/>
              </a:rPr>
              <a:t>Разнообразие форм организации профилактической работы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8760" y="1268280"/>
            <a:ext cx="80755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Тематический  день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, например, «Мир без наркотиков» представляет соб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комбинированную форму работы, которая проводится  в течение одного дн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Тематическое занятие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. Это комплекс игровых и ролевых методик.  Занятие можно использовать для диагностики уровня информированности и общего настроения клас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Кино не для всех» 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подросткам предлагается посмотреть фильм, ставящий перед собой такие глубокие философские, социальные проблемы, на которые невозможно дать однозначного ответа. Такие формы работы позволяют влиять на формирование нравственных ценностей и смысловых ориентиров (сострадание и милосердие, терпимость, добро, взаимопомощь, порядочность). После просмотра фильма обязательно проводится обсуждение.</a:t>
            </a: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Акция 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- активная форма работы, которую проводят на концертах, спортивных праздниках. Цель акции может быть различной: информирование, пропаганда здорового образа жизни. В одном случае это раздача листовок, буклетов, в другом - проведение в школе тематического д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Дискотека 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-.любую из них можно наполнить   различным содержанием, в том числе антинаркотической, антиалкогольной или антитабачной направленности. В этом случае дискотека становится формой профилактической работы с подростк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799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Служба писем. 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Участники движения отвечают на письма своих сверстников. Подростки могут задавать интересующие их вопрос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Поход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 - дает возможность сразу решить множество задач: сплочение класса; отработка навыков планирования, преодоление трудностей; отработка конфликтных ситуаций; осознание ответственности за общее дело; окрытие новых качеств в других людя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Журналистское</a:t>
            </a:r>
            <a:r>
              <a:rPr b="1" lang="ru-RU" sz="1400" spc="-1" strike="noStrike">
                <a:solidFill>
                  <a:srgbClr val="464653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расспедование направлено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 на развитие у подростков таких навыков, как самопознание и рефлексия. Это дает возможность делать осознанный выбор, противостоять соблазнам употребления психоактивных вещест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53"/>
                </a:solidFill>
                <a:latin typeface="Times New Roman"/>
              </a:rPr>
              <a:t>Олимпийские игры</a:t>
            </a: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 -спорт  один из самых эффективных способов профилактики употребления алкоголя и наркотико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115920"/>
            <a:ext cx="14396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DBB3-2C6C-44C5-AC6E-CD191641218C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28760" y="1341360"/>
            <a:ext cx="8075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Мозговой штурм используется для стимуляции высказываний детей по теме или вопросу. Учеников просят высказывать идеи или мнения без какой-либо оценки или обсуждения этих идей или мнений. Идеи фиксируются учителем на доске, а мозговой штурм продолжается до тех пор, пока не истощатся идеи или не кончится отведенное для мозгового штурма врем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СПОСОБ ПРОВЕД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Перед началом занятий ведущий подбирает тему и состав участ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Ведущий  объясняет  группе  значение  мозгового  штурма  и  следующие принцип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Выработайте как можно больше ид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Все идеи записываю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Ни одна идея не отрицае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Ни одна идея не обсуждается - для них еще придет врем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2535120" y="928800"/>
            <a:ext cx="41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47628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6339"/>
                </a:solidFill>
                <a:latin typeface="Times New Roman"/>
              </a:rPr>
              <a:t>Мозговой    шту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Картинка 377 из 570"/>
          <p:cNvPicPr/>
          <p:nvPr/>
        </p:nvPicPr>
        <p:blipFill>
          <a:blip r:embed="rId3"/>
          <a:stretch/>
        </p:blipFill>
        <p:spPr>
          <a:xfrm>
            <a:off x="5435640" y="3716280"/>
            <a:ext cx="3058920" cy="2293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2448000" cy="19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1323-3133-4C61-B309-5C47EC396BD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400" y="259920"/>
            <a:ext cx="65530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339"/>
                </a:solidFill>
                <a:latin typeface="Times New Roman"/>
              </a:rPr>
              <a:t>Профилактическая работа - предоставление подросткам альтернативных способов удовлетворения актуальных потребностей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07552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       </a:t>
            </a: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интересно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Игра захватывает людей в любом возрасте. Это то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что пробуждает творческую активность, интерес к жизни, позволяет узнать  новое о себе и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азарт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Данная игра - соревнование, где наградой является поездка  поэтому это уже "взрослые игры", что немаловажно для подрост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престижно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Классы-победители игры получат кубок школы и весь год будут носить звание чемпионов  обычную роль "троечника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познавательно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В игру включены различные акции, стимулирующие познавательную активность  подрост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общение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В процессе игры подросток вынужден будет много общаться, причем каждый раз может играть разные роли, а не только свою различные акции, стимулирующие познавательную активность подрост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64653"/>
                </a:solidFill>
                <a:latin typeface="Times New Roman"/>
              </a:rPr>
              <a:t>Игра - это сплочение!</a:t>
            </a:r>
            <a:r>
              <a:rPr b="0" i="1" lang="en-US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За денежный приз борется не каждый отдельный ученик, а целый класс, поэтому класс становится командой, и результат зависит от того, насколько слаженно будут действовать все ученики. Каждый ученик может принести своему классу оч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6948360" y="115920"/>
            <a:ext cx="2016360" cy="1514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Картинка 237 из 57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4365720"/>
            <a:ext cx="34308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C311-3EF2-45FA-9AFC-0089466F6EAB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6553080" cy="2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46339"/>
                </a:solidFill>
                <a:uFillTx/>
                <a:latin typeface="Times New Roman"/>
              </a:rPr>
              <a:t>Ролевое моделирование</a:t>
            </a:r>
            <a:br>
              <a:rPr sz="3200"/>
            </a:br>
            <a:r>
              <a:rPr b="1" lang="en-US" sz="1400" spc="-1" strike="noStrike">
                <a:solidFill>
                  <a:srgbClr val="464653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57120" y="1484280"/>
            <a:ext cx="8075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401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Ролевое моделирование может осуществляться в форме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2401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драматических представлений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2401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ролевых игр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2401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радиопередач,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2401"/>
              </a:spcBef>
              <a:buClr>
                <a:srgbClr val="14633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46339"/>
                </a:solidFill>
                <a:latin typeface="Times New Roman"/>
              </a:rPr>
              <a:t>телевизионных шоу и др. В этих видах деятельности дети тренируют социально желательное поведение на глазах учителя. За счет включения в активную деятельность они обычно заинтересованы в ролевом моделировании. Ученики пытаются действовать так, как в реальной жизни, или, по крайней мере, так как они хотели бы действовать в реальности. Иногда учитель раздает роли заранее, а иногда только подает детям идею и просит их импровизироват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" descr="Картинка 136 из 829"/>
          <p:cNvPicPr/>
          <p:nvPr/>
        </p:nvPicPr>
        <p:blipFill>
          <a:blip r:embed="rId3"/>
          <a:stretch/>
        </p:blipFill>
        <p:spPr>
          <a:xfrm>
            <a:off x="5580000" y="1197000"/>
            <a:ext cx="2951280" cy="2214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Картинка 570 из 1110"/>
          <p:cNvPicPr/>
          <p:nvPr/>
        </p:nvPicPr>
        <p:blipFill>
          <a:blip r:embed="rId4"/>
          <a:stretch/>
        </p:blipFill>
        <p:spPr>
          <a:xfrm>
            <a:off x="468360" y="429264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96F6-0813-4016-B6D8-1C12AEFAA3E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6553080" cy="26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6339"/>
                </a:solidFill>
                <a:latin typeface="Arial"/>
              </a:rPr>
              <a:t>Методы обучения в группе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4" name="Текст 12" descr=""/>
          <p:cNvPicPr/>
          <p:nvPr/>
        </p:nvPicPr>
        <p:blipFill>
          <a:blip r:embed="rId3"/>
          <a:stretch/>
        </p:blipFill>
        <p:spPr>
          <a:xfrm>
            <a:off x="5003640" y="1052640"/>
            <a:ext cx="3637080" cy="3600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95280" y="1557360"/>
            <a:ext cx="43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Кооператив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Мозговой шту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Групповая 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Ролевое моде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Упражнения-энергиз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Мысленная 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463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6339"/>
                </a:solidFill>
                <a:latin typeface="Arial"/>
              </a:rPr>
              <a:t>Работа в малых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Картинка 104 из 57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357336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A77F-9C63-46FC-8C68-A8403CEA941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ая соединительная линия 6"/>
          <p:cNvSpPr/>
          <p:nvPr/>
        </p:nvSpPr>
        <p:spPr>
          <a:xfrm>
            <a:off x="214200" y="127080"/>
            <a:ext cx="0" cy="6588000"/>
          </a:xfrm>
          <a:prstGeom prst="line">
            <a:avLst/>
          </a:prstGeom>
          <a:ln w="203040">
            <a:solidFill>
              <a:srgbClr val="146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0"/>
          <p:cNvSpPr/>
          <p:nvPr/>
        </p:nvSpPr>
        <p:spPr>
          <a:xfrm flipV="1">
            <a:off x="357120" y="309600"/>
            <a:ext cx="5000760" cy="14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5"/>
          <p:cNvSpPr/>
          <p:nvPr/>
        </p:nvSpPr>
        <p:spPr>
          <a:xfrm>
            <a:off x="8798040" y="3914640"/>
            <a:ext cx="25200" cy="2571840"/>
          </a:xfrm>
          <a:prstGeom prst="line">
            <a:avLst/>
          </a:prstGeom>
          <a:ln w="380880">
            <a:solidFill>
              <a:srgbClr val="9bc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3408480" y="6278400"/>
            <a:ext cx="5626080" cy="2383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6553080" cy="48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6339"/>
                </a:solidFill>
                <a:latin typeface="Arial"/>
              </a:rPr>
              <a:t>Корпоративное обуч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0758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6339"/>
                </a:solidFill>
                <a:latin typeface="Times New Roman"/>
              </a:rPr>
              <a:t>Кооперативное обучение - это метод, когда в небольших группах (от 2 до 8 человек) ученики взаимодействуют, решая общую задачу (9). Совместная работа в небольших группах формирует качества социальной и личностной компетентности, а также умение дружить. Для подростков, обладающих этими качествами и умеющими выбирать друзей, вероятность приобщения к табаку и алкоголю невели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588000" y="2492280"/>
            <a:ext cx="2376720" cy="2005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6877080" y="4915080"/>
            <a:ext cx="2016000" cy="1515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39640" y="2492280"/>
            <a:ext cx="626436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46339"/>
                </a:solidFill>
                <a:latin typeface="Times New Roman"/>
              </a:rPr>
              <a:t>Дайте детям почувствовать личную ответственность за то, как группа работает, и распределите ро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6339"/>
                </a:solidFill>
                <a:latin typeface="Times New Roman"/>
              </a:rPr>
              <a:t>Лучше всего дети работают вместе, если каждый имеет следующие: 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(1) </a:t>
            </a:r>
            <a:r>
              <a:rPr b="1" i="1" lang="en-US" sz="1600" spc="-1" strike="noStrike">
                <a:solidFill>
                  <a:srgbClr val="146339"/>
                </a:solidFill>
                <a:latin typeface="Times New Roman"/>
              </a:rPr>
              <a:t>чтец 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- читает вслух </a:t>
            </a:r>
            <a:r>
              <a:rPr b="0" lang="en-US" sz="1600" spc="-1" strike="noStrike">
                <a:solidFill>
                  <a:srgbClr val="146339"/>
                </a:solidFill>
                <a:latin typeface="Times New Roman"/>
              </a:rPr>
              <a:t>Роли могут быть, например,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; (2) </a:t>
            </a:r>
            <a:r>
              <a:rPr b="0" lang="en-US" sz="1600" spc="-1" strike="noStrike">
                <a:solidFill>
                  <a:srgbClr val="146339"/>
                </a:solidFill>
                <a:latin typeface="Times New Roman"/>
              </a:rPr>
              <a:t>определенную роль при выполнении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46339"/>
                </a:solidFill>
                <a:latin typeface="Times New Roman"/>
              </a:rPr>
              <a:t>секретарь - 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записывает что-то от лица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(3) </a:t>
            </a:r>
            <a:r>
              <a:rPr b="1" i="1" lang="en-US" sz="1600" spc="-1" strike="noStrike">
                <a:solidFill>
                  <a:srgbClr val="146339"/>
                </a:solidFill>
                <a:latin typeface="Times New Roman"/>
              </a:rPr>
              <a:t>докладчик - 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у доски рассказывает, что решила группа; </a:t>
            </a:r>
            <a:r>
              <a:rPr b="1" i="1" lang="en-US" sz="1600" spc="-1" strike="noStrike">
                <a:solidFill>
                  <a:srgbClr val="146339"/>
                </a:solidFill>
                <a:latin typeface="Times New Roman"/>
              </a:rPr>
              <a:t>(4) хронометрист –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следит за вре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Установите подходящие для работы группы прави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6339"/>
                </a:solidFill>
                <a:latin typeface="Times New Roman"/>
              </a:rPr>
              <a:t>Их должно быть минимальное количество и они должны дополнять правила поведения на уроке. Например: (1) убедись, что в разговоре участвует каждый; (2) говори спокойно и ясно; (3) говори только по делу. </a:t>
            </a:r>
            <a:r>
              <a:rPr b="1" lang="en-US" sz="1600" spc="-1" strike="noStrike">
                <a:solidFill>
                  <a:srgbClr val="146339"/>
                </a:solidFill>
                <a:latin typeface="Times New Roman"/>
              </a:rPr>
              <a:t>Сделайте плакат с прави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EDB9-2DAF-42D0-9D8C-45179663AAEA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extBox 3" descr=""/>
          <p:cNvPicPr/>
          <p:nvPr/>
        </p:nvPicPr>
        <p:blipFill>
          <a:blip r:embed="rId2"/>
          <a:stretch/>
        </p:blipFill>
        <p:spPr>
          <a:xfrm>
            <a:off x="139680" y="2651040"/>
            <a:ext cx="8802720" cy="13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2373-8150-4F4D-8F4A-90FBB95C8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2T09:29:05Z</dcterms:modified>
  <cp:revision>75</cp:revision>
  <dc:subject/>
  <dc:title>Слайд 1</dc:title>
</cp:coreProperties>
</file>