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53E-984F-4505-888D-61467859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EF7-7363-4330-9353-ABD1D8AF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5BE-13E2-4F47-8E63-91A0EEE0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B0E-875D-4A1C-8326-5EE18BF5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1F39-F21F-4395-8827-9F4EC718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A521-CFF3-4481-9F06-98D3ACD1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8C57-986C-46E3-8DB0-FD645E2F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3C7D-11CC-4A86-B898-ECA366AB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9F23-12EB-4286-A5E5-4255C787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2975-3BDC-4FE2-A09C-0BDE3229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B802-544C-4F61-9387-CC10F059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9B3B-3BEC-4FB6-8EBA-CD8B593C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D8C9-EC74-43F6-B488-4E792682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6ED1-303A-439E-BC37-84124898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A21F-8558-41CD-9E36-2E5F8FA6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55E9-37A6-4778-BDFE-4D014DA7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1417-DB7D-405C-A375-B98B6BA6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88E8-D7A6-4F27-9A07-7A76655E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6B1E-DC09-4DD5-9CFF-528BBFD0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72BF-14AF-4E8A-832E-9CB90A5F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6986-7A44-4DD0-A7EA-739F780F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EE7B-77FF-4A7B-AFF9-1F1964CB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579D-1EF0-4825-B1E9-3885488D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867-51A0-473F-AD72-FF1F47B7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E6C8-9D0D-439E-ADAA-6E816835D43E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06DB-4657-4838-91F4-DF45E0A1429A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У истоков народной американской музык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6699"/>
                </a:solidFill>
                <a:latin typeface="Comic Sans MS"/>
              </a:rPr>
              <a:t>Блюз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708000" y="189000"/>
            <a:ext cx="5257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у многих джазовых композиций составляет блюз, сложившийся в 10-20-е годы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олетия. Классический блюз представляет собой </a:t>
            </a:r>
            <a:r>
              <a:rPr b="0" lang="ru-RU" sz="2600" spc="-1" strike="noStrike">
                <a:solidFill>
                  <a:srgbClr val="336666"/>
                </a:solidFill>
                <a:latin typeface="Arial"/>
              </a:rPr>
              <a:t>меланхолические песн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исполняемые в сопровождении музыкальных инструментов. (Первоначально </a:t>
            </a:r>
            <a:r>
              <a:rPr b="0" lang="ru-RU" sz="2600" spc="-1" strike="noStrike">
                <a:solidFill>
                  <a:srgbClr val="336666"/>
                </a:solidFill>
                <a:latin typeface="Arial"/>
              </a:rPr>
              <a:t>одним-двумя певцами под аккомпанемент гитары, губной гармошки или банджо - струнного щипкового инструмент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2354400" cy="2808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195640" y="3860640"/>
            <a:ext cx="1716120" cy="25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547280" y="1196640"/>
            <a:ext cx="74408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Большое значение в блюзе имеет </a:t>
            </a:r>
            <a:r>
              <a:rPr b="0" lang="ru-RU" sz="2000" spc="-1" strike="noStrike">
                <a:solidFill>
                  <a:srgbClr val="336666"/>
                </a:solidFill>
                <a:latin typeface="Comic Sans MS"/>
              </a:rPr>
              <a:t>поэтический текст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посвященный теме страдания или несчастливой любви человека, затерянного в равнодушном мир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Блюзовые «сцены», проникнутые юмором, самоиронией и оптимизмом, несмотря на общее печальное, меланхолическое настроение, разворачиваются на фоне хлопковых полей и болот, рабочих лагерей и тюре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та музыкальная форма состоит из трёх строчек: первая повторяется дважды, а третья содержит логический вывод из предыдущи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666699"/>
                </a:solidFill>
                <a:latin typeface="Arial"/>
              </a:rPr>
              <a:t>Моя крошка убежала от меня с Биллом в Луизиан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(Утверждение.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666699"/>
                </a:solidFill>
                <a:latin typeface="Arial"/>
              </a:rPr>
              <a:t>О да, она смылась от меня с этим Билл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(Вариация первого предложения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900" spc="-1" strike="noStrike">
                <a:solidFill>
                  <a:srgbClr val="666699"/>
                </a:solidFill>
                <a:latin typeface="Arial"/>
              </a:rPr>
              <a:t>Ну и чёрт с ней, найду себе другую крош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(Логический вывод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53360" y="40464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Comic Sans MS"/>
              </a:rPr>
              <a:t>Блюз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6699"/>
                </a:solidFill>
                <a:latin typeface="Comic Sans MS"/>
              </a:rPr>
              <a:t>Регтай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6421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порог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ка родился </a:t>
            </a:r>
            <a:r>
              <a:rPr b="0" lang="ru-RU" sz="2600" spc="-1" strike="noStrike">
                <a:solidFill>
                  <a:srgbClr val="336666"/>
                </a:solidFill>
                <a:latin typeface="Arial"/>
              </a:rPr>
              <a:t>регтай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в дальнейшем пробивший себе путь на эстрады всего мира. Это была </a:t>
            </a:r>
            <a:r>
              <a:rPr b="0" lang="ru-RU" sz="2600" spc="-1" strike="noStrike">
                <a:solidFill>
                  <a:srgbClr val="336666"/>
                </a:solidFill>
                <a:latin typeface="Arial"/>
              </a:rPr>
              <a:t>развлекательная танцевальная музык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предназначенная для </a:t>
            </a:r>
            <a:r>
              <a:rPr b="0" lang="ru-RU" sz="2600" spc="-1" strike="noStrike">
                <a:solidFill>
                  <a:srgbClr val="336666"/>
                </a:solidFill>
                <a:latin typeface="Arial"/>
              </a:rPr>
              <a:t>исполнения на фортепиан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Она </a:t>
            </a:r>
            <a:r>
              <a:rPr b="0" lang="ru-RU" sz="2600" spc="-1" strike="noStrike">
                <a:solidFill>
                  <a:srgbClr val="336666"/>
                </a:solidFill>
                <a:latin typeface="Arial"/>
              </a:rPr>
              <a:t>сочинялась автором и не предусматривала никакой импровиз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ртепиано стало самым популярным средством развлечения американцев, принадлежащих к различным сословиям: от светских дам до конторских служащих, от жителей западных ранчо до обитателей тесных городских район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6699"/>
                </a:solidFill>
                <a:latin typeface="Comic Sans MS"/>
              </a:rPr>
              <a:t>Регтай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6049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устя некоторое время мотивы и ритмы регтайма стали звучать в сопровождении духовых оркестров, особенно любимых в Америк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лассический регтайм очень прост, он восходит к бытовой американской музыке конц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ека, главным образом, к маршу для духовых оркестров, к польке, кадрили и др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пулярные мелодии регтайма получили дальнейшее развитие в творчестве К. Дебюсси («Кукольный кукуок из «Детского уголка»), М. Равеля (опера «Дитя и волшебство»), И. Стравинского («Регтайм» и «История солдата»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настоящее время джаз включает в себя огромное количество стилей и многообразных направл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417320" cy="1577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093080" y="184464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Клод Дебюсси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236000" y="2276640"/>
            <a:ext cx="1417320" cy="1577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021440" y="40053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Морис Равель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372360" y="4508640"/>
            <a:ext cx="2544480" cy="1563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661080" y="623736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Игорь Стравинский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6699"/>
                </a:solidFill>
                <a:latin typeface="Comic Sans MS"/>
              </a:rPr>
              <a:t>Кантр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7280" y="259920"/>
            <a:ext cx="5076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воря об истоках народной американской музыки, нельзя не упомянуть музыку в стиле </a:t>
            </a:r>
            <a:r>
              <a:rPr b="0" i="1" lang="ru-RU" sz="2100" spc="-1" strike="noStrike">
                <a:solidFill>
                  <a:srgbClr val="666699"/>
                </a:solidFill>
                <a:latin typeface="Arial"/>
              </a:rPr>
              <a:t>кантри,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666699"/>
                </a:solidFill>
                <a:latin typeface="Arial"/>
              </a:rPr>
              <a:t>восходящую к сельскому фольклору США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тот уникальный жанр развился на основе англо-ирландских народных песен, которые более двухсот лет назад были привезены колонистами на американский континент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20-е годы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олетия музыка в стиле кантри приобрела особую известность и широкую популярность (в том числе и благодаря кино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неё характерны простота и естественность, откровенное обращение к чувствам человека. Она, как отмечал один из исследователей, «не стесняется сентиментальности и ценит искренность выше, чем утончённость». Не случайно </a:t>
            </a:r>
            <a:r>
              <a:rPr b="0" lang="ru-RU" sz="2100" spc="-1" strike="noStrike">
                <a:solidFill>
                  <a:srgbClr val="666699"/>
                </a:solidFill>
                <a:latin typeface="Arial"/>
              </a:rPr>
              <a:t>песни кантри называют «песнями души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3875040" cy="4751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08000" y="621648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66"/>
                </a:solidFill>
                <a:latin typeface="Arial"/>
              </a:rPr>
              <a:t>Нашвилл. Центр музыки кантри.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6666"/>
                </a:solidFill>
                <a:latin typeface="Arial"/>
              </a:rPr>
              <a:t>Грэнд-ол-оупри — концертный зал.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6699"/>
                </a:solidFill>
                <a:latin typeface="Comic Sans MS"/>
              </a:rPr>
              <a:t>Кантр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608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родные песни в стиле кантри </a:t>
            </a:r>
            <a:r>
              <a:rPr b="0" lang="en-US" sz="2600" spc="-1" strike="noStrike">
                <a:solidFill>
                  <a:srgbClr val="666699"/>
                </a:solidFill>
                <a:latin typeface="Arial"/>
              </a:rPr>
              <a:t>первоначально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сполнялись </a:t>
            </a:r>
            <a:r>
              <a:rPr b="0" lang="en-US" sz="2600" spc="-1" strike="noStrike">
                <a:solidFill>
                  <a:srgbClr val="666699"/>
                </a:solidFill>
                <a:latin typeface="Arial"/>
              </a:rPr>
              <a:t>без всякого музыкального аккомпанемента, одним певцом, в высоком тембре звучания и в но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666699"/>
                </a:solidFill>
                <a:latin typeface="Arial"/>
              </a:rPr>
              <a:t>Поздне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такое пение стали сопровождать </a:t>
            </a:r>
            <a:r>
              <a:rPr b="0" lang="en-US" sz="2600" spc="-1" strike="noStrike">
                <a:solidFill>
                  <a:srgbClr val="666699"/>
                </a:solidFill>
                <a:latin typeface="Arial"/>
              </a:rPr>
              <a:t>скрипка и цимбал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многострунный ударный инструмент), а затем </a:t>
            </a:r>
            <a:r>
              <a:rPr b="0" lang="en-US" sz="2600" spc="-1" strike="noStrike">
                <a:solidFill>
                  <a:srgbClr val="666699"/>
                </a:solidFill>
                <a:latin typeface="Arial"/>
              </a:rPr>
              <a:t>бандж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29059" b="0"/>
          <a:stretch/>
        </p:blipFill>
        <p:spPr>
          <a:xfrm>
            <a:off x="7380360" y="0"/>
            <a:ext cx="1500120" cy="3457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43280" y="3645000"/>
            <a:ext cx="4276800" cy="2993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435640" y="90792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1" i="1" lang="en-US" sz="4200" spc="-1" strike="noStrike">
                <a:solidFill>
                  <a:srgbClr val="666699"/>
                </a:solidFill>
                <a:latin typeface="Comic Sans MS"/>
              </a:rPr>
              <a:t>«Вестерн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52560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30-е годы на исполнение в стиле кантри оказала большое влияние музыка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«вестерн», </a:t>
            </a:r>
            <a:r>
              <a:rPr b="0" lang="en-US" sz="2600" spc="-1" strike="noStrike">
                <a:solidFill>
                  <a:srgbClr val="666699"/>
                </a:solidFill>
                <a:latin typeface="Arial"/>
              </a:rPr>
              <a:t>созданная охотниками, ковбоями и шахтёрам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В ней прославляется дикая, первозданная природа, </a:t>
            </a:r>
            <a:r>
              <a:rPr b="0" lang="en-US" sz="2600" spc="-1" strike="noStrike">
                <a:solidFill>
                  <a:srgbClr val="666699"/>
                </a:solidFill>
                <a:latin typeface="Arial"/>
              </a:rPr>
              <a:t>её главным героем становится мужественный и находчивый ковбо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568840" y="2997360"/>
            <a:ext cx="322920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666699"/>
                </a:solidFill>
                <a:latin typeface="Comic Sans MS"/>
              </a:rPr>
              <a:t>Рок-н-рол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66596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 в начале 50-х годов на основе романтической музыки кантри, «вестерн» и ритмов блюза родился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рок-н-ролл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ворчество Элвиса Пресли - популярного исполнителя такой музыки, способствовало её дальнейшему развити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133720" cy="3048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859640" y="12682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Элвис Пресли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3645000"/>
            <a:ext cx="8713800" cy="28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 не менее музыке в стиле кантри не суждено было исчезнуть, напротив, к началу 60-х годов она пользовалась неизменным успехом и продолжала развивать свои лучшие традиции. Конечно, во многом изменился её характер, добавились и новые музыкальные инструменты: струнные, духовые, ритм-гитара, гавайская гитара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но утвердился и стереотип исполнителя песен - «парня с холмов» (хиллбилли), простого деревенского парня, заросшего недельной щетиной, в сатиновой рубашке без воротничка, в никогда не глаженных брюках, висящих на одной подтяжке, с соломинками в волосах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терес к народной музыке в стиле кантри не ослабевает и в настоя­щее время. Стало хорошей традицией устраивать песенные конкурсы и фестивали не только в Америке, но и в других странах мира, в том числе и у нас в Росс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5580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ждый народ вносит в музыку свои национальные черты, отражая характер, особенности быта, нравы и тради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амобытна и оригинальна музыка народов Африки и Северной Америки, давшая развитие особому направлению музыкальной культуры 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джазу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стоки джаза следует искать в европейской и негритянской народной музыке, вывезенной рабами-невольниками на американский континен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24360" y="2637000"/>
            <a:ext cx="3200400" cy="3946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51640" y="260280"/>
            <a:ext cx="316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314136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чиная с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ека, музыка, песни и танцы различных народов Африки, отмеченные редкой и оригинальной красотой, стали проникать в Америку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плоть до середины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ека эта музыка вообще не рассматривалась как искусство, напротив, она скрывалась и замалчивалась в глубоких слоях культуры СШ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ишь после первой мировой войны началось её победоносное шествие по городам Америки и Европ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ек вошёл в историю как век электричества и атомной энергии, то его с полным правом можно одновременно назвать и веком джаза. Этот важнейший пласт музыкальной культуры положил начало развитию современной популярной и развлекательной музы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030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284720" y="260280"/>
            <a:ext cx="41274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010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жаз - африканская народная му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95280" y="1628640"/>
            <a:ext cx="679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6699"/>
                </a:solidFill>
                <a:latin typeface="Comic Sans MS"/>
              </a:rPr>
              <a:t>сложный рит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создаваемый игрой на барабанах и других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ударно-шумовых инструментах: всякого рода погремушках, колокольчиках, кастаньетах, колотушках, палках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и т. д. Слуху европейца порой трудно уловить особенности строения и тончайшие вариации такой музыки. Её кажущиеся «беспорядочный шум» и «невыносимое однообразие» всё же подчиняются определённым законам, главным из которых является </a:t>
            </a:r>
            <a:r>
              <a:rPr b="1" lang="en-US" sz="2100" spc="-1" strike="noStrike">
                <a:solidFill>
                  <a:srgbClr val="666699"/>
                </a:solidFill>
                <a:latin typeface="Comic Sans MS"/>
              </a:rPr>
              <a:t>полиритмия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- одновременное сочетание двух или более различных ритм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2160" y="98568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Comic Sans MS"/>
              </a:rPr>
              <a:t>характерные черты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1782720" cy="3240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22669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6699"/>
                </a:solidFill>
                <a:latin typeface="Comic Sans MS"/>
              </a:rPr>
              <a:t>Полиритм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реди трёх или четырёх участников ансамбля есть ведущий исполнитель на барабане. Он выбирает определённый ритм, а другие (иногда в течение нескольких часов подряд) варьируют заданный ритм, противопоставляя ему свой ритмический рисунок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дача каждого из исполнителей сводится к тому, чтобы не допустить повторов и совпадений в звучании инструментов и голосов вокальной групп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Европейская и африканская народная музыка с её ритмической чёткостью и коллективной импровизацией составляет основу американской джазовой музык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Если раньше композитор записывал музыку на бумаге, а музыканты стремились к более точному её воспроизведению, то для джазовой композиции выбирается определённая изначальная тема. Такой темой может служить популярная песенка или блюз, которые в процессе игры обрастают новыми вариациями, имеющими довольно мало сходства с оригинал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omic Sans MS"/>
              </a:rPr>
              <a:t>Основу джазовых композиций составля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6666"/>
                </a:solidFill>
                <a:latin typeface="Arial"/>
              </a:rPr>
              <a:t>спиричуэле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духовные песнопения негров на тексты Ветхого Завета)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6666"/>
                </a:solidFill>
                <a:latin typeface="Arial"/>
              </a:rPr>
              <a:t>блюзы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развлекательная музыка, исполняемая бродячими музыкантами о нелёгкой жизни негров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6666"/>
                </a:solidFill>
                <a:latin typeface="Arial"/>
              </a:rPr>
              <a:t>рэгтайм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фортепианная танцевальная музыка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99"/>
                </a:solidFill>
                <a:latin typeface="Comic Sans MS"/>
              </a:rPr>
              <a:t>Спиричуэл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3429000"/>
            <a:ext cx="864072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огательно-проникновенные 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религиозные напе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пиричуэле стали известны лишь к конц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а, когда во время научной экспедиции, изучающей быт чернокожих рабов на юге Америки, были записаны 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народные пес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разившие своей мелодичностью и одухотворённой красо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некоторое время эти песни впервые прозвучали на концертной эстраде и имели сенсационный успех. Содержание спиричуэле было связано с библейскими сюжетами, в текстах духовных песнопений часто обращались к Богу и пророкам. Но нередко в них включали рассказы о нелёгкой повседневн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714320" cy="2568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971400" y="285768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Comic Sans MS"/>
              </a:rPr>
              <a:t>Уильям Хэнд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5013360"/>
            <a:ext cx="896472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ногие известные композиторы использовали традиции спиричуэле при создании своих произведений. Замечательное воплощение находят они в опере американского композитора Дж. Гершвина (1898-1937) «Порги и Бесс», проникнутой глубоким сочувствием к негритянской бедноте и любовью к их музык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80200" y="189000"/>
            <a:ext cx="1617840" cy="180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5400360" cy="3600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867280" y="3068640"/>
            <a:ext cx="35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Сцена из оперы Джорджа Гершвина «Порги и Бесс».  Гастроли «Эвримен-оперы» в Москве. 1956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62160" y="836640"/>
            <a:ext cx="202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Джордж Гершвин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7:26:19Z</dcterms:created>
  <dc:creator>user</dc:creator>
  <dc:description/>
  <dc:language>en-US</dc:language>
  <cp:lastModifiedBy>user</cp:lastModifiedBy>
  <dcterms:modified xsi:type="dcterms:W3CDTF">2012-11-11T21:23:54Z</dcterms:modified>
  <cp:revision>4</cp:revision>
  <dc:subject/>
  <dc:title>У истоков народной американской музыки </dc:title>
</cp:coreProperties>
</file>