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B8B-92EF-4BBD-BEB6-872D3F0C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1D7-C1A9-45D9-8D02-79B794A1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025-2ACD-4744-B5D5-3A53FB63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3EE-DD33-430C-A83A-900F4656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5B75D-A21A-4B1D-A413-B74304C4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7D0AD-4A1F-43EE-8BA3-71987DDE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5F878-A016-4596-9EF1-5E4F850A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61467-4A89-473A-9B48-0ED89322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F7E6E-8E22-4343-81E7-1D59BA28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41ECA-2320-47D4-AF4F-2050595B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27AE1-B16C-4641-906A-455DE29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AB5-8A98-4801-9DCB-0E02BC55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2D8C8-B44F-4014-8FC5-3811B877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041F2-83A1-4A0E-B525-DC424F3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2A84A-74EC-484A-A56D-F90019DD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BF090-6286-4CE6-A4E6-26DF2FD5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FC25D-603A-44B1-96BF-F73D97F3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8F8-1284-47D3-8A35-E3BA7E52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006-04A6-47C5-B987-B2D11748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CF6-49EA-4F68-B314-59E5DB25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510-4F40-443A-92A0-9AF1AD35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74E-5318-4EA1-8E01-602B853C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9C6-21C5-4691-B2F7-DB27575E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19B-0672-4FA1-BF68-323E317F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C810-CD1F-477C-A554-57C0343A14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EF89-FCEF-419D-915A-33F19B978E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Courier New"/>
                <a:ea typeface="Courier New"/>
              </a:rPr>
              <a:t>Виртуальная экскурс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«Геологический музей Республики Казахста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Оригинальность Музея проявляется уже в фойе, из которого посетители попадают в основные залы с помощью лифта, сделанного по образу шахтерских клетей, предназначенных для транспортировки людей в шахтах. При выходе из лифта открывается Малый зал музея, внутреннее оформление которого имитирует горизонтальную горную выработку – штрек. Специфическое освещение, каменные стены, фрагменты деревянной крепи, вагонетка, поставленная на отрезок рельсового пути и заполненная образцами различных руд и горных пород, звуковые эффекты работающих машин и механизмов создают ощущение нахождения под зем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Что представляет из себя Малый зал геологического музе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smallhall"/>
          <p:cNvPicPr/>
          <p:nvPr/>
        </p:nvPicPr>
        <p:blipFill>
          <a:blip r:embed="rId1"/>
          <a:stretch/>
        </p:blipFill>
        <p:spPr>
          <a:xfrm>
            <a:off x="395280" y="549360"/>
            <a:ext cx="8353440" cy="570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В следующем, Большом зале, расположены основные экспонаты Музея. В витринах минеральной коллекции выставлены эффектные образцы минералов и руд, которые дают достаточно полное представление о богатстве недр Казахстана, о геологическом разнообразии планеты Земля и просто о красоте «камн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Где расположены основные экспонаты Музея? Перечислите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В этом же зале располагаются кинозал, компьютеры с образовательными геологическими программами, макеты, плакаты, карты, фотографии, которые наглядно разъясняют многие геологические процессы. В расширяющейся части зала расположена 15-ти метровая, красочно расписанная панорама «История развития жизни на Земле»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diorama4"/>
          <p:cNvPicPr/>
          <p:nvPr/>
        </p:nvPicPr>
        <p:blipFill>
          <a:blip r:embed="rId1"/>
          <a:stretch/>
        </p:blipFill>
        <p:spPr>
          <a:xfrm>
            <a:off x="179280" y="1700280"/>
            <a:ext cx="8785440" cy="307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Что ещё располагается в Большом зале Музе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Минералогическая галере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собраны экспонаты со всех уголков Казахстана - аширит, белые кальциты, моховые агаты, черные морионы, пири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Маке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объясняют строение земной коры, показывающие разрезы вулканов, методы поиска и разведки месторождений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Колле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самородных элементов, сульфидов, окислов, карбонатов, силикатов, аг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8" descr="http://www.infocenter.kz/img/line.gif"/>
          <p:cNvPicPr/>
          <p:nvPr/>
        </p:nvPicPr>
        <p:blipFill>
          <a:blip r:embed="rId1"/>
          <a:stretch/>
        </p:blipFill>
        <p:spPr>
          <a:xfrm>
            <a:off x="0" y="1986120"/>
            <a:ext cx="4257720" cy="9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infocenter.kz/img/6copy.jpg"/>
          <p:cNvPicPr/>
          <p:nvPr/>
        </p:nvPicPr>
        <p:blipFill>
          <a:blip r:embed="rId2"/>
          <a:stretch/>
        </p:blipFill>
        <p:spPr>
          <a:xfrm>
            <a:off x="5616720" y="0"/>
            <a:ext cx="3527280" cy="279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www.infocenter.kz/img/8copy.jpg"/>
          <p:cNvPicPr/>
          <p:nvPr/>
        </p:nvPicPr>
        <p:blipFill>
          <a:blip r:embed="rId3"/>
          <a:stretch/>
        </p:blipFill>
        <p:spPr>
          <a:xfrm>
            <a:off x="1476360" y="1125360"/>
            <a:ext cx="4392720" cy="3238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ttp://www.infocenter.kz/img/agatecopy.jpg"/>
          <p:cNvPicPr/>
          <p:nvPr/>
        </p:nvPicPr>
        <p:blipFill>
          <a:blip r:embed="rId4"/>
          <a:stretch/>
        </p:blipFill>
        <p:spPr>
          <a:xfrm>
            <a:off x="0" y="3778200"/>
            <a:ext cx="4176720" cy="3079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www.infocenter.kz/img/line.gif"/>
          <p:cNvPicPr/>
          <p:nvPr/>
        </p:nvPicPr>
        <p:blipFill>
          <a:blip r:embed="rId5"/>
          <a:stretch/>
        </p:blipFill>
        <p:spPr>
          <a:xfrm>
            <a:off x="0" y="5367240"/>
            <a:ext cx="4257720" cy="9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5" descr="10copy"/>
          <p:cNvPicPr/>
          <p:nvPr/>
        </p:nvPicPr>
        <p:blipFill>
          <a:blip r:embed="rId6"/>
          <a:stretch/>
        </p:blipFill>
        <p:spPr>
          <a:xfrm>
            <a:off x="0" y="0"/>
            <a:ext cx="2700360" cy="199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13copy"/>
          <p:cNvPicPr/>
          <p:nvPr/>
        </p:nvPicPr>
        <p:blipFill>
          <a:blip r:embed="rId7"/>
          <a:stretch/>
        </p:blipFill>
        <p:spPr>
          <a:xfrm>
            <a:off x="6012000" y="2852640"/>
            <a:ext cx="2676240" cy="197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gypsumRose4"/>
          <p:cNvPicPr/>
          <p:nvPr/>
        </p:nvPicPr>
        <p:blipFill>
          <a:blip r:embed="rId8"/>
          <a:stretch/>
        </p:blipFill>
        <p:spPr>
          <a:xfrm>
            <a:off x="4067280" y="4724280"/>
            <a:ext cx="2676600" cy="197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image"/>
          <p:cNvPicPr/>
          <p:nvPr/>
        </p:nvPicPr>
        <p:blipFill>
          <a:blip r:embed="rId1"/>
          <a:stretch/>
        </p:blipFill>
        <p:spPr>
          <a:xfrm>
            <a:off x="0" y="333360"/>
            <a:ext cx="8964720" cy="6230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9"/>
          <p:cNvSpPr/>
          <p:nvPr/>
        </p:nvSpPr>
        <p:spPr>
          <a:xfrm>
            <a:off x="-4508280" y="29491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Доступность изложения материалов, богатство и разнообразие экспонатов музея, дают возможность любому посетителю от ребенка младшего школьного возраста до профессионала-геолога обнаружить здесь информационные ниши, соответствующие уровню своих знаний. Опытные экскурсоводы-геологи помогут разобраться с любыми вопросами, возникающими в процессе осмотра экспонатов музея. 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Кто может посещать Музей и с какой цель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Сделай рисунок о том, что тебе особенно понравилось и запомнилос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Courier New"/>
                <a:ea typeface="Courier New"/>
              </a:rPr>
              <a:t>Спасибо за внимание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Казахстан </a:t>
            </a:r>
            <a:r>
              <a:rPr b="0" lang="ru-RU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сегодня –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одно из немногих государств мира, обладающих уникальной минерально-сырьевой базой. Согласно обзору мировой горнодобывающей промышленности, в Казахстане из 55 видов минерального сырья (в том числе 29 видов металлов) добывается 39 (23 вида металлов). По количеству и качеству многих видов минерального сырья республика имеет показатели, значительно превосходящие среднемировые.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Необходимость сбора и сохранности наглядной геологической информации в виде геологических музеев или официальных ведомственных коллекций руд и минералов с целью демонстрации, сравнения, научного исследования уникальных и эталонных геологических образцов на сегодняшний день очевидн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Сколько видов минерального сырья добывается в Республике Казахстан ( в том числе металлов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Каково качество минерального сырья, добываемого в Республике Казахста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Основателем первого геологического музея в Казахстане можно считать 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Каныша Имантаевича</a:t>
            </a:r>
            <a:r>
              <a:rPr b="1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Сатпаева </a:t>
            </a:r>
            <a:r>
              <a:rPr b="0" i="1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(его имя носит сейчас Восточно-Казахстанский  государственный технический университет г. Усть-Каменогорска</a:t>
            </a:r>
            <a:r>
              <a:rPr b="1" i="1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, который предвидел научную значимость и практическую важность для будущего сбора и сохранения эталонов руд и минералов, особенно с исчезающих в процессе промышленного освоения объектов. Именно его приказом в трудном </a:t>
            </a:r>
            <a:r>
              <a:rPr b="1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1942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 году при Институте геологических наук Казахского филиала Академии Наук был создан геологический музей, имеющий научную направленность и являющийся бесспорным лидером по количеству и разнообразию геологических образцов Казахстана. 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Кто является основателем первого геологического музея в Казахста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В каком году был создан геологический музей при Институте геологических нау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m3"/>
          <p:cNvPicPr/>
          <p:nvPr/>
        </p:nvPicPr>
        <p:blipFill>
          <a:blip r:embed="rId1"/>
          <a:stretch/>
        </p:blipFill>
        <p:spPr>
          <a:xfrm>
            <a:off x="324000" y="260280"/>
            <a:ext cx="4824360" cy="348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useum7"/>
          <p:cNvPicPr/>
          <p:nvPr/>
        </p:nvPicPr>
        <p:blipFill>
          <a:blip r:embed="rId2"/>
          <a:stretch/>
        </p:blipFill>
        <p:spPr>
          <a:xfrm>
            <a:off x="4356000" y="3141720"/>
            <a:ext cx="4286520" cy="320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Геологический музей Республики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Казахстан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ведет научные исследования, постоянно совершенствует и пополняет коллекцию руд и минералов, совершая экспедиции в различные уголки республики, участвует во многих семинарах и международных минералогических выставках, демонстрируя богатства и возможности Казахстана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С чем связана деятельность геологического музея Республики Казахста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03:27:52Z</dcterms:created>
  <dc:creator>Mammmam</dc:creator>
  <dc:description/>
  <dc:language>en-US</dc:language>
  <cp:lastModifiedBy>User</cp:lastModifiedBy>
  <dcterms:modified xsi:type="dcterms:W3CDTF">2012-11-12T12:56:13Z</dcterms:modified>
  <cp:revision>5</cp:revision>
  <dc:subject/>
  <dc:title>Виртуальная экскурсия</dc:title>
</cp:coreProperties>
</file>