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2.png" ContentType="image/png"/>
  <Override PartName="/ppt/media/image21.png" ContentType="image/png"/>
  <Override PartName="/ppt/media/image27.jpeg" ContentType="image/jpeg"/>
  <Override PartName="/ppt/media/image10.png" ContentType="image/png"/>
  <Override PartName="/ppt/media/image6.jpeg" ContentType="image/jpeg"/>
  <Override PartName="/ppt/media/image5.png" ContentType="image/png"/>
  <Override PartName="/ppt/media/image29.jpeg" ContentType="image/jpeg"/>
  <Override PartName="/ppt/media/image8.png" ContentType="image/png"/>
  <Override PartName="/ppt/media/image33.png" ContentType="image/png"/>
  <Override PartName="/ppt/media/image2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media/image31.jpeg" ContentType="image/jpeg"/>
  <Override PartName="/ppt/media/image32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0.png" ContentType="image/png"/>
  <Override PartName="/ppt/media/image2.jpeg" ContentType="image/jpeg"/>
  <Override PartName="/ppt/media/image30.png" ContentType="image/png"/>
  <Override PartName="/ppt/media/image3.jpeg" ContentType="image/jpeg"/>
  <Override PartName="/ppt/media/image1.png" ContentType="image/png"/>
  <Override PartName="/ppt/media/image24.png" ContentType="image/png"/>
  <Override PartName="/ppt/media/image14.png" ContentType="image/pn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160DF-050E-4E4A-A30F-DD3127670B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Учитель зачитывает описание материка, учащиеся определяют название материка. По щелчку открывается тема урок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Учитель предлагает тестовые задания, на слайдах (или текстовый вариант), учащиеся выполняют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Учитель предлагает тестовые задания, на слайдах (или текстовый вариант), учащиеся выполняют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Учитель комментирует домашнее задание, учащиеся записывают его в дневник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Для мотивации учитель предлагает объяснить фразу «Страна морозов и  жестокого Солнца» и предлагает. посмотреть несколько фотографий Антарктиды, учащиеся смотрят, дают ответы на вопросы. Затем определяют цели урока, учитель открывает слайд, дополняет учащихся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Учитель рассказывает о суровости климата, учащиеся работают с климатической картой, климатограммами. Учитель предлагает прослушать дикторский текст и определить причину суровости климата материка, затем проверяют на слайде по щелчку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лагает прослушать дикторский текст( гиперссылка с заголовка) и посмотреть видеофильм об обитателях Антарктиды. Озвучивает вопросы, на которые необходимо дать ответ после просмотра фильма.(на следующем слайде), затем возвращается на предыдущий слайд и предлагает просмотр видеофильма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Учитель озвучивает вопросы на которые надо дать ответ после просмотра фильм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Дикторский текст знакомит с современными исследованиями материка и международным статусом  материк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Учащиеся, получившие опережающие задания, делают краткие сообщения  о научных станциях Антарктиды. Все наносят их местоположение на контурную карту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Учащиеся выполняют тестовые задани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лагает учащимся дополнит ответы, которые у них были в начале урока,  объясняя противоречие: почему Антарктида – «страна морозов и  жестокого Солнца?»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лагает учащимся написать эссе по теме урок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Учащиеся ставят цели урока, затем учитель их дополняет и открывает слайд с целями урок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Учитель комментирует домашнее задание, учащиеся записывают его в дневник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Учащиеся характеризуют ГП материка, работают в контурной карте с помощью карт. атлас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Учащиеся слушают выступление одноклассника ( презентация выступления – щёлкнуть по заголовку слайда) и заполняют таблицу, затем её проверяют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Учитель предлагает прослушать дикторский текст(1) и выполнить задания в парах. Задание: 1. По картам атласа составить характеристику подлёдного рельефа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Определить зависимость рельефа от строения земной коры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Учащиеся прослушав дикторский  текст (2) отвечают на вопрос слайда ( о полезных ископаемых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Учащиеся слушают рассказ учителя о вулкане Эребус, затем работают в контурных картах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Учитель предлагает прослушать текст, посмотреть слайд шоу, а затем ответить на вопросы.(Вопросы по щелчку появляются, учитель их озвучивает, затем по щелчку на картинке включается текст с слайд шоу учащиеся смотрят и слушают текст, затем по щелчку вопросы снова появляются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Учащиеся формулируют тезисы вывода по теме урока  в тетради, затем озвучивают и проверяют правильность на слайде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Учитель предлагает тестовые задания, на слайдах (или текстовый вариант), учащиеся выполняют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A189-4317-43C0-97A2-3D25A719C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09E4-794D-47E7-84EC-EE1433A9E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9020-6AB6-4A8B-8798-FE1893422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2835-76C2-4D14-B431-982EE83B1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EB49-9247-4C96-B8AA-05B41B938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3D16-90BB-4207-A627-890548B2F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2AC3-8DAF-49DA-A129-69217AA41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9544-19F7-4A96-9DCE-ADD040828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B896-4C45-4336-B110-FCC2295AC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7554-5175-4F16-871E-AB14FC1F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64B5-9F36-4429-8D31-B52F41B2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8506-7977-4F52-AE1B-A0852C76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525F0-9195-4BF1-A3E5-0F43CF8238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&#1060;&#1080;&#1083;&#1100;&#1084;.wmv" TargetMode="External"/><Relationship Id="rId2" Type="http://schemas.openxmlformats.org/officeDocument/2006/relationships/slide" Target="slide15.xml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Antarktida.ppt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6.jpe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Mt_erebus.jpg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95280" y="692280"/>
            <a:ext cx="8424720" cy="28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Антарктида - загадочный материк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444480" y="3500280"/>
            <a:ext cx="551988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«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И лежит этот неведомый край снега и льда за южным полярным кругом, ослепительно сияя в лучах солнца полярного дня или окутанный облаками и и вихрями пурги во тьме полярной ночи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А.М.Гус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39640" y="3500280"/>
            <a:ext cx="2808360" cy="24498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Выберите правильные утвержд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Южный полюс открыл Роберт Ск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основании материка лежит Антарктическая платфор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дяной щит материка находится постоянно в движении от центра к перифер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щность ледяного щита Антарктиды составляет от 200м до 400 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5640" y="22050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В основании материка залегает Антарктическая платфор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1280" y="3357720"/>
            <a:ext cx="7489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26920" y="3284640"/>
            <a:ext cx="792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Ледяной щит материка находится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постоянно в движении от центра к перифер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раграф 36, в. 1 и 2.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дивидуальные задания. (сообщения о научных станциях в Антарктиде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95280" y="3789360"/>
            <a:ext cx="3672000" cy="280836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076720" y="3789360"/>
            <a:ext cx="3743280" cy="28083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Природа Антарктид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Цел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знакомиться с климатом материка, органическим мир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ъяснить зависимость органического мира от клима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знакомиться с современным изучением матер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1" action="ppaction://hlinksldjump"/>
          </p:cNvPr>
          <p:cNvSpPr/>
          <p:nvPr/>
        </p:nvSpPr>
        <p:spPr>
          <a:xfrm>
            <a:off x="8388360" y="609300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10800"/>
                </a:moveTo>
                <a:lnTo>
                  <a:pt x="19633" y="3794"/>
                </a:lnTo>
                <a:lnTo>
                  <a:pt x="1963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Антарктика фото 0"/>
          <p:cNvPicPr/>
          <p:nvPr/>
        </p:nvPicPr>
        <p:blipFill>
          <a:blip r:embed="rId2"/>
          <a:stretch/>
        </p:blipFill>
        <p:spPr>
          <a:xfrm>
            <a:off x="250920" y="1125360"/>
            <a:ext cx="8604000" cy="5465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4" name="" descr="Антарктика фото 4"/>
          <p:cNvPicPr/>
          <p:nvPr/>
        </p:nvPicPr>
        <p:blipFill>
          <a:blip r:embed="rId3"/>
          <a:stretch/>
        </p:blipFill>
        <p:spPr>
          <a:xfrm>
            <a:off x="250920" y="1125360"/>
            <a:ext cx="8642160" cy="547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5" name="" descr="Антарктика фото 7"/>
          <p:cNvPicPr/>
          <p:nvPr/>
        </p:nvPicPr>
        <p:blipFill>
          <a:blip r:embed="rId4"/>
          <a:stretch/>
        </p:blipFill>
        <p:spPr>
          <a:xfrm>
            <a:off x="250920" y="1125360"/>
            <a:ext cx="8640720" cy="547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Антарктида – самый холодный матер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724360" y="4437000"/>
            <a:ext cx="2914920" cy="2185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651640" y="1773360"/>
            <a:ext cx="2916000" cy="2187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95280" y="1628640"/>
            <a:ext cx="4753080" cy="3240360"/>
          </a:xfrm>
          <a:prstGeom prst="roundRect">
            <a:avLst>
              <a:gd name="adj" fmla="val 152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няя температу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нваря - 4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амая низкая темп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 Земле - 89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амая высока температур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тмеченная в январе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651640" y="1413000"/>
            <a:ext cx="2881080" cy="431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убантарктическ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651640" y="4076640"/>
            <a:ext cx="3024000" cy="43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нтарктиче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" y="1341360"/>
            <a:ext cx="8424720" cy="5256360"/>
          </a:xfrm>
          <a:prstGeom prst="wedgeRoundRectCallout">
            <a:avLst>
              <a:gd name="adj1" fmla="val -45138"/>
              <a:gd name="adj2" fmla="val 5214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Причины суровости клима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еографическое положение в высоких широт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личие полярной но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едяной покров отражает 90% солнечного теп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т обла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ысокий матер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3995640" y="3284640"/>
            <a:ext cx="4032360" cy="2952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250920" y="6237360"/>
            <a:ext cx="57600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217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0" dur="14000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79786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Органический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м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324000" y="1197000"/>
            <a:ext cx="849600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00000" y="476280"/>
            <a:ext cx="770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Ответить на вопро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" y="1484280"/>
            <a:ext cx="8496000" cy="46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ие виды пингвинов населяют Антарктид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бъясните, почему птенцов у  пингвинов высиживает самец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ицом Антарктиды являются пингвины, но какие ещё животные населяют материк Антарктид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чему жизнь животного мира Антарктиды связана с море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" action="ppaction://hlinkshowjump?jump=previousslide"/>
          </p:cNvPr>
          <p:cNvSpPr/>
          <p:nvPr/>
        </p:nvSpPr>
        <p:spPr>
          <a:xfrm>
            <a:off x="8388360" y="6381720"/>
            <a:ext cx="504720" cy="287280"/>
          </a:xfrm>
          <a:custGeom>
            <a:avLst/>
            <a:gdLst>
              <a:gd name="textAreaLeft" fmla="*/ 18360 w 504720"/>
              <a:gd name="textAreaRight" fmla="*/ 486360 w 504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28" h="21600">
                <a:moveTo>
                  <a:pt x="0" y="0"/>
                </a:moveTo>
                <a:lnTo>
                  <a:pt x="37928" y="0"/>
                </a:lnTo>
                <a:lnTo>
                  <a:pt x="37928" y="21600"/>
                </a:lnTo>
                <a:lnTo>
                  <a:pt x="0" y="21600"/>
                </a:lnTo>
                <a:close/>
              </a:path>
              <a:path fill="lightenLess" w="37928" h="21600">
                <a:moveTo>
                  <a:pt x="0" y="0"/>
                </a:moveTo>
                <a:lnTo>
                  <a:pt x="37928" y="0"/>
                </a:lnTo>
                <a:lnTo>
                  <a:pt x="36528" y="1400"/>
                </a:lnTo>
                <a:lnTo>
                  <a:pt x="1400" y="1400"/>
                </a:lnTo>
                <a:close/>
              </a:path>
              <a:path fill="darken" w="37928" h="21600">
                <a:moveTo>
                  <a:pt x="37928" y="0"/>
                </a:moveTo>
                <a:lnTo>
                  <a:pt x="37928" y="21600"/>
                </a:lnTo>
                <a:lnTo>
                  <a:pt x="36528" y="20200"/>
                </a:lnTo>
                <a:lnTo>
                  <a:pt x="36528" y="1400"/>
                </a:lnTo>
                <a:close/>
              </a:path>
              <a:path fill="darkenLess" w="37928" h="21600">
                <a:moveTo>
                  <a:pt x="379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28" y="20200"/>
                </a:lnTo>
                <a:close/>
              </a:path>
              <a:path fill="lighten" w="379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28" h="21600">
                <a:moveTo>
                  <a:pt x="11958" y="10800"/>
                </a:moveTo>
                <a:lnTo>
                  <a:pt x="25971" y="3794"/>
                </a:lnTo>
                <a:lnTo>
                  <a:pt x="2597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Человек в Антарктид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2665440" cy="2286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203640" y="4149720"/>
            <a:ext cx="2590560" cy="20718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6095880" y="907920"/>
            <a:ext cx="2868840" cy="2286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250920" y="4292640"/>
            <a:ext cx="2716200" cy="23623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6084720" y="4456080"/>
            <a:ext cx="2880000" cy="22986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3132000" y="1449360"/>
            <a:ext cx="2735280" cy="20527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7"/>
          <a:stretch/>
        </p:blipFill>
        <p:spPr>
          <a:xfrm>
            <a:off x="85327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230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3" dur="32067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Рисунок 2" descr="Антарктид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0" name="Прямоугольник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8080"/>
          </a:xfrm>
          <a:prstGeom prst="rect">
            <a:avLst/>
          </a:prstGeom>
          <a:ln w="0">
            <a:noFill/>
          </a:ln>
        </p:spPr>
      </p:pic>
      <p:sp>
        <p:nvSpPr>
          <p:cNvPr id="141" name="TextBox 3"/>
          <p:cNvSpPr/>
          <p:nvPr/>
        </p:nvSpPr>
        <p:spPr>
          <a:xfrm>
            <a:off x="473400" y="765000"/>
            <a:ext cx="82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емля – наш дом и людям важно знать, что делается в н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179280" y="2738520"/>
            <a:ext cx="8785440" cy="398772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49da"/>
                </a:solidFill>
                <a:uFillTx/>
                <a:latin typeface="Times New Roman"/>
                <a:ea typeface="Times New Roman"/>
              </a:rPr>
              <a:t>В недрах Антарктиды обнаружены разнообразные полезные ископаемые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4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9da"/>
                </a:solidFill>
                <a:latin typeface="Times New Roman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49da"/>
                </a:solidFill>
                <a:latin typeface="Times New Roman"/>
                <a:ea typeface="Times New Roman"/>
              </a:rPr>
              <a:t>уголь, железная руда, цветные металл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4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9da"/>
                </a:solidFill>
                <a:latin typeface="Times New Roman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49da"/>
                </a:solidFill>
                <a:latin typeface="Times New Roman"/>
                <a:ea typeface="Times New Roman"/>
              </a:rPr>
              <a:t>найдены следы нефти и природного газ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4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9da"/>
                </a:solidFill>
                <a:latin typeface="Times New Roman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49da"/>
                </a:solidFill>
                <a:latin typeface="Times New Roman"/>
                <a:ea typeface="Times New Roman"/>
              </a:rPr>
              <a:t>ученые предполагают, что там есть  золото, уран, алмаз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4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9da"/>
                </a:solidFill>
                <a:latin typeface="Times New Roman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49da"/>
                </a:solidFill>
                <a:latin typeface="Times New Roman"/>
                <a:ea typeface="Times New Roman"/>
              </a:rPr>
              <a:t>океанические воды Антарктиды богаты крупными морскими животными, рыб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4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4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49d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9da"/>
                </a:solidFill>
                <a:latin typeface="Times New Roman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49da"/>
                </a:solidFill>
                <a:latin typeface="Times New Roman"/>
                <a:ea typeface="Times New Roman"/>
              </a:rPr>
              <a:t>В Антарктиде сосредоточены огромные запасы пресной в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49d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9da"/>
                </a:solidFill>
                <a:latin typeface="Times New Roman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49da"/>
                </a:solidFill>
                <a:latin typeface="Times New Roman"/>
                <a:ea typeface="Times New Roman"/>
              </a:rPr>
              <a:t>Процессы, происходящие в Антарктиде, неизбежно сказываются на природе всей поверхности   Зем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49d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9da"/>
                </a:solidFill>
                <a:latin typeface="Times New Roman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49da"/>
                </a:solidFill>
                <a:latin typeface="Times New Roman"/>
                <a:ea typeface="Times New Roman"/>
              </a:rPr>
              <a:t>Атмосфера над Антарктидой оказывает влияние на движение всех воздушных масс плане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49d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9da"/>
                </a:solidFill>
                <a:latin typeface="Times New Roman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49da"/>
                </a:solidFill>
                <a:latin typeface="Times New Roman"/>
                <a:ea typeface="Times New Roman"/>
              </a:rPr>
              <a:t>Ледниковый покров, возникший 20 млн. лет назад, содержит богатую информацию об истории  развития  природных комплексов Земли, влиянии Космоса на нашу планет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49da"/>
                </a:solidFill>
                <a:uFillTx/>
                <a:latin typeface="Times New Roman"/>
                <a:ea typeface="Times New Roman"/>
              </a:rPr>
              <a:t>Изучая его, можно не только составить летопись климатических изменений, но и прогнозировать  климат будуще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Проверь себя: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Вставить пропущенные слов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инимальное количество тепла Антарктида получает в………(месяц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авной причиной малого количества солнечного тепла, получаемого материком в январе является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Жизнь в Антарктиде связана с …….., так как…………………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292720" y="213372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ию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429264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Большая отражательная способность матер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77080" y="4869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мор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11280" y="537372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море - источник пищ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24000" y="260280"/>
            <a:ext cx="8496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64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22320">
                  <a:solidFill>
                    <a:srgbClr val="333399"/>
                  </a:solidFill>
                  <a:miter/>
                </a:ln>
                <a:solidFill>
                  <a:srgbClr val="33cccc"/>
                </a:solidFill>
                <a:latin typeface="Times New Roman"/>
              </a:rPr>
              <a:t> </a:t>
            </a:r>
            <a:r>
              <a:rPr b="0" lang="en-US" sz="4000" spc="1" strike="noStrike">
                <a:ln w="22320">
                  <a:solidFill>
                    <a:srgbClr val="333399"/>
                  </a:solidFill>
                  <a:miter/>
                </a:ln>
                <a:solidFill>
                  <a:srgbClr val="33cccc"/>
                </a:solidFill>
                <a:latin typeface="Times New Roman"/>
              </a:rPr>
              <a:t>"Страна морозов и жестокого солнца"</a:t>
            </a:r>
            <a:endParaRPr b="0" lang="en-US" sz="4000" spc="1" strike="noStrike">
              <a:ln w="22320">
                <a:solidFill>
                  <a:srgbClr val="333399"/>
                </a:solidFill>
                <a:miter/>
              </a:ln>
              <a:solidFill>
                <a:srgbClr val="33cccc"/>
              </a:solidFill>
              <a:latin typeface="Times New Roman"/>
              <a:ea typeface="Times New Roman"/>
            </a:endParaRPr>
          </a:p>
        </p:txBody>
      </p:sp>
      <p:sp>
        <p:nvSpPr>
          <p:cNvPr id="150" name="">
            <a:hlinkClick r:id="rId2" action="ppaction://hlinksldjump"/>
          </p:cNvPr>
          <p:cNvSpPr/>
          <p:nvPr/>
        </p:nvSpPr>
        <p:spPr>
          <a:xfrm>
            <a:off x="8893080" y="6524640"/>
            <a:ext cx="250920" cy="333360"/>
          </a:xfrm>
          <a:custGeom>
            <a:avLst/>
            <a:gdLst>
              <a:gd name="textAreaLeft" fmla="*/ 62640 w 250920"/>
              <a:gd name="textAreaRight" fmla="*/ 188280 w 250920"/>
              <a:gd name="textAreaTop" fmla="*/ 62640 h 333360"/>
              <a:gd name="textAreaBottom" fmla="*/ 270720 h 333360"/>
            </a:gdLst>
            <a:ahLst/>
            <a:rect l="textAreaLeft" t="textAreaTop" r="textAreaRight" b="textAreaBottom"/>
            <a:pathLst>
              <a:path w="21600" h="28687">
                <a:moveTo>
                  <a:pt x="0" y="0"/>
                </a:moveTo>
                <a:lnTo>
                  <a:pt x="21600" y="0"/>
                </a:lnTo>
                <a:lnTo>
                  <a:pt x="21600" y="28687"/>
                </a:lnTo>
                <a:lnTo>
                  <a:pt x="0" y="28687"/>
                </a:lnTo>
                <a:close/>
              </a:path>
              <a:path fill="lightenLess" w="21600" h="28687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8687">
                <a:moveTo>
                  <a:pt x="21600" y="0"/>
                </a:moveTo>
                <a:lnTo>
                  <a:pt x="21600" y="28687"/>
                </a:lnTo>
                <a:lnTo>
                  <a:pt x="16200" y="23287"/>
                </a:lnTo>
                <a:lnTo>
                  <a:pt x="16200" y="5400"/>
                </a:lnTo>
                <a:close/>
              </a:path>
              <a:path fill="darkenLess" w="21600" h="28687">
                <a:moveTo>
                  <a:pt x="21600" y="28687"/>
                </a:moveTo>
                <a:lnTo>
                  <a:pt x="0" y="28687"/>
                </a:lnTo>
                <a:lnTo>
                  <a:pt x="5400" y="23287"/>
                </a:lnTo>
                <a:lnTo>
                  <a:pt x="16200" y="23287"/>
                </a:lnTo>
                <a:close/>
              </a:path>
              <a:path fill="lighten" w="21600" h="28687">
                <a:moveTo>
                  <a:pt x="0" y="28687"/>
                </a:moveTo>
                <a:lnTo>
                  <a:pt x="0" y="0"/>
                </a:lnTo>
                <a:lnTo>
                  <a:pt x="5400" y="5400"/>
                </a:lnTo>
                <a:lnTo>
                  <a:pt x="5400" y="23287"/>
                </a:lnTo>
                <a:close/>
              </a:path>
              <a:path fill="darken" w="21600" h="28687">
                <a:moveTo>
                  <a:pt x="6775" y="14343"/>
                </a:moveTo>
                <a:lnTo>
                  <a:pt x="14825" y="10318"/>
                </a:lnTo>
                <a:lnTo>
                  <a:pt x="14825" y="1836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Цели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ределить географическое положение Антаркти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знакомиться с историей открытия и исследования контин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ставить характеристику рельефа материка, определить зависимость строения земной коры и форм рельеф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раграф 37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ставить кроссворд об Антарктиде ( не менее15 слов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076720" y="3860640"/>
            <a:ext cx="3529080" cy="24480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84360" y="3860640"/>
            <a:ext cx="360036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7905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Географическое поло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53000" y="1341360"/>
            <a:ext cx="4240080" cy="4751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684360" y="1413000"/>
            <a:ext cx="3527280" cy="53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Антарктика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южная полярная область земного шара, включающая Антарктиду и прилегающие к ней участки Атлантического, Индийского и Тихого океанов (иногда эти части океанов выделяют в отдельный Южный океан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лощадь континента составляет 12,4 млн. км² (ещё 1,6 млн. км² составляют шельфовые ледники)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341360"/>
            <a:ext cx="3889440" cy="4751640"/>
          </a:xfrm>
          <a:prstGeom prst="wedgeRectCallout">
            <a:avLst>
              <a:gd name="adj1" fmla="val 60652"/>
              <a:gd name="adj2" fmla="val 3115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На контурной карте обозначь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Южный полю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Южный полярный кр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чальный мериди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райние точки, их   координ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Подпиши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кеаны, моря омывающие берега матер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7905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История открытия матер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50920" y="3716280"/>
          <a:ext cx="4249800" cy="2691000"/>
        </p:xfrm>
        <a:graphic>
          <a:graphicData uri="http://schemas.openxmlformats.org/drawingml/2006/table">
            <a:tbl>
              <a:tblPr/>
              <a:tblGrid>
                <a:gridCol w="1125360"/>
                <a:gridCol w="1414440"/>
                <a:gridCol w="1710000"/>
              </a:tblGrid>
              <a:tr h="126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о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гда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сделал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слушав информацию об открытии материка, заполнить таблиц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364000" y="4076640"/>
            <a:ext cx="3240360" cy="23767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435640" y="1341360"/>
            <a:ext cx="3168720" cy="23227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250920" y="1052640"/>
            <a:ext cx="8569080" cy="5472000"/>
          </a:xfrm>
          <a:prstGeom prst="wedgeRectCallout">
            <a:avLst>
              <a:gd name="adj1" fmla="val 22638"/>
              <a:gd name="adj2" fmla="val 52319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11280" y="1268280"/>
          <a:ext cx="7921440" cy="4897440"/>
        </p:xfrm>
        <a:graphic>
          <a:graphicData uri="http://schemas.openxmlformats.org/drawingml/2006/table">
            <a:tbl>
              <a:tblPr/>
              <a:tblGrid>
                <a:gridCol w="2638440"/>
                <a:gridCol w="2387520"/>
                <a:gridCol w="289548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о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гда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сделал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.Ф,Беллинсгауз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.П.Лазаре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0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крыл Антарктид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.Борхгреви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98-1899г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л первую зимовку на материке на мысе Ад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 Амундс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11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стиг Южного полю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 Скот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12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стиг Южного полю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274680"/>
            <a:ext cx="8136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Подлёдный рельеф матер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413000"/>
            <a:ext cx="3166920" cy="936360"/>
          </a:xfrm>
          <a:prstGeom prst="downArrowCallout">
            <a:avLst>
              <a:gd name="adj1" fmla="val 84562"/>
              <a:gd name="adj2" fmla="val 84554"/>
              <a:gd name="adj3" fmla="val 16667"/>
              <a:gd name="adj4" fmla="val 6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орный зап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1413000"/>
            <a:ext cx="3384360" cy="934920"/>
          </a:xfrm>
          <a:prstGeom prst="downArrowCallout">
            <a:avLst>
              <a:gd name="adj1" fmla="val 90507"/>
              <a:gd name="adj2" fmla="val 90499"/>
              <a:gd name="adj3" fmla="val 16667"/>
              <a:gd name="adj4" fmla="val 6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внинный вос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067280" y="1052640"/>
            <a:ext cx="863640" cy="5398920"/>
          </a:xfrm>
          <a:prstGeom prst="downArrow">
            <a:avLst>
              <a:gd name="adj1" fmla="val 68019"/>
              <a:gd name="adj2" fmla="val 141900"/>
            </a:avLst>
          </a:prstGeom>
          <a:solidFill>
            <a:srgbClr val="9f92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95280" y="2492280"/>
            <a:ext cx="3392640" cy="381636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5524560" y="2492280"/>
            <a:ext cx="3368520" cy="381636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50920" y="1125360"/>
            <a:ext cx="8497800" cy="5110200"/>
          </a:xfrm>
          <a:prstGeom prst="wedgeRectCallout">
            <a:avLst>
              <a:gd name="adj1" fmla="val -44115"/>
              <a:gd name="adj2" fmla="val 6155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Пользуясь картой в атласе «Строение земной коры», объясните причину разнообразия рельефа Антаркти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71640" y="1916280"/>
            <a:ext cx="302400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ревняя (Антарктическая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латфор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932360" y="1916280"/>
            <a:ext cx="324000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внинный вос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71640" y="2924280"/>
            <a:ext cx="3024000" cy="64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овая (кайнозойска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кладчат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932360" y="2924280"/>
            <a:ext cx="3240000" cy="72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орный запад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рансантарктические г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95640" y="2276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95640" y="3213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9280" y="981000"/>
            <a:ext cx="8713800" cy="5472360"/>
          </a:xfrm>
          <a:prstGeom prst="wedgeRectCallout">
            <a:avLst>
              <a:gd name="adj1" fmla="val -23472"/>
              <a:gd name="adj2" fmla="val 26384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Как объяснить появление на таком холодном материке, как Антарктида останков древних теплолюбивых животных и разнообразие полезных ископаемых органического происхождения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3276720" y="4149720"/>
            <a:ext cx="2808000" cy="2286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7"/>
          <a:stretch/>
        </p:blipFill>
        <p:spPr>
          <a:xfrm>
            <a:off x="539640" y="2421000"/>
            <a:ext cx="2881440" cy="20541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8"/>
          <a:stretch/>
        </p:blipFill>
        <p:spPr>
          <a:xfrm>
            <a:off x="5796000" y="2492280"/>
            <a:ext cx="2759040" cy="2286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6308640"/>
            <a:ext cx="2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388360" y="64911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9"/>
          <a:stretch/>
        </p:blipFill>
        <p:spPr>
          <a:xfrm>
            <a:off x="250920" y="6381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0"/>
          <a:stretch/>
        </p:blipFill>
        <p:spPr>
          <a:xfrm>
            <a:off x="8675640" y="6553080"/>
            <a:ext cx="4683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1409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18039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Непредсказуемый вулк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http://upload.wikimedia.org/wikipedia/commons/thumb/4/4e/Mt_erebus.jpg/300px-Mt_erebu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4640" y="1413000"/>
            <a:ext cx="4232520" cy="48243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88" name=""/>
          <p:cNvSpPr/>
          <p:nvPr/>
        </p:nvSpPr>
        <p:spPr>
          <a:xfrm>
            <a:off x="5292720" y="1413000"/>
            <a:ext cx="3382920" cy="48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ре́бус 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улкан в Антарктиде, самый южный действующий вулкан на Зем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сота — 3794 м, расположен на Острове Росса, где имеется еще 3 других потухших вулкана. Постоянная активность вулкана наблюдается с 1972 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жет «молчать» сутками или извергаться по 2-3 раза в ча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76720" y="1484280"/>
            <a:ext cx="3818160" cy="4896000"/>
          </a:xfrm>
          <a:prstGeom prst="wedgeRoundRectCallout">
            <a:avLst>
              <a:gd name="adj1" fmla="val -66217"/>
              <a:gd name="adj2" fmla="val 47180"/>
              <a:gd name="adj3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Нанести на контурную карт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рансантарктические го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ры Вернадск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внина Бэр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улкан Эреб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424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Ледяной покров Антаркти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8497800" cy="51847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24000" y="1484280"/>
            <a:ext cx="7848360" cy="4897440"/>
          </a:xfrm>
          <a:prstGeom prst="wedgeRectCallout">
            <a:avLst>
              <a:gd name="adj1" fmla="val -42777"/>
              <a:gd name="adj2" fmla="val 5068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Ответить на вопрос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кова мощность ледяного щит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кое значение имеет лёд   Антаркти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чему географические координаты точек на материке не      постоянн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Вывод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терик почти весь расположен в пределах южного полярного круг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крыт русскими мореплавателями Ф.Ф Беллинсгаузеном и М.П. Лазаревы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 других материков отделён огромным океаническим пространств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крыт мощным слоем льда, средняя мощность 2300 м, а остальных материков – 900 м, на 99% материк покрыт мощным льд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амый высокий материк за счёт толщины ль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ПРОВЕРЬ СЕБЯ!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Вставь пропущенные слов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Южная полярная область с прилегающими к ней островами и южные части океанов до 50-6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ю.ш., называют ……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820 г. Материк был открыт русской экспедицией под командой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……………..           и ………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916360" y="3141720"/>
            <a:ext cx="31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Антаркти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71640" y="4797360"/>
            <a:ext cx="37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Беллинсгауз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59120" y="6308640"/>
            <a:ext cx="246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92720" y="4724280"/>
            <a:ext cx="29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Лазар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17:43:33Z</dcterms:created>
  <dc:creator>Nik</dc:creator>
  <dc:description/>
  <dc:language>en-US</dc:language>
  <cp:lastModifiedBy>User</cp:lastModifiedBy>
  <dcterms:modified xsi:type="dcterms:W3CDTF">2011-02-14T16:24:39Z</dcterms:modified>
  <cp:revision>37</cp:revision>
  <dc:subject/>
  <dc:title>Слайд 1</dc:title>
</cp:coreProperties>
</file>