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5.wmf" ContentType="image/x-wmf"/>
  <Override PartName="/ppt/media/image10.wmf" ContentType="image/x-wmf"/>
  <Override PartName="/ppt/media/image13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A96-95AF-4530-A8C4-5E21926C0C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535-DAFB-46C6-AAD4-9621CFFF99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211-4F6D-43A5-B9A8-40334F6436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8180-6A69-473A-9E3D-D4120DE109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E437-9C35-4890-837F-9637970187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1C1-98E6-4D69-905E-EC13FC760A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9E22-E7C0-4F34-8AD6-02AC568A2F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235-2636-4AC6-AF02-487F0C290C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7C1-656B-4D31-A62E-198ECF7E3E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E18-DDE0-44AA-A8F1-B7243C2DBA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47A-05FB-45D8-9977-9E44D135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A55-1674-47C1-BCDF-8455EABC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F5D2C-454C-4D7B-96DC-8D390A0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23A53-FC70-4CA2-A440-FAE737AC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5E3FF-8C84-4D96-8C8D-52408A8C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3DAFA-6AE3-47D3-95C0-B4F0E0D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EDD17-E9E8-4B52-9E68-46AA62C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B280C-6405-42A4-8A9E-BF0164E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894B7-260D-4468-882D-B5D37B2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F923A-9D8B-441D-AFAF-91DBB1E3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9760-5D50-45EE-B19E-8B4B7A25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51E82-2A99-4D1E-BE3C-916D8CD2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A13-E47D-4755-BD79-5DD20B5A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F4A3E-CA52-4312-BC5A-CDE6154D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A03C3-9E49-4768-B540-5298F89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A7D6D-F16C-466A-8F4C-A17C3D5B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6C09F-8849-4F2E-9A60-C828CD05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9058-295C-4F31-9A20-8544D288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EA41E-AF9A-4106-A555-E06067E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D8A5C-894C-46F0-A5F3-A6F4F0F4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22194-F7DE-42EA-8ACE-2075CCB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C14A4-704F-4AD8-BD13-F3945DCE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948D5-BABE-40ED-8D26-6BD6E9E4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A8C-E795-4130-AF2C-1E26889F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6CA9B-D31F-46CD-9A04-D8917A0B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F086B-A19A-44E4-90B7-5C4063E6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7C232-3256-41D7-B36D-8345392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1EFD9-3FE5-46C5-A8CC-9D436A0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09CA6-4A04-49B2-B590-5ACF3B0F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56DAD-A1C9-47A0-B66B-EF8A1CC5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B1E2C-288B-4595-A2A9-DEE89AF4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B0AB9-E7C8-4ECB-87BA-6F3EB78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7E0B2-D3C9-4308-8781-10E9685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938B-0CCC-400B-B8EE-0C19E2D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95A-164F-4E8B-8036-0DFBF0EC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CD23A-C99D-446E-BE6E-055C8E0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0752-F33F-460A-B9F5-64B46FF3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492B2-F386-4A58-8215-ACF742FC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A052-D907-44EE-A318-C174B578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C2860-3877-44FB-9C6D-7D9D2CD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5E0DA-EC69-4680-8C08-CB2A9011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8D239-8C75-4B9E-B6D4-652BA3E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ED2AD-ABCC-4667-8E1D-347B61D6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CB734-DB80-4716-8A93-58C236A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3CC53-F0EA-4417-9CD6-EBB65C1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64C-C968-4190-B5AB-89A0DDC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AB051-B4BA-4BA3-993E-EB6EF65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6DA14-3DEB-469D-B96E-6988F73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4B02-B26F-47D8-9099-81A073C9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84810-4018-40DC-8439-0331AAD4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EF03A-2C4E-46EF-895C-4A6A2390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B2795-F490-4A09-8DC9-AAB8BDA5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6487D-9C84-42DF-ABAD-70679F17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F577A-D7BC-4214-957F-D189EBC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55662-644E-45A3-AFF2-2661EF9D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F84CB-F3FC-4828-88FC-89F1832F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1D88-0E95-42D0-92E2-53A4291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9A2E3-C9EA-4A90-9B76-B4833DB2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8303C-1F6F-4130-AC64-B0AE510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AF5B8-FA47-4F0D-AF17-BC9AABB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38EA3-8F72-45D8-B0A8-A877FCD0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68BDA-5068-4052-A589-342A4CF6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4C1C9-BE28-47D0-8FAB-B9271EBB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259D0-2CCB-4CEA-817A-58F25875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4373-F885-4424-A3B8-3AC2164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9DEF-51DC-414B-AF06-759A08EA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08B-AB6C-4D43-8907-E79962C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674-CA9F-483C-81CC-74A80FA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C98-9F47-4ABC-AF03-BD8032B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1676-1B2A-4AFC-9FE2-61D26136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11CB-AD68-4151-9050-4914DED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DDB-36D1-4809-85F0-61D80CB1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207-9E4A-4122-8962-7CEB334D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E78-590C-4A53-8258-DDA939E6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CEB5-5EDE-491A-BE72-4EB95F0A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4C11-ACCC-4266-AB70-92F7EE6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93B1-5E95-4FD3-BCEA-491B360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7E55-41F8-48B7-818F-0BF8C152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0EDF-886B-46C4-8451-DDFF321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07E-73FB-4675-8E63-71A2C32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8DA8-F3D0-417E-9AF8-96F9843C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EA2D-E392-4DA2-9F81-73B26A5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6797-CF8E-49B9-B6D1-28E5616A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7445-B0D8-42B7-BC6E-00F4A9B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8F06-BC2F-45EE-BA8C-81FA4103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6393-881D-4A54-A82B-A40286B4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7B3D-1E6E-4DCB-9F82-EDB6D25B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943F-FF88-4572-AFD7-886959BF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A131-2BFE-4833-AF5D-11EE67A7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9DC0-4F5A-470C-BC8D-5C751D1E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581-9F78-4E40-BF91-1D6EF3EA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AF70-C679-4A2C-9185-36BCFF0E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93C91-6643-4997-B9F8-55882A85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365A-F852-4AD9-82F7-419A988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C154-3CB4-4AB4-AA56-60E1B26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1D2B-ABD2-47AA-8243-CF67D2E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E989-6483-48F2-8FDE-6DBB213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EC85-8AC2-4C2F-8268-72CBC7C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BDFD-3EAF-44E0-B31D-3AC2C2C4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67CF-DEC9-4FF0-B3D6-E84AA988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6DAD-4898-40FB-813D-B6F0200D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B1C-9D66-407A-B12C-2249AD1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C6C0-3FF8-4E19-9AE1-172088FA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9ED3A-89D1-4A7F-B282-47F2D13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76AF-96CC-4960-932A-718D252F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7712-36CF-41DD-84D6-427A345D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01E0C-556D-4002-A700-1718DA4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AFBE-CAC9-4E2D-BA83-2EC2489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3CEE-F151-416B-952E-AE887F4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0055-1488-4968-A71C-0A71A05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352D0-5E59-4B6C-A905-3479A3E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B8F4-41EA-4EFB-B12C-92CB2692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741-3381-4C1D-B656-307FC6B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15A2-E3BE-4B94-A844-0D4E09A9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3157-C92E-44E4-A597-B91F567E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DB4D-B605-4DA0-A5AE-5EC7BD6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AF93A-0B36-4721-9A83-DFAA7FBC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083A-0369-4812-9659-B7547F5D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5F8C-2295-44B1-83E2-C895723A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BEB05-751A-4691-B78F-F0F9E347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253D2-33EE-4FA9-B2DF-36B974E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FDD0B-C48C-43CC-A087-5807B8C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4AB49-DC1E-4B26-97DC-0F7B0EA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DDA-9974-4449-B9CA-0D40428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E0B9-1C1F-423D-9B55-5ED4AEA1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2F7C-B8BD-4AAB-B545-3725F232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FFFB-8B18-4555-B381-F8082590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AEAC-94B2-4031-BE1A-C15B71E7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D7024-ECD0-47A7-BF4A-9B893D3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774B-BDA4-45C8-8EF0-1308436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16D35-A365-4B47-A45A-6771DCC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4471-4BF1-4498-88D9-9129D5F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CA4A0-6A9B-4F19-9835-036535E7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4B254-D03B-4D67-879B-406B651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78D-878C-4051-8412-E75AA59C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B795-7805-4C7B-AD33-299AA33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4C4C-7DF5-4BF2-A852-B3A11EFF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6C4F-7B30-41C5-BA41-BDFBCE35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79BB-DC87-4543-926E-373C96DE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8871-B45D-45D7-B116-2F26C4C4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8967D-8A4A-4020-BCEB-4362F559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2389-3996-4AD2-86C6-33C8291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B484-01CB-4795-B5D1-250E5937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BAA8-8FB1-48F6-9DAB-355CE706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6DAA0-DF9D-41F3-BD76-549D69A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016-B125-48E4-8AB4-3A60371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037CE-704A-4FD8-99A0-411F8F0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5BF9-1AF5-4C60-8D4A-E1E73ED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E116-0984-4570-B3A2-BFC23742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9EC3-8FEF-4CFA-86C1-933AF78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30481-B2F9-4737-9388-3604A679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5B2E1-D186-4266-916B-636E356E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F5AA3-D677-4A4A-9FC4-857CCD00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2C30E-C22A-4C9A-AEF8-2EDDD35C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BE867-34EC-4740-B9B8-381B51E8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9EF25-1286-4959-97B3-DAF5D80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E50-883D-4608-B225-8050FC3B0AE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EE67-9D25-4392-889F-7F58D2A70C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37B0-7016-4CE9-9564-92BAC48F1E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5C0-B73D-4C38-A14C-BE426D5C95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8BFD-9756-4C14-90E4-C7D2421DE4A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B67-CE96-45F2-AB4B-0677CB7B22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10D-BA32-4AA5-877F-6A371D30DD7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061-4B03-418D-9DD4-3D4F891497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A262-E965-4FD5-911D-D3DEC2B33E2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AD3E-5E47-484D-9610-57C5721D49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7B8-F274-45DC-B8BB-722E93602E4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86B5-3B9D-40C6-BBC7-0E50263A67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119B-ECB0-4B7E-A735-23109CEA0DA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085-C068-4896-AA45-71A36DE3BE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E83-94C3-407E-82B4-FA9FC162B29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15C-CA00-48AD-802E-2720314AD0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8A2F-BC70-4E2F-BC6B-5B8AF72441B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14BA-4334-46EC-948F-B86F0BCA48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D78-5DB7-4635-8BB7-C31EF8E3593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C28-2F38-481B-BCA1-9A794741AB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5E9B-3535-4131-82BB-A094953229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DE62-FC78-4989-9B61-FC4FD74D7F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A35-FA12-46B5-829A-11A938EAE9C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C223-E471-4622-9E15-3A490142FD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B75D-6418-4287-8D55-ED62A761E03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818-3723-40BA-98AE-D9657C6876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8F9-2179-4571-938A-807DBBDBF4C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38862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.З.: §1, докумен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ы, зад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WordArt 9"/>
          <p:cNvSpPr txBox="1"/>
          <p:nvPr/>
        </p:nvSpPr>
        <p:spPr>
          <a:xfrm>
            <a:off x="1066680" y="609480"/>
            <a:ext cx="72392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такое обществ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4C44-FE8B-4C96-A892-21F069F4D33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A52C-95FE-44F9-BEA6-BC0B530983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ринято говорить о широком и узком смысле понятия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«природа».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лен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сф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Picture 2" descr="j0301076"/>
          <p:cNvPicPr/>
          <p:nvPr/>
        </p:nvPicPr>
        <p:blipFill>
          <a:blip r:embed="rId1"/>
          <a:stretch/>
        </p:blipFill>
        <p:spPr>
          <a:xfrm>
            <a:off x="685800" y="35812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" descr="j0090386"/>
          <p:cNvPicPr/>
          <p:nvPr/>
        </p:nvPicPr>
        <p:blipFill>
          <a:blip r:embed="rId2"/>
          <a:stretch/>
        </p:blipFill>
        <p:spPr>
          <a:xfrm>
            <a:off x="5291280" y="2114640"/>
            <a:ext cx="3450960" cy="244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6095-CDC8-47AE-B7A8-CBFC6403324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0F8C-D8E8-4D41-A08B-FE52E46071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В чем проявляется </a:t>
            </a:r>
            <a:br>
              <a:rPr sz="2800"/>
            </a:b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обособление </a:t>
            </a:r>
            <a:br>
              <a:rPr sz="2800"/>
            </a:b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общества от природы?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центре общественного развития стоит человек, обладающий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ознание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олей. Природа же существует и развивается по объективным закон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тличие от природы, общество име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странственно-временные границ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чиняется в своем развитии, наряду 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ими, особенным 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пецифическим закона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ство является организованной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истемо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социальная структура, социальные и политические организации и институ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ство выступает в качестве творца,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образователя культуры, т.е. сотворённо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ом «второй», искусственной природ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j0240695"/>
          <p:cNvPicPr/>
          <p:nvPr/>
        </p:nvPicPr>
        <p:blipFill>
          <a:blip r:embed="rId1"/>
          <a:stretch/>
        </p:blipFill>
        <p:spPr>
          <a:xfrm>
            <a:off x="-6480" y="-6480"/>
            <a:ext cx="1835280" cy="1474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j0300840"/>
          <p:cNvPicPr/>
          <p:nvPr/>
        </p:nvPicPr>
        <p:blipFill>
          <a:blip r:embed="rId2"/>
          <a:stretch/>
        </p:blipFill>
        <p:spPr>
          <a:xfrm rot="20995200">
            <a:off x="7329240" y="23623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j0185604"/>
          <p:cNvPicPr/>
          <p:nvPr/>
        </p:nvPicPr>
        <p:blipFill>
          <a:blip r:embed="rId3"/>
          <a:stretch/>
        </p:blipFill>
        <p:spPr>
          <a:xfrm>
            <a:off x="0" y="5410080"/>
            <a:ext cx="1444680" cy="14479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j0281904"/>
          <p:cNvPicPr/>
          <p:nvPr/>
        </p:nvPicPr>
        <p:blipFill>
          <a:blip r:embed="rId4"/>
          <a:stretch/>
        </p:blipFill>
        <p:spPr>
          <a:xfrm>
            <a:off x="7315200" y="-6480"/>
            <a:ext cx="1835280" cy="17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C8D-6BDD-4BD3-BF06-51D02BB1C4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Номер слайда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002-1F99-4CCA-9A05-572E40CEAA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отрасли обществозн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истема наук, изучающих экономические отношения, проблему использования ограниченных ресурсов с целью удовлетворения неограниченных потребностей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ософ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наука о наиболее общих законах развития общества, природы, созн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3B3A-6C92-495F-81AA-BC572EF57AE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Номер слайда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168-62AA-4DAA-8425-A75D574445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отрасли обществозн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олог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наука об общности как целостной системе и об отдельных социальных институтах, процессах, социальных группах и общностях, отношениях личности и общества, закономерностях массового поведения лю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наука, изучающая политику, политические процессы и поведение субъектов политики, политические отношения, политическое сознание и культуру, способы решения политических пробл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256A-8495-4105-9FEC-3C0C0C78FE4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Номер слайда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AE2-7538-408E-A645-DC472AA493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отрасли обществозн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ридическая нау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общественная наука, изучающая право как особую систему социальных норм, отдельные отрасли права, историю государства и пра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ультурология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диная социально-гуманитарная наука о духовной культуре нар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E2B-098C-446A-A436-682DE21B664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Номер слайда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FAD-CEDC-4112-A1FA-1D35B6A52D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истика отрасли обществозн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торическая нау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комплекс общественных наук, изучающих прошлое человечества во всей его конкретности и многообраз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85840" y="1295280"/>
            <a:ext cx="5257800" cy="518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циальная психолог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наука, изучающая закономерности формирования, функционирования и развития общественно-психологических явлений, процессов и состояний, субъектами которых являются индивиды и социальные общ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бщество и культу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b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нятие «общество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ет отношение 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стеме взаимоотношени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ивидов, принадлежащих к общей культу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4041720" cy="91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b">
            <a:normAutofit fontScale="9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нятие «культу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ет отношение 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у жизн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ленов данного обществ: к их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вычкам обычаям, материальным блага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которые они производя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D9DA-9D49-420B-98A5-BFDF534286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70D-C258-42D9-8738-4D948554D1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0886-781E-44CC-BE0E-31898392DDD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1A20-CBD3-407F-B28B-768EBB5F30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Общество как совместная жизнедеятельность лю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Общество и прир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Общество и культу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ука об обще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7FFA-1FF4-4CC1-9ECF-E205CEAF58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3A9-9421-4B7B-9B63-EAD1506D47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1. Общество как совместная жизнедеятельность людей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28600" y="1600200"/>
          <a:ext cx="8915400" cy="507672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ь света или территории, которая имеет определенные границы и пользуется государственным суверенитето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итическая организация страны, включающая определённый тип режима власти, органы и структуру управлен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?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0" name="Picture 2097" descr="j0149481"/>
          <p:cNvPicPr/>
          <p:nvPr/>
        </p:nvPicPr>
        <p:blipFill>
          <a:blip r:embed="rId1">
            <a:lum bright="6000"/>
          </a:blip>
          <a:stretch/>
        </p:blipFill>
        <p:spPr>
          <a:xfrm rot="859200">
            <a:off x="7314840" y="467784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Дата 2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AA2-31E2-41DE-8C14-1FD9F397262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Номер слайда 4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559-3ACD-4CFA-9088-D107F29FFD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60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БЩЕСТВО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В УЗКОМ СМЫСЛЕ: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Rectangle 35"/>
          <p:cNvSpPr/>
          <p:nvPr/>
        </p:nvSpPr>
        <p:spPr>
          <a:xfrm>
            <a:off x="451080" y="135648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обытное, буржуазное общество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6"/>
          <p:cNvSpPr/>
          <p:nvPr/>
        </p:nvSpPr>
        <p:spPr>
          <a:xfrm>
            <a:off x="1981080" y="193572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исторический этап развития человеч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7"/>
          <p:cNvSpPr/>
          <p:nvPr/>
        </p:nvSpPr>
        <p:spPr>
          <a:xfrm>
            <a:off x="451080" y="2575440"/>
            <a:ext cx="46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узское, английское общество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38"/>
          <p:cNvSpPr/>
          <p:nvPr/>
        </p:nvSpPr>
        <p:spPr>
          <a:xfrm>
            <a:off x="2032920" y="315504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рана, государ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9"/>
          <p:cNvSpPr/>
          <p:nvPr/>
        </p:nvSpPr>
        <p:spPr>
          <a:xfrm>
            <a:off x="451080" y="3794760"/>
            <a:ext cx="53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орянское общество, высшее общество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2003400" y="4331520"/>
            <a:ext cx="66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круг людей, объединенных общн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ения,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451800" y="531864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тивное общество, общество рыболовов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57"/>
          <p:cNvSpPr/>
          <p:nvPr/>
        </p:nvSpPr>
        <p:spPr>
          <a:xfrm>
            <a:off x="1869480" y="5942520"/>
            <a:ext cx="68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объединение людей с какой-либо цел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8" descr="j0283209"/>
          <p:cNvPicPr/>
          <p:nvPr/>
        </p:nvPicPr>
        <p:blipFill>
          <a:blip r:embed="rId1"/>
          <a:stretch/>
        </p:blipFill>
        <p:spPr>
          <a:xfrm>
            <a:off x="0" y="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0" descr="j0335112"/>
          <p:cNvPicPr/>
          <p:nvPr/>
        </p:nvPicPr>
        <p:blipFill>
          <a:blip r:embed="rId2"/>
          <a:stretch/>
        </p:blipFill>
        <p:spPr>
          <a:xfrm>
            <a:off x="6477120" y="2819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1" descr="j0299763"/>
          <p:cNvPicPr/>
          <p:nvPr/>
        </p:nvPicPr>
        <p:blipFill>
          <a:blip r:embed="rId3"/>
          <a:stretch/>
        </p:blipFill>
        <p:spPr>
          <a:xfrm>
            <a:off x="-304920" y="5791320"/>
            <a:ext cx="182736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6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0136-367F-43FC-90FA-80CC29E210B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89B-312C-4056-B500-F0DD2BF091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Сопоставим определения, которые дают науки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ffcc66"/>
                </a:solidFill>
                <a:uFillTx/>
                <a:latin typeface="Arial"/>
              </a:rPr>
              <a:t>в широком смысле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457200" y="1143000"/>
          <a:ext cx="8381880" cy="5468760"/>
        </p:xfrm>
        <a:graphic>
          <a:graphicData uri="http://schemas.openxmlformats.org/drawingml/2006/table">
            <a:tbl>
              <a:tblPr/>
              <a:tblGrid>
                <a:gridCol w="4114800"/>
                <a:gridCol w="4267080"/>
              </a:tblGrid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оло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философ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 – исторически развивающаяся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окупность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шений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ежду людьми, складывающаяся на основе постоянного изменения форм и условий их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процессе взаимодействия с органической и неорганической природой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… сумма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язей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окупность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ли система отношений, возникающих из совместной жизни людей, воспроизводимых и трансформируемых их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ю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B2BE-D8B6-4161-ADD6-4BECD700688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69D7-CE0E-4EB9-92B0-82FDD16C5E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Общество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– это обособившаяся от природы, но тесно связанная с ней часть материального мира, которая включает в себя способы взаимодействия людей и формы их объедин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знаки общ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рито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онология, т. е. последовательность исторических событий определяющая временны рамки конкретного общ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намическая (способная к развитию) стаби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к выполнению определенных функций (производство, распределение материальных благ, воспроизводство и социализация человека, духовное производств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CE6-8200-4212-BA9E-C49DF146AE4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Номер слайда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EC8-3120-4F4D-97CC-71D85A43FF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овательные действия людей, направленные на достижения определённой цели, называю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6" name="Object 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1136520" cy="122868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8"/>
          <p:cNvGrpSpPr/>
          <p:nvPr/>
        </p:nvGrpSpPr>
        <p:grpSpPr>
          <a:xfrm>
            <a:off x="1600200" y="1523880"/>
            <a:ext cx="1976400" cy="1523880"/>
            <a:chOff x="1600200" y="1523880"/>
            <a:chExt cx="1976400" cy="1523880"/>
          </a:xfrm>
        </p:grpSpPr>
        <p:pic>
          <p:nvPicPr>
            <p:cNvPr id="618" name="Object 9" descr=""/>
            <p:cNvPicPr/>
            <p:nvPr/>
          </p:nvPicPr>
          <p:blipFill>
            <a:blip r:embed="rId2"/>
            <a:stretch/>
          </p:blipFill>
          <p:spPr>
            <a:xfrm>
              <a:off x="2438280" y="1523880"/>
              <a:ext cx="113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AutoShape 10"/>
            <p:cNvSpPr/>
            <p:nvPr/>
          </p:nvSpPr>
          <p:spPr>
            <a:xfrm>
              <a:off x="1600200" y="1976400"/>
              <a:ext cx="747720" cy="409320"/>
            </a:xfrm>
            <a:prstGeom prst="rightArrow">
              <a:avLst>
                <a:gd name="adj1" fmla="val 50000"/>
                <a:gd name="adj2" fmla="val 45668"/>
              </a:avLst>
            </a:prstGeom>
            <a:solidFill>
              <a:srgbClr val="ff99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Group 11"/>
          <p:cNvGrpSpPr/>
          <p:nvPr/>
        </p:nvGrpSpPr>
        <p:grpSpPr>
          <a:xfrm>
            <a:off x="4038480" y="1752480"/>
            <a:ext cx="2119320" cy="1174680"/>
            <a:chOff x="4038480" y="1752480"/>
            <a:chExt cx="2119320" cy="1174680"/>
          </a:xfrm>
        </p:grpSpPr>
        <p:pic>
          <p:nvPicPr>
            <p:cNvPr id="621" name="Object 12" descr=""/>
            <p:cNvPicPr/>
            <p:nvPr/>
          </p:nvPicPr>
          <p:blipFill>
            <a:blip r:embed="rId3"/>
            <a:stretch/>
          </p:blipFill>
          <p:spPr>
            <a:xfrm>
              <a:off x="4924440" y="1752480"/>
              <a:ext cx="123336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AutoShape 13"/>
            <p:cNvSpPr/>
            <p:nvPr/>
          </p:nvSpPr>
          <p:spPr>
            <a:xfrm>
              <a:off x="4038480" y="2182680"/>
              <a:ext cx="747720" cy="409320"/>
            </a:xfrm>
            <a:prstGeom prst="rightArrow">
              <a:avLst>
                <a:gd name="adj1" fmla="val 50000"/>
                <a:gd name="adj2" fmla="val 45668"/>
              </a:avLst>
            </a:prstGeom>
            <a:solidFill>
              <a:srgbClr val="ff99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Group 14"/>
          <p:cNvGrpSpPr/>
          <p:nvPr/>
        </p:nvGrpSpPr>
        <p:grpSpPr>
          <a:xfrm>
            <a:off x="6629400" y="1600200"/>
            <a:ext cx="2073240" cy="1336680"/>
            <a:chOff x="6629400" y="1600200"/>
            <a:chExt cx="2073240" cy="1336680"/>
          </a:xfrm>
        </p:grpSpPr>
        <p:sp>
          <p:nvSpPr>
            <p:cNvPr id="624" name="AutoShape 15"/>
            <p:cNvSpPr/>
            <p:nvPr/>
          </p:nvSpPr>
          <p:spPr>
            <a:xfrm>
              <a:off x="6629400" y="2286000"/>
              <a:ext cx="747720" cy="409320"/>
            </a:xfrm>
            <a:prstGeom prst="rightArrow">
              <a:avLst>
                <a:gd name="adj1" fmla="val 50000"/>
                <a:gd name="adj2" fmla="val 45668"/>
              </a:avLst>
            </a:prstGeom>
            <a:solidFill>
              <a:srgbClr val="ff99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5" name="Object 16" descr=""/>
            <p:cNvPicPr/>
            <p:nvPr/>
          </p:nvPicPr>
          <p:blipFill>
            <a:blip r:embed="rId4"/>
            <a:stretch/>
          </p:blipFill>
          <p:spPr>
            <a:xfrm>
              <a:off x="7391160" y="1600200"/>
              <a:ext cx="131148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AutoShape 17"/>
          <p:cNvSpPr/>
          <p:nvPr/>
        </p:nvSpPr>
        <p:spPr>
          <a:xfrm rot="5400000">
            <a:off x="-114480" y="3466800"/>
            <a:ext cx="2209680" cy="1219320"/>
          </a:xfrm>
          <a:prstGeom prst="pie">
            <a:avLst/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8"/>
          <p:cNvSpPr/>
          <p:nvPr/>
        </p:nvSpPr>
        <p:spPr>
          <a:xfrm flipH="1" rot="16200000">
            <a:off x="6896160" y="3543480"/>
            <a:ext cx="2209680" cy="1218960"/>
          </a:xfrm>
          <a:prstGeom prst="pie">
            <a:avLst/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9"/>
          <p:cNvSpPr/>
          <p:nvPr/>
        </p:nvSpPr>
        <p:spPr>
          <a:xfrm>
            <a:off x="27432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20"/>
          <p:cNvSpPr/>
          <p:nvPr/>
        </p:nvSpPr>
        <p:spPr>
          <a:xfrm>
            <a:off x="533412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Object 21" descr=""/>
          <p:cNvPicPr/>
          <p:nvPr/>
        </p:nvPicPr>
        <p:blipFill>
          <a:blip r:embed="rId5"/>
          <a:stretch/>
        </p:blipFill>
        <p:spPr>
          <a:xfrm>
            <a:off x="2590920" y="4114800"/>
            <a:ext cx="3809880" cy="1484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631" name="Rectangle 23"/>
          <p:cNvSpPr/>
          <p:nvPr/>
        </p:nvSpPr>
        <p:spPr>
          <a:xfrm>
            <a:off x="0" y="5715000"/>
            <a:ext cx="8804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способ существования, который выделяет людей из природ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2DD5-E561-4E53-B087-9F41D0E4E0F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C8D3-3214-4343-8A06-BE79C87CCB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Жизнь общества есть не что иное, как процесс совместной деятельности людей.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щественные отношения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ойчивые связи между социальными группами, классами, нациями, а также внутри их в процессе экономической, социальной, политической, культурной жизни и деятельн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циализация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сс включения человека в определённую систему связей и отно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бщественные отнош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04920" y="1981080"/>
          <a:ext cx="8534160" cy="454212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ьные отно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уховные (идеальные) отно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f"/>
                    </a:solidFill>
                  </a:tcPr>
                </a:tc>
              </a:tr>
              <a:tr h="18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ют и складываются непосредственно в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практической деятельности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овек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не его сознания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независимо от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ируются предварительно «проходя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рез сознани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 людей, определяются их духовными ценностя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f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о, экологические отношения, отношения по детопроизводств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альные, политические, правовые, художественные, философские, религиозные отнош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f"/>
                    </a:solidFill>
                  </a:tcPr>
                </a:tc>
              </a:tr>
            </a:tbl>
          </a:graphicData>
        </a:graphic>
      </p:graphicFrame>
      <p:sp>
        <p:nvSpPr>
          <p:cNvPr id="63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1C42-E402-4E3C-A2D5-323F84933C9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Номер слайда 4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4442-ED66-4A38-81B5-EAC00473EE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Стрелка вниз 6"/>
          <p:cNvSpPr/>
          <p:nvPr/>
        </p:nvSpPr>
        <p:spPr>
          <a:xfrm rot="2406600">
            <a:off x="3973320" y="1143000"/>
            <a:ext cx="485640" cy="685800"/>
          </a:xfrm>
          <a:prstGeom prst="downArrow">
            <a:avLst>
              <a:gd name="adj1" fmla="val 50000"/>
              <a:gd name="adj2" fmla="val 49896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Стрелка вниз 7"/>
          <p:cNvSpPr/>
          <p:nvPr/>
        </p:nvSpPr>
        <p:spPr>
          <a:xfrm rot="19011600">
            <a:off x="4641840" y="1142640"/>
            <a:ext cx="484200" cy="68580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09-10-11T14:55:34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