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1230-1023-4F80-A0B1-3BEAAE54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5991-7A43-4BB5-858D-FD888959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EA88-1D9B-45C4-A1DD-C5D86BBE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4D88-F15F-4DE7-9BFA-49BB73CB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BF78-7B77-4C08-AC89-8E798A1D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D030-33D5-4E56-B58C-E6D31152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5B48-E886-4222-8341-F24B3ED3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1A2B-9617-4F2E-9DA4-CE3D2018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2BCE-81BC-4B22-99A4-79BB585E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2855-81AF-4A60-96CB-26E2E428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7425-98E2-4558-AC6D-10B5CDE8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10CF-0097-4C33-B9CA-26702954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AA83-8022-450D-BC2E-890D3328DC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есять советов  родителя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357440" y="3285720"/>
            <a:ext cx="432900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торые помогут в сохранении здоровья    вашего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здор5.jpg"/>
          <p:cNvPicPr/>
          <p:nvPr/>
        </p:nvPicPr>
        <p:blipFill>
          <a:blip r:embed="rId1"/>
          <a:stretch/>
        </p:blipFill>
        <p:spPr>
          <a:xfrm>
            <a:off x="1011240" y="3511440"/>
            <a:ext cx="2779560" cy="2067120"/>
          </a:xfrm>
          <a:prstGeom prst="rect">
            <a:avLst/>
          </a:prstGeom>
          <a:ln w="0">
            <a:noFill/>
          </a:ln>
        </p:spPr>
      </p:pic>
      <p:sp>
        <p:nvSpPr>
          <p:cNvPr id="44" name="Солнце 4"/>
          <p:cNvSpPr/>
          <p:nvPr/>
        </p:nvSpPr>
        <p:spPr>
          <a:xfrm>
            <a:off x="7000920" y="285840"/>
            <a:ext cx="1785960" cy="142884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девят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856880" y="3428640"/>
            <a:ext cx="547236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е ребенка элементарным правилам профилактики инфекционных заболеван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олнце 4"/>
          <p:cNvSpPr/>
          <p:nvPr/>
        </p:nvSpPr>
        <p:spPr>
          <a:xfrm>
            <a:off x="928800" y="1357200"/>
            <a:ext cx="2143080" cy="164304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десят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4214520"/>
            <a:ext cx="822960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йте научно-популярную литературу о возрастных и индивидуальных особенностях развития ребенка, о том, как научить его укреплять свое здоровь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3" descr="2VjMi00Zm.jpg"/>
          <p:cNvPicPr/>
          <p:nvPr/>
        </p:nvPicPr>
        <p:blipFill>
          <a:blip r:embed="rId1"/>
          <a:stretch/>
        </p:blipFill>
        <p:spPr>
          <a:xfrm>
            <a:off x="2614680" y="1828800"/>
            <a:ext cx="2816280" cy="2073240"/>
          </a:xfrm>
          <a:prstGeom prst="rect">
            <a:avLst/>
          </a:prstGeom>
          <a:ln w="0">
            <a:noFill/>
          </a:ln>
        </p:spPr>
      </p:pic>
      <p:sp>
        <p:nvSpPr>
          <p:cNvPr id="81" name="Солнце 5"/>
          <p:cNvSpPr/>
          <p:nvPr/>
        </p:nvSpPr>
        <p:spPr>
          <a:xfrm>
            <a:off x="7500960" y="214200"/>
            <a:ext cx="1071720" cy="85752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ая мудр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етит от больного бежит, а к здоровому катит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и платье снову, а здоровье смолод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человека не красит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н - лечись, а здоров - берегис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 бы бог здоровья, а счастье найде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ги потерял - ничего не потерял, время потерял многое потерял, здоровье потерял - все потерял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олнце 3"/>
          <p:cNvSpPr/>
          <p:nvPr/>
        </p:nvSpPr>
        <p:spPr>
          <a:xfrm>
            <a:off x="7429680" y="0"/>
            <a:ext cx="1214280" cy="121428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400" y="35640"/>
            <a:ext cx="8258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 будешь - все добудеш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дороже богат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дороже денег, здоров буду и денег добу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не купишь - его разум дари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олнце 3"/>
          <p:cNvSpPr/>
          <p:nvPr/>
        </p:nvSpPr>
        <p:spPr>
          <a:xfrm>
            <a:off x="7072200" y="285840"/>
            <a:ext cx="1785960" cy="164304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 задума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здоровья российских детей – о дни из худших в Европ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уплении в детский сад от 20 до 50% детей имеют низкие и ниже средних возрастно-половые показатели развития основных физических каче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 Среди современных детей в возрасте 7 лет «школьно незрелые» составляют более 40% (это в 2 раза больше, чем в 80-е гг). Настораживает тот факт, что среди этой категории детей мальчиков почти в 2 раза больше, чем девоче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 У значительной части детей младшего школьного возраста отмечается замедление темпов нервно-психического развития: наглядно-образного мышления, произвольного внимания, ассоциативной памяти. Это крайне негативно отражается на показателях готовности ребенка к школьному обучен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Солнце 3"/>
          <p:cNvSpPr/>
          <p:nvPr/>
        </p:nvSpPr>
        <p:spPr>
          <a:xfrm>
            <a:off x="285840" y="714240"/>
            <a:ext cx="1071360" cy="107172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ите свое здоровь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подготов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АНОВА НУ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ВЛЕТШАЕ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тор по физической культу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 Старополтавский детский с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ЛНЫШК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олнце 3"/>
          <p:cNvSpPr/>
          <p:nvPr/>
        </p:nvSpPr>
        <p:spPr>
          <a:xfrm>
            <a:off x="285840" y="214200"/>
            <a:ext cx="714240" cy="78588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перв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 rot="20898000">
            <a:off x="342360" y="1506240"/>
            <a:ext cx="54003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тарайтесь активно участвовать в оздоровлении своего ребенка. Не только рассказывайте ему, что нужно делать, но и личным примером показывайте полезность для здоровья соблюдения правил личной гигиены, утренней гимнастики, закаливания, правильного 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4" descr="читим зубы.jpg"/>
          <p:cNvPicPr/>
          <p:nvPr/>
        </p:nvPicPr>
        <p:blipFill>
          <a:blip r:embed="rId1"/>
          <a:stretch/>
        </p:blipFill>
        <p:spPr>
          <a:xfrm>
            <a:off x="5224320" y="3724200"/>
            <a:ext cx="2322720" cy="2073240"/>
          </a:xfrm>
          <a:prstGeom prst="rect">
            <a:avLst/>
          </a:prstGeom>
          <a:ln w="0">
            <a:noFill/>
          </a:ln>
        </p:spPr>
      </p:pic>
      <p:sp>
        <p:nvSpPr>
          <p:cNvPr id="48" name="Солнце 5"/>
          <p:cNvSpPr/>
          <p:nvPr/>
        </p:nvSpPr>
        <p:spPr>
          <a:xfrm>
            <a:off x="6072120" y="285840"/>
            <a:ext cx="2643120" cy="235728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втор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 rot="771600">
            <a:off x="4152600" y="2463840"/>
            <a:ext cx="394488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учите ребенка неукоснительно соблюдать  гигиенические  требования к чистоте тела, белья, одежды, жилищ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dieta-1274.jpg"/>
          <p:cNvPicPr/>
          <p:nvPr/>
        </p:nvPicPr>
        <p:blipFill>
          <a:blip r:embed="rId1"/>
          <a:stretch/>
        </p:blipFill>
        <p:spPr>
          <a:xfrm>
            <a:off x="914400" y="2700360"/>
            <a:ext cx="27432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трет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711504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что так не вредит нервной системе ребенка, как отсутствие режима дня. Приучайте ребенка строить свой день чередуя отдых и тру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кругленный прямоугольник 4"/>
          <p:cNvSpPr/>
          <p:nvPr/>
        </p:nvSpPr>
        <p:spPr>
          <a:xfrm>
            <a:off x="4713120" y="3632040"/>
            <a:ext cx="3902400" cy="26402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тм жизни, предусматривающий занятия физкультурой и спортом, прогулки и игры на свежем воздухе, а также полноценное питание и крепкий сон- лучшая профилактика утомления и болез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slajd15.jpg"/>
          <p:cNvPicPr/>
          <p:nvPr/>
        </p:nvPicPr>
        <p:blipFill>
          <a:blip r:embed="rId1"/>
          <a:stretch/>
        </p:blipFill>
        <p:spPr>
          <a:xfrm>
            <a:off x="1365120" y="3797280"/>
            <a:ext cx="28051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четверт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511488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ите ребенку овладеть навыками самоконтроля за своим здоровьем. Заведите тетрадь здоровья, где будете записывать его рост, вес, температуру, пульс, самочувствие….вам самим и вашему ребенку понравится такой контрол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1281426553282.jpg"/>
          <p:cNvPicPr/>
          <p:nvPr/>
        </p:nvPicPr>
        <p:blipFill>
          <a:blip r:embed="rId1"/>
          <a:stretch/>
        </p:blipFill>
        <p:spPr>
          <a:xfrm>
            <a:off x="5651640" y="3011400"/>
            <a:ext cx="2633400" cy="2981520"/>
          </a:xfrm>
          <a:prstGeom prst="rect">
            <a:avLst/>
          </a:prstGeom>
          <a:ln w="0">
            <a:noFill/>
          </a:ln>
        </p:spPr>
      </p:pic>
      <p:sp>
        <p:nvSpPr>
          <p:cNvPr id="59" name="Солнце 4"/>
          <p:cNvSpPr/>
          <p:nvPr/>
        </p:nvSpPr>
        <p:spPr>
          <a:xfrm>
            <a:off x="6858000" y="428760"/>
            <a:ext cx="2071800" cy="192852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пят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57760" y="1999800"/>
            <a:ext cx="50004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е ребенка правильно пользоваться естественными оздоровительными факторами- СОЛНЦЕМ, ВОЗДУХОМ,  ВОДОЙ. Воспитывайте у него стремление и привычку к закаливанию организ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zakalivanie_3.jpg"/>
          <p:cNvPicPr/>
          <p:nvPr/>
        </p:nvPicPr>
        <p:blipFill>
          <a:blip r:embed="rId1"/>
          <a:stretch/>
        </p:blipFill>
        <p:spPr>
          <a:xfrm>
            <a:off x="865080" y="3511440"/>
            <a:ext cx="2279880" cy="1962360"/>
          </a:xfrm>
          <a:prstGeom prst="rect">
            <a:avLst/>
          </a:prstGeom>
          <a:ln w="0">
            <a:noFill/>
          </a:ln>
        </p:spPr>
      </p:pic>
      <p:sp>
        <p:nvSpPr>
          <p:cNvPr id="63" name="Солнце 5"/>
          <p:cNvSpPr/>
          <p:nvPr/>
        </p:nvSpPr>
        <p:spPr>
          <a:xfrm>
            <a:off x="357120" y="428760"/>
            <a:ext cx="2500560" cy="22143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шест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28840"/>
            <a:ext cx="54007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что в движении- жизнь. Занимайтесь вместе с ребенком спортом, физической культурой, больше гуляйте, играйте на свежем воздух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ый образ жизни культивируемый в семье- залог здоровья вашего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da-budet-sport.jpg"/>
          <p:cNvPicPr/>
          <p:nvPr/>
        </p:nvPicPr>
        <p:blipFill>
          <a:blip r:embed="rId1"/>
          <a:stretch/>
        </p:blipFill>
        <p:spPr>
          <a:xfrm>
            <a:off x="5937120" y="3224160"/>
            <a:ext cx="2505240" cy="2298600"/>
          </a:xfrm>
          <a:prstGeom prst="rect">
            <a:avLst/>
          </a:prstGeom>
          <a:ln w="0">
            <a:noFill/>
          </a:ln>
        </p:spPr>
      </p:pic>
      <p:sp>
        <p:nvSpPr>
          <p:cNvPr id="67" name="Солнце 4"/>
          <p:cNvSpPr/>
          <p:nvPr/>
        </p:nvSpPr>
        <p:spPr>
          <a:xfrm>
            <a:off x="6786720" y="285840"/>
            <a:ext cx="1571400" cy="13572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57320" y="357120"/>
            <a:ext cx="521460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седьм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4571640"/>
            <a:ext cx="840096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йте правильное питание и воспитывайте положительное отношение к  соблюдению режима питания. Ребенок должен знать, какие продукты полезны, а какие вредны для здоровь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ovosh.jpg"/>
          <p:cNvPicPr/>
          <p:nvPr/>
        </p:nvPicPr>
        <p:blipFill>
          <a:blip r:embed="rId1"/>
          <a:stretch/>
        </p:blipFill>
        <p:spPr>
          <a:xfrm>
            <a:off x="3224160" y="1579680"/>
            <a:ext cx="2189160" cy="2711160"/>
          </a:xfrm>
          <a:prstGeom prst="rect">
            <a:avLst/>
          </a:prstGeom>
          <a:ln w="0">
            <a:noFill/>
          </a:ln>
        </p:spPr>
      </p:pic>
      <p:sp>
        <p:nvSpPr>
          <p:cNvPr id="71" name="Солнце 5"/>
          <p:cNvSpPr/>
          <p:nvPr/>
        </p:nvSpPr>
        <p:spPr>
          <a:xfrm>
            <a:off x="7715160" y="214200"/>
            <a:ext cx="1143000" cy="128592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восьм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ьте ребенка с правилами безопасного поведения в доме, на улице, на отдыхе, учите его выполнять эти правила, чтобы избежать ситуаций опасных для жи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x_09fe3510.jpg"/>
          <p:cNvPicPr/>
          <p:nvPr/>
        </p:nvPicPr>
        <p:blipFill>
          <a:blip r:embed="rId1"/>
          <a:stretch/>
        </p:blipFill>
        <p:spPr>
          <a:xfrm>
            <a:off x="3151080" y="4011480"/>
            <a:ext cx="2633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0T17:30:06Z</dcterms:created>
  <dc:creator>Нурия</dc:creator>
  <dc:description/>
  <dc:language>en-US</dc:language>
  <cp:lastModifiedBy>Нурия</cp:lastModifiedBy>
  <dcterms:modified xsi:type="dcterms:W3CDTF">2012-11-13T16:53:01Z</dcterms:modified>
  <cp:revision>13</cp:revision>
  <dc:subject/>
  <dc:title>Слайд 1</dc:title>
</cp:coreProperties>
</file>