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24.jpeg" ContentType="image/jpeg"/>
  <Override PartName="/ppt/media/image15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4.png" ContentType="image/png"/>
  <Override PartName="/ppt/media/image10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34.jpeg" ContentType="image/jpeg"/>
  <Override PartName="/ppt/media/image37.png" ContentType="image/png"/>
  <Override PartName="/ppt/media/image5.jpeg" ContentType="image/jpeg"/>
  <Override PartName="/ppt/media/image3.png" ContentType="image/png"/>
  <Override PartName="/ppt/media/image26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BB06-A5F4-481F-82FB-E91CD3C85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9C10-9C1A-4831-BAA7-3634264B5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4B61-DE97-4834-A3CD-F27F02EF0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679E-F604-4636-9ADC-A6CA5173D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D44B-E690-41C0-A808-CC537A803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5AF0-83C9-4DEE-9812-7C358ADC9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FAC5-C6E7-428F-9768-206E19FFF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98F7-4570-4EA4-BDDC-8CBF7B41D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D781-6709-4E9F-BF09-68D58F3D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8FEB-7E7C-4720-AAA0-FB44DE22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6A15-BCDC-48F9-A9B0-F867E699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FC51-808B-478E-A2AD-4570EA94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63AED-C9D6-4F21-A07E-5CA8FAE835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deutsches_museu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0920" y="4292280"/>
            <a:ext cx="8281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be0e3"/>
                </a:solidFill>
                <a:latin typeface="Arial"/>
              </a:rPr>
              <a:t>Das Deutsche Museum in M</a:t>
            </a:r>
            <a:r>
              <a:rPr b="1" lang="de-DE" sz="5400" spc="-1" strike="noStrike">
                <a:solidFill>
                  <a:srgbClr val="bbe0e3"/>
                </a:solidFill>
                <a:latin typeface="Arial"/>
              </a:rPr>
              <a:t>ünch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859280" y="6092640"/>
            <a:ext cx="3921120" cy="40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tjukova R.M.,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4" descr="Verkehr_top1_03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7892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Luftfah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20060813-150008_deutsches_museum_flieger[1]"/>
          <p:cNvPicPr/>
          <p:nvPr/>
        </p:nvPicPr>
        <p:blipFill>
          <a:blip r:embed="rId2"/>
          <a:srcRect l="9168" t="3940" r="0" b="0"/>
          <a:stretch/>
        </p:blipFill>
        <p:spPr>
          <a:xfrm>
            <a:off x="250920" y="1268280"/>
            <a:ext cx="5576760" cy="3929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00" name="Picture 5" descr="bleriot_01[1]"/>
          <p:cNvPicPr/>
          <p:nvPr/>
        </p:nvPicPr>
        <p:blipFill>
          <a:blip r:embed="rId3"/>
          <a:stretch/>
        </p:blipFill>
        <p:spPr>
          <a:xfrm>
            <a:off x="5940360" y="260280"/>
            <a:ext cx="2881440" cy="1941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01" name="Picture 6" descr="dmusfs_milan[1]"/>
          <p:cNvPicPr/>
          <p:nvPr/>
        </p:nvPicPr>
        <p:blipFill>
          <a:blip r:embed="rId4"/>
          <a:stretch/>
        </p:blipFill>
        <p:spPr>
          <a:xfrm>
            <a:off x="5940360" y="2421000"/>
            <a:ext cx="2879640" cy="1947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02" name="Picture 9" descr="dmus_MesserschmittM17[1]"/>
          <p:cNvPicPr/>
          <p:nvPr/>
        </p:nvPicPr>
        <p:blipFill>
          <a:blip r:embed="rId5"/>
          <a:stretch/>
        </p:blipFill>
        <p:spPr>
          <a:xfrm>
            <a:off x="5940360" y="4583160"/>
            <a:ext cx="2879640" cy="1863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03" name="Text Box 10"/>
          <p:cNvSpPr/>
          <p:nvPr/>
        </p:nvSpPr>
        <p:spPr>
          <a:xfrm>
            <a:off x="179280" y="5445000"/>
            <a:ext cx="57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In der Abteilung Luftfahrt sind viele einzigartige Flugzeuge zu bewunde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372360" y="6308640"/>
            <a:ext cx="2232000" cy="33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esserschmitt M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6948360" y="4149720"/>
            <a:ext cx="1079640" cy="33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ilan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6877080" y="1916280"/>
            <a:ext cx="1297080" cy="33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eriot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5"/>
          <p:cNvSpPr/>
          <p:nvPr/>
        </p:nvSpPr>
        <p:spPr>
          <a:xfrm>
            <a:off x="8675640" y="6308640"/>
            <a:ext cx="395280" cy="47628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76280"/>
              <a:gd name="textAreaBottom" fmla="*/ 450720 h 476280"/>
            </a:gdLst>
            <a:ahLst/>
            <a:rect l="textAreaLeft" t="textAreaTop" r="textAreaRight" b="textAreaBottom"/>
            <a:pathLst>
              <a:path w="21600" h="26022">
                <a:moveTo>
                  <a:pt x="0" y="0"/>
                </a:moveTo>
                <a:lnTo>
                  <a:pt x="21600" y="0"/>
                </a:lnTo>
                <a:lnTo>
                  <a:pt x="21600" y="26022"/>
                </a:lnTo>
                <a:lnTo>
                  <a:pt x="0" y="26022"/>
                </a:lnTo>
                <a:close/>
              </a:path>
              <a:path fill="lightenLess" w="21600" h="260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022">
                <a:moveTo>
                  <a:pt x="21600" y="0"/>
                </a:moveTo>
                <a:lnTo>
                  <a:pt x="21600" y="26022"/>
                </a:lnTo>
                <a:lnTo>
                  <a:pt x="20200" y="24622"/>
                </a:lnTo>
                <a:lnTo>
                  <a:pt x="20200" y="1400"/>
                </a:lnTo>
                <a:close/>
              </a:path>
              <a:path fill="darkenLess" w="21600" h="26022">
                <a:moveTo>
                  <a:pt x="21600" y="26022"/>
                </a:moveTo>
                <a:lnTo>
                  <a:pt x="0" y="26022"/>
                </a:lnTo>
                <a:lnTo>
                  <a:pt x="1400" y="24622"/>
                </a:lnTo>
                <a:lnTo>
                  <a:pt x="20200" y="24622"/>
                </a:lnTo>
                <a:close/>
              </a:path>
              <a:path fill="lighten" w="21600" h="26022">
                <a:moveTo>
                  <a:pt x="0" y="260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622"/>
                </a:lnTo>
                <a:close/>
              </a:path>
              <a:path fill="darken" w="21600" h="26022">
                <a:moveTo>
                  <a:pt x="3794" y="13011"/>
                </a:moveTo>
                <a:lnTo>
                  <a:pt x="17806" y="6005"/>
                </a:lnTo>
                <a:lnTo>
                  <a:pt x="17806" y="2001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6" descr="Blick in den Ausstellungsraum Brьckenba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916360" y="630000"/>
            <a:ext cx="324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erkeh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motorwagen_benz"/>
          <p:cNvPicPr/>
          <p:nvPr/>
        </p:nvPicPr>
        <p:blipFill>
          <a:blip r:embed="rId2"/>
          <a:stretch/>
        </p:blipFill>
        <p:spPr>
          <a:xfrm>
            <a:off x="539640" y="476280"/>
            <a:ext cx="2167200" cy="2166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11" name="Picture 6" descr="Kawasaki KR 350"/>
          <p:cNvPicPr/>
          <p:nvPr/>
        </p:nvPicPr>
        <p:blipFill>
          <a:blip r:embed="rId3"/>
          <a:stretch/>
        </p:blipFill>
        <p:spPr>
          <a:xfrm>
            <a:off x="6384960" y="476280"/>
            <a:ext cx="2219400" cy="2219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12" name="Picture 7" descr="Audi_Alpensieger_165[1]"/>
          <p:cNvPicPr/>
          <p:nvPr/>
        </p:nvPicPr>
        <p:blipFill>
          <a:blip r:embed="rId4"/>
          <a:stretch/>
        </p:blipFill>
        <p:spPr>
          <a:xfrm>
            <a:off x="3575160" y="2205000"/>
            <a:ext cx="2292120" cy="2292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13" name="Picture 8" descr="elektronische_lokomotive"/>
          <p:cNvPicPr/>
          <p:nvPr/>
        </p:nvPicPr>
        <p:blipFill>
          <a:blip r:embed="rId5"/>
          <a:stretch/>
        </p:blipFill>
        <p:spPr>
          <a:xfrm>
            <a:off x="611280" y="3860640"/>
            <a:ext cx="2311200" cy="2311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14" name="Picture 9" descr="ford_v8_02[1]"/>
          <p:cNvPicPr/>
          <p:nvPr/>
        </p:nvPicPr>
        <p:blipFill>
          <a:blip r:embed="rId6"/>
          <a:stretch/>
        </p:blipFill>
        <p:spPr>
          <a:xfrm>
            <a:off x="6372360" y="3800520"/>
            <a:ext cx="2292120" cy="2292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15" name="Text Box 10"/>
          <p:cNvSpPr/>
          <p:nvPr/>
        </p:nvSpPr>
        <p:spPr>
          <a:xfrm>
            <a:off x="3562200" y="4365720"/>
            <a:ext cx="2305080" cy="3682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di „Alpensieger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6227640" y="2492280"/>
            <a:ext cx="2232000" cy="3682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awasaki KR3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250920" y="2421000"/>
            <a:ext cx="3025800" cy="3682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otorwagen von Karl Ben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6300720" y="5950080"/>
            <a:ext cx="1152720" cy="3682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ord F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250920" y="5950080"/>
            <a:ext cx="3816360" cy="3682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erste elektronische Lokomo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Kraftmaschi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windrad_herkules"/>
          <p:cNvPicPr/>
          <p:nvPr/>
        </p:nvPicPr>
        <p:blipFill>
          <a:blip r:embed="rId1"/>
          <a:stretch/>
        </p:blipFill>
        <p:spPr>
          <a:xfrm>
            <a:off x="324000" y="1413000"/>
            <a:ext cx="2590560" cy="3452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22" name="Picture 9" descr="tischdampfmaschine"/>
          <p:cNvPicPr/>
          <p:nvPr/>
        </p:nvPicPr>
        <p:blipFill>
          <a:blip r:embed="rId2"/>
          <a:stretch/>
        </p:blipFill>
        <p:spPr>
          <a:xfrm>
            <a:off x="6156360" y="1557360"/>
            <a:ext cx="2644920" cy="3525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23" name="Picture 10" descr="wasserrad"/>
          <p:cNvPicPr/>
          <p:nvPr/>
        </p:nvPicPr>
        <p:blipFill>
          <a:blip r:embed="rId3"/>
          <a:srcRect l="0" t="0" r="18227" b="0"/>
          <a:stretch/>
        </p:blipFill>
        <p:spPr>
          <a:xfrm>
            <a:off x="3419640" y="2349360"/>
            <a:ext cx="2449440" cy="3992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24" name="Text Box 11"/>
          <p:cNvSpPr/>
          <p:nvPr/>
        </p:nvSpPr>
        <p:spPr>
          <a:xfrm>
            <a:off x="6443640" y="4869000"/>
            <a:ext cx="2521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ischdampfmas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4500720" y="6093000"/>
            <a:ext cx="17269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asserr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754200" y="4724280"/>
            <a:ext cx="2305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ndrad „Herkules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8" descr="mechanische_rechenmaschine"/>
          <p:cNvPicPr/>
          <p:nvPr/>
        </p:nvPicPr>
        <p:blipFill>
          <a:blip r:embed="rId1"/>
          <a:stretch/>
        </p:blipFill>
        <p:spPr>
          <a:xfrm>
            <a:off x="250920" y="1301760"/>
            <a:ext cx="3313080" cy="2487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Informatik und Automati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zuse-z41945lr[1]"/>
          <p:cNvPicPr/>
          <p:nvPr/>
        </p:nvPicPr>
        <p:blipFill>
          <a:blip r:embed="rId2"/>
          <a:stretch/>
        </p:blipFill>
        <p:spPr>
          <a:xfrm>
            <a:off x="2916360" y="2405160"/>
            <a:ext cx="3590640" cy="2392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30" name="Picture 9" descr="7cd85be161[1]"/>
          <p:cNvPicPr/>
          <p:nvPr/>
        </p:nvPicPr>
        <p:blipFill>
          <a:blip r:embed="rId3"/>
          <a:stretch/>
        </p:blipFill>
        <p:spPr>
          <a:xfrm>
            <a:off x="6084720" y="4076640"/>
            <a:ext cx="2895840" cy="246384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0"/>
          <p:cNvSpPr/>
          <p:nvPr/>
        </p:nvSpPr>
        <p:spPr>
          <a:xfrm>
            <a:off x="395280" y="5300640"/>
            <a:ext cx="50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er stehen wichtige Originale wie die Zuse Z4 und Z22, einige frühe IBM-Großcomputer sowie Teile früher amerikanischer Compu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179280" y="3573360"/>
            <a:ext cx="2592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chanische Rec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2771640" y="4581360"/>
            <a:ext cx="1729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use Z4, 19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5148360" y="6308640"/>
            <a:ext cx="23032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eue Technolog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7" descr="img_mchn1_01[1]"/>
          <p:cNvPicPr/>
          <p:nvPr/>
        </p:nvPicPr>
        <p:blipFill>
          <a:blip r:embed="rId1"/>
          <a:stretch/>
        </p:blipFill>
        <p:spPr>
          <a:xfrm>
            <a:off x="0" y="0"/>
            <a:ext cx="4859280" cy="4842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Deutsches_Museum_(Muenchen)_01"/>
          <p:cNvPicPr/>
          <p:nvPr/>
        </p:nvPicPr>
        <p:blipFill>
          <a:blip r:embed="rId2"/>
          <a:stretch/>
        </p:blipFill>
        <p:spPr>
          <a:xfrm>
            <a:off x="179280" y="4232160"/>
            <a:ext cx="2592360" cy="243684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5"/>
          <p:cNvSpPr/>
          <p:nvPr/>
        </p:nvSpPr>
        <p:spPr>
          <a:xfrm>
            <a:off x="4932360" y="1903320"/>
            <a:ext cx="3889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dresse: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useumsinsel 1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        80538 Münch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Öffnungszeit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s Deutsche Museum                         ist täglich von 9 bis 17 Uhr geöffn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e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intrittsprei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beträgt 8,50 Euro, Kinder ab 6 Jahren 3 Euro, Gruppen 7 Eur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1"/>
          <p:cNvSpPr/>
          <p:nvPr/>
        </p:nvSpPr>
        <p:spPr>
          <a:xfrm>
            <a:off x="1906560" y="3357720"/>
            <a:ext cx="1441440" cy="2304720"/>
          </a:xfrm>
          <a:custGeom>
            <a:avLst/>
            <a:gdLst>
              <a:gd name="textAreaLeft" fmla="*/ 0 w 1441440"/>
              <a:gd name="textAreaRight" fmla="*/ 1192320 w 1441440"/>
              <a:gd name="textAreaTop" fmla="*/ 2086920 h 2304720"/>
              <a:gd name="textAreaBottom" fmla="*/ 2305080 h 2304720"/>
            </a:gdLst>
            <a:ahLst/>
            <a:rect l="textAreaLeft" t="textAreaTop" r="textAreaRight" b="textAreaBottom"/>
            <a:pathLst>
              <a:path w="21600" h="21600">
                <a:moveTo>
                  <a:pt x="17021" y="0"/>
                </a:moveTo>
                <a:lnTo>
                  <a:pt x="12441" y="2529"/>
                </a:lnTo>
                <a:lnTo>
                  <a:pt x="16176" y="2529"/>
                </a:lnTo>
                <a:lnTo>
                  <a:pt x="16176" y="19558"/>
                </a:lnTo>
                <a:lnTo>
                  <a:pt x="0" y="19558"/>
                </a:lnTo>
                <a:lnTo>
                  <a:pt x="0" y="21600"/>
                </a:lnTo>
                <a:lnTo>
                  <a:pt x="17865" y="21600"/>
                </a:lnTo>
                <a:lnTo>
                  <a:pt x="17865" y="2529"/>
                </a:lnTo>
                <a:lnTo>
                  <a:pt x="21600" y="2529"/>
                </a:lnTo>
                <a:lnTo>
                  <a:pt x="17021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4716360" y="333360"/>
            <a:ext cx="39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s ist wichti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Quellenverzeichn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www.deutsches-museum.de/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выдова Н.Д., Борисова Е.М., Шорихина И.Р. Мозаика. Учебник немецкого языка для 7 класса школ с углублённым изучением немецкого языка. – М: «Просвещение», 2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800px-Deutschesmuseum2"/>
          <p:cNvPicPr/>
          <p:nvPr/>
        </p:nvPicPr>
        <p:blipFill>
          <a:blip r:embed="rId1"/>
          <a:srcRect l="1516" t="0" r="11516" b="0"/>
          <a:stretch/>
        </p:blipFill>
        <p:spPr>
          <a:xfrm>
            <a:off x="-73080" y="0"/>
            <a:ext cx="921708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336600"/>
                </a:solidFill>
                <a:latin typeface="Arial"/>
              </a:rPr>
              <a:t>Das Deutsche Muse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st einmalig auf der Wel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st eines der größten Museen der Welt;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zei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die Entwicklung der vom Menschen geschaffenen Technik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hat über 40 Abteilung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wird jährlich von 1,5 Millionen Menschen besu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muenchen01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us der Geschich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1903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 Gründung des Deutschen Museu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92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Eröffnung des Deutschen Museums im Neubau auf der Museumsins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93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Eröffnung der Biblioth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944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Zerstörung von ca. 80 % der Gebäu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948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Wiedereröffnung nach der Zerstöru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984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Eröffnung der neuen Halle für Luft- und Raumfah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Eröffnung des Verkehrszentrums auf dem ehemaligen Messegelän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132000" y="404280"/>
            <a:ext cx="505152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eistiger Vater und ideenreicher hartnäckiger Organisator war der Bau- und Elektroingenieur Oskar von Mill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180px-Oskar_von_Miller[1]"/>
          <p:cNvPicPr/>
          <p:nvPr/>
        </p:nvPicPr>
        <p:blipFill>
          <a:blip r:embed="rId1"/>
          <a:stretch/>
        </p:blipFill>
        <p:spPr>
          <a:xfrm>
            <a:off x="393840" y="260280"/>
            <a:ext cx="2593800" cy="3456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2" name="Picture 5" descr="http://www.deutsches-museum.de/uploads/pics/3_1_4.jpg"/>
          <p:cNvPicPr/>
          <p:nvPr/>
        </p:nvPicPr>
        <p:blipFill>
          <a:blip r:embed="rId2"/>
          <a:stretch/>
        </p:blipFill>
        <p:spPr>
          <a:xfrm>
            <a:off x="324000" y="4149720"/>
            <a:ext cx="3487680" cy="2351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3" name="Text Box 6"/>
          <p:cNvSpPr/>
          <p:nvPr/>
        </p:nvSpPr>
        <p:spPr>
          <a:xfrm>
            <a:off x="4140360" y="4869000"/>
            <a:ext cx="424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Oskar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von Miller mit seiner Fami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titel8"/>
          <p:cNvPicPr/>
          <p:nvPr/>
        </p:nvPicPr>
        <p:blipFill>
          <a:blip r:embed="rId1"/>
          <a:stretch/>
        </p:blipFill>
        <p:spPr>
          <a:xfrm>
            <a:off x="-36360" y="-44280"/>
            <a:ext cx="9180360" cy="69022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9"/>
          <p:cNvSpPr/>
          <p:nvPr/>
        </p:nvSpPr>
        <p:spPr>
          <a:xfrm>
            <a:off x="8388360" y="3645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395280" y="1844640"/>
            <a:ext cx="23763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>
            <a:hlinkClick r:id="rId2" action="ppaction://hlinksldjump"/>
          </p:cNvPr>
          <p:cNvSpPr/>
          <p:nvPr/>
        </p:nvSpPr>
        <p:spPr>
          <a:xfrm>
            <a:off x="468360" y="2133720"/>
            <a:ext cx="215892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2">
            <a:hlinkClick r:id="rId3" action="ppaction://hlinksldjump"/>
          </p:cNvPr>
          <p:cNvSpPr/>
          <p:nvPr/>
        </p:nvSpPr>
        <p:spPr>
          <a:xfrm>
            <a:off x="3492360" y="2060640"/>
            <a:ext cx="215928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3">
            <a:hlinkClick r:id="rId4" action="ppaction://hlinksldjump"/>
          </p:cNvPr>
          <p:cNvSpPr/>
          <p:nvPr/>
        </p:nvSpPr>
        <p:spPr>
          <a:xfrm>
            <a:off x="6516720" y="2060640"/>
            <a:ext cx="20876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4">
            <a:hlinkClick r:id="rId5" action="ppaction://hlinksldjump"/>
          </p:cNvPr>
          <p:cNvSpPr/>
          <p:nvPr/>
        </p:nvSpPr>
        <p:spPr>
          <a:xfrm>
            <a:off x="3419640" y="4653000"/>
            <a:ext cx="21603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6">
            <a:hlinkClick r:id="rId6" action="ppaction://hlinksldjump"/>
          </p:cNvPr>
          <p:cNvSpPr/>
          <p:nvPr/>
        </p:nvSpPr>
        <p:spPr>
          <a:xfrm>
            <a:off x="6516720" y="4653000"/>
            <a:ext cx="20876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468360" y="4653000"/>
            <a:ext cx="21589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Schifffah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Seenotrettungskreuzer &quot;Theodor Heuss&quot;"/>
          <p:cNvPicPr/>
          <p:nvPr/>
        </p:nvPicPr>
        <p:blipFill>
          <a:blip r:embed="rId1"/>
          <a:stretch/>
        </p:blipFill>
        <p:spPr>
          <a:xfrm>
            <a:off x="971640" y="2997360"/>
            <a:ext cx="4680000" cy="3057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5" name="Picture 7" descr="Brьcke &quot;Theodor-Heuss&quot;"/>
          <p:cNvPicPr/>
          <p:nvPr/>
        </p:nvPicPr>
        <p:blipFill>
          <a:blip r:embed="rId2"/>
          <a:stretch/>
        </p:blipFill>
        <p:spPr>
          <a:xfrm>
            <a:off x="395280" y="1484280"/>
            <a:ext cx="2857680" cy="2152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6" name="Picture 15" descr="b3958d514d"/>
          <p:cNvPicPr/>
          <p:nvPr/>
        </p:nvPicPr>
        <p:blipFill>
          <a:blip r:embed="rId3"/>
          <a:stretch/>
        </p:blipFill>
        <p:spPr>
          <a:xfrm>
            <a:off x="5940360" y="1508040"/>
            <a:ext cx="2857680" cy="4152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7" name="Text Box 18"/>
          <p:cNvSpPr/>
          <p:nvPr/>
        </p:nvSpPr>
        <p:spPr>
          <a:xfrm>
            <a:off x="6156360" y="5516640"/>
            <a:ext cx="2808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mpfschlepper „Renzo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9"/>
          <p:cNvSpPr/>
          <p:nvPr/>
        </p:nvSpPr>
        <p:spPr>
          <a:xfrm>
            <a:off x="395280" y="5877000"/>
            <a:ext cx="53989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enotsrettungskreuzer „Theodor Heuss“ und seine Brücke (ob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2"/>
          <p:cNvSpPr/>
          <p:nvPr/>
        </p:nvSpPr>
        <p:spPr>
          <a:xfrm>
            <a:off x="8675640" y="6308640"/>
            <a:ext cx="395280" cy="47628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76280"/>
              <a:gd name="textAreaBottom" fmla="*/ 450720 h 476280"/>
            </a:gdLst>
            <a:ahLst/>
            <a:rect l="textAreaLeft" t="textAreaTop" r="textAreaRight" b="textAreaBottom"/>
            <a:pathLst>
              <a:path w="21600" h="26022">
                <a:moveTo>
                  <a:pt x="0" y="0"/>
                </a:moveTo>
                <a:lnTo>
                  <a:pt x="21600" y="0"/>
                </a:lnTo>
                <a:lnTo>
                  <a:pt x="21600" y="26022"/>
                </a:lnTo>
                <a:lnTo>
                  <a:pt x="0" y="26022"/>
                </a:lnTo>
                <a:close/>
              </a:path>
              <a:path fill="lightenLess" w="21600" h="260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022">
                <a:moveTo>
                  <a:pt x="21600" y="0"/>
                </a:moveTo>
                <a:lnTo>
                  <a:pt x="21600" y="26022"/>
                </a:lnTo>
                <a:lnTo>
                  <a:pt x="20200" y="24622"/>
                </a:lnTo>
                <a:lnTo>
                  <a:pt x="20200" y="1400"/>
                </a:lnTo>
                <a:close/>
              </a:path>
              <a:path fill="darkenLess" w="21600" h="26022">
                <a:moveTo>
                  <a:pt x="21600" y="26022"/>
                </a:moveTo>
                <a:lnTo>
                  <a:pt x="0" y="26022"/>
                </a:lnTo>
                <a:lnTo>
                  <a:pt x="1400" y="24622"/>
                </a:lnTo>
                <a:lnTo>
                  <a:pt x="20200" y="24622"/>
                </a:lnTo>
                <a:close/>
              </a:path>
              <a:path fill="lighten" w="21600" h="26022">
                <a:moveTo>
                  <a:pt x="0" y="260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622"/>
                </a:lnTo>
                <a:close/>
              </a:path>
              <a:path fill="darken" w="21600" h="26022">
                <a:moveTo>
                  <a:pt x="3794" y="13011"/>
                </a:moveTo>
                <a:lnTo>
                  <a:pt x="17806" y="6005"/>
                </a:lnTo>
                <a:lnTo>
                  <a:pt x="17806" y="2001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560" y="43920"/>
            <a:ext cx="4762440" cy="8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Astronom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ost[1]"/>
          <p:cNvPicPr/>
          <p:nvPr/>
        </p:nvPicPr>
        <p:blipFill>
          <a:blip r:embed="rId1"/>
          <a:srcRect l="0" t="0" r="6369" b="3451"/>
          <a:stretch/>
        </p:blipFill>
        <p:spPr>
          <a:xfrm>
            <a:off x="5648400" y="189000"/>
            <a:ext cx="3171600" cy="4032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72" name="Text Box 5"/>
          <p:cNvSpPr/>
          <p:nvPr/>
        </p:nvSpPr>
        <p:spPr>
          <a:xfrm>
            <a:off x="5076720" y="3367080"/>
            <a:ext cx="38880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s Museum besitzt zwei Sterwartekuppeln Die Ostkuppel, das Baujahr 19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halle_10"/>
          <p:cNvPicPr/>
          <p:nvPr/>
        </p:nvPicPr>
        <p:blipFill>
          <a:blip r:embed="rId2"/>
          <a:srcRect l="0" t="0" r="4576" b="3658"/>
          <a:stretch/>
        </p:blipFill>
        <p:spPr>
          <a:xfrm>
            <a:off x="324000" y="836640"/>
            <a:ext cx="4505040" cy="58323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8"/>
          <p:cNvSpPr/>
          <p:nvPr/>
        </p:nvSpPr>
        <p:spPr>
          <a:xfrm>
            <a:off x="684360" y="5229360"/>
            <a:ext cx="424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Die größte Astronomieaustellung der We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0" descr="Das Radioteleskop im Freigelдnde"/>
          <p:cNvPicPr/>
          <p:nvPr/>
        </p:nvPicPr>
        <p:blipFill>
          <a:blip r:embed="rId3"/>
          <a:srcRect l="0" t="0" r="3150" b="2194"/>
          <a:stretch/>
        </p:blipFill>
        <p:spPr>
          <a:xfrm>
            <a:off x="6443640" y="4365720"/>
            <a:ext cx="2009880" cy="2357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76" name="Text Box 11"/>
          <p:cNvSpPr/>
          <p:nvPr/>
        </p:nvSpPr>
        <p:spPr>
          <a:xfrm>
            <a:off x="5435640" y="6237360"/>
            <a:ext cx="1873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adiotelesk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2"/>
          <p:cNvSpPr/>
          <p:nvPr/>
        </p:nvSpPr>
        <p:spPr>
          <a:xfrm>
            <a:off x="8675640" y="6308640"/>
            <a:ext cx="395280" cy="47628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76280"/>
              <a:gd name="textAreaBottom" fmla="*/ 450720 h 476280"/>
            </a:gdLst>
            <a:ahLst/>
            <a:rect l="textAreaLeft" t="textAreaTop" r="textAreaRight" b="textAreaBottom"/>
            <a:pathLst>
              <a:path w="21600" h="26022">
                <a:moveTo>
                  <a:pt x="0" y="0"/>
                </a:moveTo>
                <a:lnTo>
                  <a:pt x="21600" y="0"/>
                </a:lnTo>
                <a:lnTo>
                  <a:pt x="21600" y="26022"/>
                </a:lnTo>
                <a:lnTo>
                  <a:pt x="0" y="26022"/>
                </a:lnTo>
                <a:close/>
              </a:path>
              <a:path fill="lightenLess" w="21600" h="260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022">
                <a:moveTo>
                  <a:pt x="21600" y="0"/>
                </a:moveTo>
                <a:lnTo>
                  <a:pt x="21600" y="26022"/>
                </a:lnTo>
                <a:lnTo>
                  <a:pt x="20200" y="24622"/>
                </a:lnTo>
                <a:lnTo>
                  <a:pt x="20200" y="1400"/>
                </a:lnTo>
                <a:close/>
              </a:path>
              <a:path fill="darkenLess" w="21600" h="26022">
                <a:moveTo>
                  <a:pt x="21600" y="26022"/>
                </a:moveTo>
                <a:lnTo>
                  <a:pt x="0" y="26022"/>
                </a:lnTo>
                <a:lnTo>
                  <a:pt x="1400" y="24622"/>
                </a:lnTo>
                <a:lnTo>
                  <a:pt x="20200" y="24622"/>
                </a:lnTo>
                <a:close/>
              </a:path>
              <a:path fill="lighten" w="21600" h="26022">
                <a:moveTo>
                  <a:pt x="0" y="260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622"/>
                </a:lnTo>
                <a:close/>
              </a:path>
              <a:path fill="darken" w="21600" h="26022">
                <a:moveTo>
                  <a:pt x="3794" y="13011"/>
                </a:moveTo>
                <a:lnTo>
                  <a:pt x="17806" y="6005"/>
                </a:lnTo>
                <a:lnTo>
                  <a:pt x="17806" y="2001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dd03df3119[1]"/>
          <p:cNvPicPr/>
          <p:nvPr/>
        </p:nvPicPr>
        <p:blipFill>
          <a:blip r:embed="rId1">
            <a:lum contrast="-48000"/>
          </a:blip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912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ff"/>
                </a:solidFill>
                <a:latin typeface="Arial"/>
              </a:rPr>
              <a:t>Physi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Fraunhofer Prisma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250920" y="907920"/>
            <a:ext cx="2049480" cy="2570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81" name="Text Box 7"/>
          <p:cNvSpPr/>
          <p:nvPr/>
        </p:nvSpPr>
        <p:spPr>
          <a:xfrm>
            <a:off x="250920" y="3357720"/>
            <a:ext cx="1439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laspris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9" descr="BN_56061"/>
          <p:cNvPicPr/>
          <p:nvPr/>
        </p:nvPicPr>
        <p:blipFill>
          <a:blip r:embed="rId3"/>
          <a:stretch/>
        </p:blipFill>
        <p:spPr>
          <a:xfrm>
            <a:off x="2700360" y="1773360"/>
            <a:ext cx="3097080" cy="2365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83" name="Text Box 10"/>
          <p:cNvSpPr/>
          <p:nvPr/>
        </p:nvSpPr>
        <p:spPr>
          <a:xfrm>
            <a:off x="2411280" y="3927600"/>
            <a:ext cx="331164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smen – Spektroskop, um 19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2" descr="Mikroskop * Spektroskop"/>
          <p:cNvPicPr/>
          <p:nvPr/>
        </p:nvPicPr>
        <p:blipFill>
          <a:blip r:embed="rId4"/>
          <a:stretch/>
        </p:blipFill>
        <p:spPr>
          <a:xfrm>
            <a:off x="6012000" y="3494160"/>
            <a:ext cx="2952720" cy="2022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85" name="Text Box 13"/>
          <p:cNvSpPr/>
          <p:nvPr/>
        </p:nvSpPr>
        <p:spPr>
          <a:xfrm>
            <a:off x="4643280" y="5373720"/>
            <a:ext cx="331164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kroskop von Schiek, Berlin, um 18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4"/>
          <p:cNvSpPr/>
          <p:nvPr/>
        </p:nvSpPr>
        <p:spPr>
          <a:xfrm>
            <a:off x="8675640" y="6308640"/>
            <a:ext cx="395280" cy="47628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76280"/>
              <a:gd name="textAreaBottom" fmla="*/ 450720 h 476280"/>
            </a:gdLst>
            <a:ahLst/>
            <a:rect l="textAreaLeft" t="textAreaTop" r="textAreaRight" b="textAreaBottom"/>
            <a:pathLst>
              <a:path w="21600" h="26022">
                <a:moveTo>
                  <a:pt x="0" y="0"/>
                </a:moveTo>
                <a:lnTo>
                  <a:pt x="21600" y="0"/>
                </a:lnTo>
                <a:lnTo>
                  <a:pt x="21600" y="26022"/>
                </a:lnTo>
                <a:lnTo>
                  <a:pt x="0" y="26022"/>
                </a:lnTo>
                <a:close/>
              </a:path>
              <a:path fill="lightenLess" w="21600" h="260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022">
                <a:moveTo>
                  <a:pt x="21600" y="0"/>
                </a:moveTo>
                <a:lnTo>
                  <a:pt x="21600" y="26022"/>
                </a:lnTo>
                <a:lnTo>
                  <a:pt x="20200" y="24622"/>
                </a:lnTo>
                <a:lnTo>
                  <a:pt x="20200" y="1400"/>
                </a:lnTo>
                <a:close/>
              </a:path>
              <a:path fill="darkenLess" w="21600" h="26022">
                <a:moveTo>
                  <a:pt x="21600" y="26022"/>
                </a:moveTo>
                <a:lnTo>
                  <a:pt x="0" y="26022"/>
                </a:lnTo>
                <a:lnTo>
                  <a:pt x="1400" y="24622"/>
                </a:lnTo>
                <a:lnTo>
                  <a:pt x="20200" y="24622"/>
                </a:lnTo>
                <a:close/>
              </a:path>
              <a:path fill="lighten" w="21600" h="26022">
                <a:moveTo>
                  <a:pt x="0" y="260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622"/>
                </a:lnTo>
                <a:close/>
              </a:path>
              <a:path fill="darken" w="21600" h="26022">
                <a:moveTo>
                  <a:pt x="3794" y="13011"/>
                </a:moveTo>
                <a:lnTo>
                  <a:pt x="17806" y="6005"/>
                </a:lnTo>
                <a:lnTo>
                  <a:pt x="17806" y="2001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00360" y="274320"/>
            <a:ext cx="295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Chem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1" descr="BN_31849_01"/>
          <p:cNvPicPr/>
          <p:nvPr/>
        </p:nvPicPr>
        <p:blipFill>
          <a:blip r:embed="rId1"/>
          <a:stretch/>
        </p:blipFill>
        <p:spPr>
          <a:xfrm>
            <a:off x="611280" y="469800"/>
            <a:ext cx="1898640" cy="5695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89" name="Picture 13" descr="Hцrsaal * DNS"/>
          <p:cNvPicPr/>
          <p:nvPr/>
        </p:nvPicPr>
        <p:blipFill>
          <a:blip r:embed="rId2"/>
          <a:stretch/>
        </p:blipFill>
        <p:spPr>
          <a:xfrm>
            <a:off x="5796000" y="420840"/>
            <a:ext cx="2809800" cy="2792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90" name="Text Box 14"/>
          <p:cNvSpPr/>
          <p:nvPr/>
        </p:nvSpPr>
        <p:spPr>
          <a:xfrm>
            <a:off x="5797440" y="3197160"/>
            <a:ext cx="29512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xperimentalvorführ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6" descr="BN_54793"/>
          <p:cNvPicPr/>
          <p:nvPr/>
        </p:nvPicPr>
        <p:blipFill>
          <a:blip r:embed="rId3"/>
          <a:stretch/>
        </p:blipFill>
        <p:spPr>
          <a:xfrm>
            <a:off x="2916360" y="1486080"/>
            <a:ext cx="2519280" cy="2519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92" name="Text Box 17"/>
          <p:cNvSpPr/>
          <p:nvPr/>
        </p:nvSpPr>
        <p:spPr>
          <a:xfrm>
            <a:off x="3419640" y="3860640"/>
            <a:ext cx="34574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aboratorium nach Lavois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9" descr="pharma_heil1"/>
          <p:cNvPicPr/>
          <p:nvPr/>
        </p:nvPicPr>
        <p:blipFill>
          <a:blip r:embed="rId4"/>
          <a:stretch/>
        </p:blipFill>
        <p:spPr>
          <a:xfrm>
            <a:off x="5076720" y="4363920"/>
            <a:ext cx="3382920" cy="223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94" name="Text Box 20"/>
          <p:cNvSpPr/>
          <p:nvPr/>
        </p:nvSpPr>
        <p:spPr>
          <a:xfrm>
            <a:off x="4356000" y="6237360"/>
            <a:ext cx="1584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eilpflanz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1"/>
          <p:cNvSpPr/>
          <p:nvPr/>
        </p:nvSpPr>
        <p:spPr>
          <a:xfrm>
            <a:off x="142920" y="6076800"/>
            <a:ext cx="3276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soxyribonukleinsäure D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22"/>
          <p:cNvSpPr/>
          <p:nvPr/>
        </p:nvSpPr>
        <p:spPr>
          <a:xfrm>
            <a:off x="8675640" y="6308640"/>
            <a:ext cx="395280" cy="47628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76280"/>
              <a:gd name="textAreaBottom" fmla="*/ 450720 h 476280"/>
            </a:gdLst>
            <a:ahLst/>
            <a:rect l="textAreaLeft" t="textAreaTop" r="textAreaRight" b="textAreaBottom"/>
            <a:pathLst>
              <a:path w="21600" h="26022">
                <a:moveTo>
                  <a:pt x="0" y="0"/>
                </a:moveTo>
                <a:lnTo>
                  <a:pt x="21600" y="0"/>
                </a:lnTo>
                <a:lnTo>
                  <a:pt x="21600" y="26022"/>
                </a:lnTo>
                <a:lnTo>
                  <a:pt x="0" y="26022"/>
                </a:lnTo>
                <a:close/>
              </a:path>
              <a:path fill="lightenLess" w="21600" h="260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022">
                <a:moveTo>
                  <a:pt x="21600" y="0"/>
                </a:moveTo>
                <a:lnTo>
                  <a:pt x="21600" y="26022"/>
                </a:lnTo>
                <a:lnTo>
                  <a:pt x="20200" y="24622"/>
                </a:lnTo>
                <a:lnTo>
                  <a:pt x="20200" y="1400"/>
                </a:lnTo>
                <a:close/>
              </a:path>
              <a:path fill="darkenLess" w="21600" h="26022">
                <a:moveTo>
                  <a:pt x="21600" y="26022"/>
                </a:moveTo>
                <a:lnTo>
                  <a:pt x="0" y="26022"/>
                </a:lnTo>
                <a:lnTo>
                  <a:pt x="1400" y="24622"/>
                </a:lnTo>
                <a:lnTo>
                  <a:pt x="20200" y="24622"/>
                </a:lnTo>
                <a:close/>
              </a:path>
              <a:path fill="lighten" w="21600" h="26022">
                <a:moveTo>
                  <a:pt x="0" y="260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622"/>
                </a:lnTo>
                <a:close/>
              </a:path>
              <a:path fill="darken" w="21600" h="26022">
                <a:moveTo>
                  <a:pt x="3794" y="13011"/>
                </a:moveTo>
                <a:lnTo>
                  <a:pt x="17806" y="6005"/>
                </a:lnTo>
                <a:lnTo>
                  <a:pt x="17806" y="2001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0T11:51:59Z</dcterms:created>
  <dc:creator>school</dc:creator>
  <dc:description/>
  <dc:language>en-US</dc:language>
  <cp:lastModifiedBy>Admin</cp:lastModifiedBy>
  <dcterms:modified xsi:type="dcterms:W3CDTF">2012-11-13T14:12:56Z</dcterms:modified>
  <cp:revision>34</cp:revision>
  <dc:subject/>
  <dc:title>Слайд 1</dc:title>
</cp:coreProperties>
</file>