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chimes.wav" ContentType="audio/x-wav"/>
  <Override PartName="/ppt/media/image16.jpeg" ContentType="image/jpe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A29-6565-430B-AE1F-B78AC539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0D4-BDBF-4F62-BCC4-5604C92C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15B47-33CE-40DE-A482-953A542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F4EC-2BD2-42DF-90A9-03945F8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6CE9-DBEE-405D-8FCA-2A0418F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14574-49BC-451E-AD39-7257FB8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EC18B-0F18-4B80-BA86-9EEBC53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206B-E434-4078-8CB8-F897DFB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D2C05-B7E1-4A85-A2FF-326CE6AB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034D4-50B0-447C-9EFA-383934E6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41E8-C463-442D-9D77-0764540E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EBB-1B3C-4CB4-BB3B-69E91211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01C-1ED8-450E-B808-92134BF5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AD3F-6749-49F4-A69C-28ECD16E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56B-DA92-4578-B7C1-441AC7E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CA6-770F-41EF-93D7-E040424B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C21-04C9-4381-B79C-4EBA004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FA2-A90E-47B0-A22A-F005A18B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76C8-1C35-4CDF-9CFE-9DCFF85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E81-2F99-484D-BD60-51D6214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E67-77B6-4476-A654-28ECAA7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FC05-1323-49EA-BDDC-3F5623C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BF4D-6FDF-4A38-9894-89CBD44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749-305D-4F33-8DB8-FB2FBA1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3E8B-F9A7-4819-BE8F-5867051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7AA8-1BCD-4DE7-9659-40E0E538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7504-FF22-4A4B-BDCC-A4349F4D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E7D6-6E67-4EAD-8B85-AADDDD8F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0A43-0BA5-4BFD-B8C4-9FDFBF16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456C-40FE-45C2-A784-B926CEF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16BE-050B-4C3E-B632-8B57CF3C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1D0-2454-4626-9A66-C95D2B89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EB72-3AAD-4F23-8145-FF65438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B2EC-B931-454B-AE29-C9C94687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FBBF-8F1A-42C6-9AF2-9435598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A86E-7297-4B38-8B0D-8F07826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BC2C-0433-4378-9DAF-633A624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7F34-DA82-4BE8-90EA-0F93E110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64AF-CF8A-489B-903E-66AB8F3A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5267-65E8-4946-AF94-EEF4524F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D84F-21B3-4853-8D9E-66B6EEA4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FCAD-AD86-40A5-BC59-EDD5EC80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D57-9E24-4B3A-9EDE-C78BBF2F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A685-1133-4D3E-A79A-AA1D194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FB52-FE18-482D-ACF7-C02CC73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3F40-638F-4472-ADA4-298DB4E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776E-1CC3-48F0-8FC4-4EC856C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6BBE-7399-44AC-9964-8CF433E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1425-D198-4964-BFF7-1862C25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B2A7-438A-49D5-A37E-0AB053A4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0F78-1D2A-4FE6-96CF-72635F1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5FF6-D926-4E45-BA47-BB051C53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4F2F-63E1-4C64-9FE8-61E7E3CE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6E9-B452-4C15-8EE6-0CF2E626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7F3CE-ED1E-4C3E-9799-CF2BB27E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D4E6-C096-484F-BA20-B5043DA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2DA7-B30D-4D79-883D-ECFA233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5391-C8E3-4F75-B78F-AABBEA7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E91B-CA8F-43F7-82ED-1267F31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7978-E7DD-47D8-B4EE-E1020B9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491D-C840-4DC4-BFEB-B3F5C41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8467-E156-4DF7-A3D2-B61E6DE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7777-095B-406D-9251-B4D7D79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CE30B-05F9-4E95-8D60-524E3472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A8B-4137-429D-9C5C-8E0BDC9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BBA3-F18E-4FB2-8B56-1516164E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5C18-77BA-4030-9A84-65486A1B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F938A-F27E-4390-84EE-53AE22D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EA4A-E787-42F0-BB8A-5306AFD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D954-F6EF-44DD-A8A4-6C91975E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1485-5CF8-44EE-98AF-BA915D5B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931F3-59EC-4951-BCD2-0016BF2A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E8E3-831E-431D-85BD-C19D4DD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924F-57D8-4B53-B0BF-3C06BB3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F109-C27E-445A-9BBF-0EB2021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6AF-0773-4230-90A4-376DFF4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090F-9CEE-4AD2-89B8-88F0E86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937A-B4AA-4902-AAC5-96B1930D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33F6D-15DD-45B7-A171-1531BA7F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1AAA8-25AD-4C4B-865C-2EBC40EF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2E35-211D-494B-92B4-D3C96ADB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2E82-F144-4900-B1C2-BDACE163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E4BE-EBAE-40AC-BDDE-41F3A9E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1934-D9B1-4C8E-997E-268C7CF8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34DB7-50C5-4F9D-AB89-F20D8A8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2CFD-3989-420C-AB77-4AA6ADA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4BB-A813-4688-AD8C-152987D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E03D-8178-487C-8325-4B6D628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EC9F-504F-4D2B-98EF-4165320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E982-06F4-4CF4-892D-95FB35BD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E4F8F-F18D-406D-82B7-92311C3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89AB-3021-4036-BDE8-FCE0FFEF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7D14F-D9D8-40FF-81D8-43DD0BA2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05EFA-24A3-4B9D-9187-4EBDEC0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7C8B-6160-418A-BF78-44188855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AEEB-6FE6-465E-84BD-C097105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F5EA-680D-416C-A757-4840BB0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49B-18ED-4543-8BAA-4A85742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2564E-FEE7-43EC-A0EE-9B29AC53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9942-AA65-4202-B9C5-CADBCC4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0F0B4-E33E-4D4F-A952-F8882B6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A341-C081-40ED-B0A0-51CB16C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662E-A6B7-4C97-87F7-43E06E8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ED1E6-F07F-428A-9BD0-CA6AB4BC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7EE1E-0385-4536-A143-08C42662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27696-3FC9-4832-B820-DD0C31B5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2591E-5C81-47A8-A309-EA08A41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4985C-7C1E-42ED-B152-8A173A2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EA4-A326-407C-A845-06EAD2009807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3F1-9488-41B0-A13C-8C880977A111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54E2-88C2-4BEB-B55E-F42B46C20DD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9F0E-DDBC-42F3-8E09-C36B49FE0D45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25B-F735-4630-B9DC-0D3F28E2D40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8DB3-8D6C-4BC9-8F4E-629DA79036E7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325-2BFB-4FB1-8D27-6066E7EDDB50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028-E1CB-47E4-9036-CC39E3D89B65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08F-DE6B-4564-88D4-4BB1606BED63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" descr=""/>
          <p:cNvPicPr/>
          <p:nvPr/>
        </p:nvPicPr>
        <p:blipFill>
          <a:blip r:embed="rId1"/>
          <a:stretch/>
        </p:blipFill>
        <p:spPr>
          <a:xfrm>
            <a:off x="749160" y="2225520"/>
            <a:ext cx="7785360" cy="2297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52560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01" name="Picture 6" descr="&amp;Kcy;&amp;acy;&amp;rcy;&amp;tcy;&amp;icy;&amp;ncy;&amp;kcy;&amp;acy; 17 &amp;icy;&amp;zcy; 157973"/>
          <p:cNvPicPr/>
          <p:nvPr/>
        </p:nvPicPr>
        <p:blipFill>
          <a:blip r:embed="rId2"/>
          <a:stretch/>
        </p:blipFill>
        <p:spPr>
          <a:xfrm>
            <a:off x="512640" y="291960"/>
            <a:ext cx="1760760" cy="3048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L03p14p01"/>
          <p:cNvPicPr/>
          <p:nvPr/>
        </p:nvPicPr>
        <p:blipFill>
          <a:blip r:embed="rId3"/>
          <a:stretch/>
        </p:blipFill>
        <p:spPr>
          <a:xfrm>
            <a:off x="3535200" y="291960"/>
            <a:ext cx="1828800" cy="3176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http://im4-tub-ru.yandex.net/i?id=640053762-36-72"/>
          <p:cNvPicPr/>
          <p:nvPr/>
        </p:nvPicPr>
        <p:blipFill>
          <a:blip r:embed="rId4"/>
          <a:stretch/>
        </p:blipFill>
        <p:spPr>
          <a:xfrm>
            <a:off x="6566040" y="291960"/>
            <a:ext cx="1938240" cy="3183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1835280" y="5300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ловниковой О.В., учителя экологии МБОУ-СОШ №1 р.п. Степное Советский район  Сарат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Franklin Gothic Book"/>
              </a:rPr>
              <a:t>Учебник 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Franklin Gothic Book"/>
              </a:rPr>
              <a:t>Записи в тетради наизусть.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val 339"/>
          <p:cNvSpPr/>
          <p:nvPr/>
        </p:nvSpPr>
        <p:spPr>
          <a:xfrm>
            <a:off x="152280" y="3200400"/>
            <a:ext cx="8839440" cy="350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ГА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13"/>
          <p:cNvSpPr/>
          <p:nvPr/>
        </p:nvSpPr>
        <p:spPr>
          <a:xfrm>
            <a:off x="3059280" y="189000"/>
            <a:ext cx="304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мет эк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15"/>
          <p:cNvSpPr/>
          <p:nvPr/>
        </p:nvSpPr>
        <p:spPr>
          <a:xfrm>
            <a:off x="0" y="2205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мы в их отношениях с окружающей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6"/>
          <p:cNvSpPr/>
          <p:nvPr/>
        </p:nvSpPr>
        <p:spPr>
          <a:xfrm>
            <a:off x="3203640" y="227664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17"/>
          <p:cNvSpPr/>
          <p:nvPr/>
        </p:nvSpPr>
        <p:spPr>
          <a:xfrm>
            <a:off x="6372360" y="227664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ие законы функционирования эко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318"/>
          <p:cNvCxnSpPr/>
          <p:nvPr/>
        </p:nvCxnSpPr>
        <p:spPr>
          <a:xfrm flipV="1">
            <a:off x="1258920" y="980640"/>
            <a:ext cx="1729440" cy="122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319"/>
          <p:cNvCxnSpPr>
            <a:stCxn id="408" idx="0"/>
          </p:cNvCxnSpPr>
          <p:nvPr/>
        </p:nvCxnSpPr>
        <p:spPr>
          <a:xfrm flipH="1" flipV="1">
            <a:off x="4571280" y="1065960"/>
            <a:ext cx="3960" cy="121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320"/>
          <p:cNvCxnSpPr/>
          <p:nvPr/>
        </p:nvCxnSpPr>
        <p:spPr>
          <a:xfrm flipH="1" flipV="1">
            <a:off x="6095160" y="914040"/>
            <a:ext cx="1258200" cy="14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Oval 322"/>
          <p:cNvSpPr/>
          <p:nvPr/>
        </p:nvSpPr>
        <p:spPr>
          <a:xfrm>
            <a:off x="609480" y="3886200"/>
            <a:ext cx="266724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24"/>
          <p:cNvSpPr/>
          <p:nvPr/>
        </p:nvSpPr>
        <p:spPr>
          <a:xfrm>
            <a:off x="3352680" y="4038480"/>
            <a:ext cx="243864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энвиро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25"/>
          <p:cNvSpPr/>
          <p:nvPr/>
        </p:nvSpPr>
        <p:spPr>
          <a:xfrm>
            <a:off x="6095880" y="388620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250920" y="476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c1a39"/>
                </a:solidFill>
                <a:latin typeface="Lucida Sans"/>
              </a:rPr>
              <a:t>Экология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28600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195640" y="1557360"/>
            <a:ext cx="6400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Lucida Sans"/>
              </a:rPr>
              <a:t>наука о взаимодействии живых организмов между собой и с окружающей средой</a:t>
            </a:r>
            <a:r>
              <a:rPr b="1" lang="ru-RU" sz="4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5" descr=""/>
          <p:cNvPicPr/>
          <p:nvPr/>
        </p:nvPicPr>
        <p:blipFill>
          <a:blip r:embed="rId1"/>
          <a:stretch/>
        </p:blipFill>
        <p:spPr>
          <a:xfrm>
            <a:off x="-6480" y="2341440"/>
            <a:ext cx="8699760" cy="852480"/>
          </a:xfrm>
          <a:prstGeom prst="rect">
            <a:avLst/>
          </a:prstGeom>
          <a:ln w="0">
            <a:noFill/>
          </a:ln>
        </p:spPr>
      </p:pic>
      <p:sp>
        <p:nvSpPr>
          <p:cNvPr id="420" name="Скругленный прямоугольник 7"/>
          <p:cNvSpPr/>
          <p:nvPr/>
        </p:nvSpPr>
        <p:spPr>
          <a:xfrm>
            <a:off x="468360" y="5661000"/>
            <a:ext cx="8136000" cy="57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fac9"/>
                </a:solidFill>
                <a:latin typeface="Arial"/>
              </a:rPr>
              <a:t>Эрнст Геккель   186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98440" y="334800"/>
            <a:ext cx="8699400" cy="1974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684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ждый организм занимает свою часть природы: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океане живут…..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почве живут…..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степях и лесах живут….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179280" y="1890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c1a39"/>
                </a:solidFill>
                <a:latin typeface="Arial Black"/>
              </a:rPr>
              <a:t>Среда обитания </a:t>
            </a:r>
            <a:r>
              <a:rPr b="1" i="1" lang="ru-RU" sz="3600" spc="-1" strike="noStrike">
                <a:solidFill>
                  <a:srgbClr val="000000"/>
                </a:solidFill>
                <a:latin typeface="Lucida San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4427640" y="0"/>
            <a:ext cx="4343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408"/>
                </a:solidFill>
                <a:latin typeface="Lucida Sans"/>
              </a:rPr>
              <a:t>часть природы, в которой живёт организм, и с которой он непосредст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408"/>
                </a:solidFill>
                <a:latin typeface="Lucida Sans"/>
              </a:rPr>
              <a:t>взаимодей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AN02097_"/>
          <p:cNvPicPr/>
          <p:nvPr/>
        </p:nvPicPr>
        <p:blipFill>
          <a:blip r:embed="rId1"/>
          <a:stretch/>
        </p:blipFill>
        <p:spPr>
          <a:xfrm>
            <a:off x="179280" y="494172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AN02542_"/>
          <p:cNvPicPr/>
          <p:nvPr/>
        </p:nvPicPr>
        <p:blipFill>
          <a:blip r:embed="rId2"/>
          <a:stretch/>
        </p:blipFill>
        <p:spPr>
          <a:xfrm>
            <a:off x="8101080" y="1197000"/>
            <a:ext cx="853920" cy="1200240"/>
          </a:xfrm>
          <a:prstGeom prst="rect">
            <a:avLst/>
          </a:prstGeom>
          <a:ln w="0">
            <a:noFill/>
          </a:ln>
        </p:spPr>
      </p:pic>
      <p:sp>
        <p:nvSpPr>
          <p:cNvPr id="427" name="AutoShape 6"/>
          <p:cNvSpPr/>
          <p:nvPr/>
        </p:nvSpPr>
        <p:spPr>
          <a:xfrm>
            <a:off x="179280" y="1125360"/>
            <a:ext cx="367200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332000" y="3213000"/>
            <a:ext cx="3456000" cy="1871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4932360" y="4724280"/>
            <a:ext cx="3600360" cy="17290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79280" y="1197000"/>
            <a:ext cx="3962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Lucida Sans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619280" y="3141720"/>
            <a:ext cx="2819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Lucida Sans"/>
              </a:rPr>
              <a:t>Поч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Lucida Sans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Lucida San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932360" y="47242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408"/>
                </a:solidFill>
                <a:latin typeface="Lucida Sans"/>
              </a:rPr>
              <a:t>В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408"/>
                </a:solidFill>
                <a:latin typeface="Lucida Sans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408"/>
                </a:solidFill>
                <a:latin typeface="Lucida San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838080" y="533520"/>
            <a:ext cx="792504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2286000" y="685800"/>
            <a:ext cx="63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80880" y="2590920"/>
            <a:ext cx="396252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2286000" y="4724280"/>
            <a:ext cx="4648320" cy="16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5334120" y="2514600"/>
            <a:ext cx="33526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95280" y="2637000"/>
            <a:ext cx="388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факторы 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2268360" y="4724280"/>
            <a:ext cx="468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факторы не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5334120" y="2438280"/>
            <a:ext cx="3352680" cy="202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факторы деятельности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 flipH="1">
            <a:off x="2666520" y="1447920"/>
            <a:ext cx="762120" cy="1066680"/>
          </a:xfrm>
          <a:prstGeom prst="line">
            <a:avLst/>
          </a:prstGeom>
          <a:ln w="38160">
            <a:solidFill>
              <a:srgbClr val="444d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6248520" y="1371600"/>
            <a:ext cx="609480" cy="1143000"/>
          </a:xfrm>
          <a:prstGeom prst="line">
            <a:avLst/>
          </a:prstGeom>
          <a:ln w="38160">
            <a:solidFill>
              <a:srgbClr val="444d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"/>
          <p:cNvSpPr/>
          <p:nvPr/>
        </p:nvSpPr>
        <p:spPr>
          <a:xfrm>
            <a:off x="4952880" y="1447920"/>
            <a:ext cx="0" cy="2971800"/>
          </a:xfrm>
          <a:prstGeom prst="line">
            <a:avLst/>
          </a:prstGeom>
          <a:ln w="38160">
            <a:solidFill>
              <a:srgbClr val="444d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BD21370_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1522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228600" y="304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Lucida Sans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609588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410080" y="1143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нейтр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962520" y="1905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му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289548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676520" y="685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хищ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3" descr="BD14790_"/>
          <p:cNvPicPr/>
          <p:nvPr/>
        </p:nvPicPr>
        <p:blipFill>
          <a:blip r:embed="rId2"/>
          <a:stretch/>
        </p:blipFill>
        <p:spPr>
          <a:xfrm>
            <a:off x="13716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BD14790_"/>
          <p:cNvPicPr/>
          <p:nvPr/>
        </p:nvPicPr>
        <p:blipFill>
          <a:blip r:embed="rId3"/>
          <a:stretch/>
        </p:blipFill>
        <p:spPr>
          <a:xfrm>
            <a:off x="243828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5" descr="BD14790_"/>
          <p:cNvPicPr/>
          <p:nvPr/>
        </p:nvPicPr>
        <p:blipFill>
          <a:blip r:embed="rId4"/>
          <a:stretch/>
        </p:blipFill>
        <p:spPr>
          <a:xfrm>
            <a:off x="3581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6" descr="BD14790_"/>
          <p:cNvPicPr/>
          <p:nvPr/>
        </p:nvPicPr>
        <p:blipFill>
          <a:blip r:embed="rId5"/>
          <a:stretch/>
        </p:blipFill>
        <p:spPr>
          <a:xfrm>
            <a:off x="57150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7" descr="BD14790_"/>
          <p:cNvPicPr/>
          <p:nvPr/>
        </p:nvPicPr>
        <p:blipFill>
          <a:blip r:embed="rId6"/>
          <a:stretch/>
        </p:blipFill>
        <p:spPr>
          <a:xfrm>
            <a:off x="518148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9"/>
          <p:cNvSpPr/>
          <p:nvPr/>
        </p:nvSpPr>
        <p:spPr>
          <a:xfrm>
            <a:off x="45720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Lucida Sans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0" descr="BD21370_"/>
          <p:cNvPicPr/>
          <p:nvPr/>
        </p:nvPicPr>
        <p:blipFill>
          <a:blip r:embed="rId7"/>
          <a:stretch/>
        </p:blipFill>
        <p:spPr>
          <a:xfrm>
            <a:off x="380880" y="4267080"/>
            <a:ext cx="8305920" cy="1526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1"/>
          <p:cNvSpPr/>
          <p:nvPr/>
        </p:nvSpPr>
        <p:spPr>
          <a:xfrm>
            <a:off x="4343400" y="365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14400" y="387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3962520" y="29718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160020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6324480" y="2887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8" descr="BD21294_"/>
          <p:cNvPicPr/>
          <p:nvPr/>
        </p:nvPicPr>
        <p:blipFill>
          <a:blip r:embed="rId8"/>
          <a:stretch/>
        </p:blipFill>
        <p:spPr>
          <a:xfrm>
            <a:off x="12193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2" descr="BD21294_"/>
          <p:cNvPicPr/>
          <p:nvPr/>
        </p:nvPicPr>
        <p:blipFill>
          <a:blip r:embed="rId9"/>
          <a:stretch/>
        </p:blipFill>
        <p:spPr>
          <a:xfrm>
            <a:off x="6858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3" descr="BD21294_"/>
          <p:cNvPicPr/>
          <p:nvPr/>
        </p:nvPicPr>
        <p:blipFill>
          <a:blip r:embed="rId10"/>
          <a:stretch/>
        </p:blipFill>
        <p:spPr>
          <a:xfrm>
            <a:off x="37339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4" descr="BD21294_"/>
          <p:cNvPicPr/>
          <p:nvPr/>
        </p:nvPicPr>
        <p:blipFill>
          <a:blip r:embed="rId11"/>
          <a:stretch/>
        </p:blipFill>
        <p:spPr>
          <a:xfrm>
            <a:off x="39625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5" descr="BD21294_"/>
          <p:cNvPicPr/>
          <p:nvPr/>
        </p:nvPicPr>
        <p:blipFill>
          <a:blip r:embed="rId12"/>
          <a:stretch/>
        </p:blipFill>
        <p:spPr>
          <a:xfrm>
            <a:off x="601992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6"/>
          <p:cNvSpPr/>
          <p:nvPr/>
        </p:nvSpPr>
        <p:spPr>
          <a:xfrm>
            <a:off x="380880" y="464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Lucida Sans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609480" y="54021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609480" y="6019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вырубка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4648320" y="5486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выбросы промыш-лен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24280" y="4800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осушение</a:t>
            </a:r>
            <a:r>
              <a:rPr b="0" lang="ru-RU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Lucida Sans"/>
              </a:rPr>
              <a:t>бо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1" descr="BD14790_"/>
          <p:cNvPicPr/>
          <p:nvPr/>
        </p:nvPicPr>
        <p:blipFill>
          <a:blip r:embed="rId13"/>
          <a:stretch/>
        </p:blipFill>
        <p:spPr>
          <a:xfrm>
            <a:off x="3808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2" descr="BD14790_"/>
          <p:cNvPicPr/>
          <p:nvPr/>
        </p:nvPicPr>
        <p:blipFill>
          <a:blip r:embed="rId1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3" descr="BD14790_"/>
          <p:cNvPicPr/>
          <p:nvPr/>
        </p:nvPicPr>
        <p:blipFill>
          <a:blip r:embed="rId15"/>
          <a:stretch/>
        </p:blipFill>
        <p:spPr>
          <a:xfrm>
            <a:off x="44197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" descr="BD14790_"/>
          <p:cNvPicPr/>
          <p:nvPr/>
        </p:nvPicPr>
        <p:blipFill>
          <a:blip r:embed="rId16"/>
          <a:stretch/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4922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df5a19c06589t"/>
          <p:cNvPicPr/>
          <p:nvPr/>
        </p:nvPicPr>
        <p:blipFill>
          <a:blip r:embed="rId2"/>
          <a:srcRect l="0" t="0" r="6803" b="11357"/>
          <a:stretch/>
        </p:blipFill>
        <p:spPr>
          <a:xfrm>
            <a:off x="457200" y="1523880"/>
            <a:ext cx="3733920" cy="2221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leopard-web"/>
          <p:cNvPicPr/>
          <p:nvPr/>
        </p:nvPicPr>
        <p:blipFill>
          <a:blip r:embed="rId3"/>
          <a:stretch/>
        </p:blipFill>
        <p:spPr>
          <a:xfrm>
            <a:off x="4876920" y="1523880"/>
            <a:ext cx="3657600" cy="2210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0_e89d_d0cba707_XL"/>
          <p:cNvPicPr/>
          <p:nvPr/>
        </p:nvPicPr>
        <p:blipFill>
          <a:blip r:embed="rId4"/>
          <a:stretch/>
        </p:blipFill>
        <p:spPr>
          <a:xfrm>
            <a:off x="457200" y="3886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1204966527_pinguin_450"/>
          <p:cNvPicPr/>
          <p:nvPr/>
        </p:nvPicPr>
        <p:blipFill>
          <a:blip r:embed="rId5"/>
          <a:srcRect l="0" t="0" r="0" b="17999"/>
          <a:stretch/>
        </p:blipFill>
        <p:spPr>
          <a:xfrm>
            <a:off x="4876920" y="38862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82" name="WordArt 9"/>
          <p:cNvSpPr txBox="1"/>
          <p:nvPr/>
        </p:nvSpPr>
        <p:spPr>
          <a:xfrm>
            <a:off x="685800" y="3124080"/>
            <a:ext cx="19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WordArt 10"/>
          <p:cNvSpPr txBox="1"/>
          <p:nvPr/>
        </p:nvSpPr>
        <p:spPr>
          <a:xfrm>
            <a:off x="5029200" y="2971800"/>
            <a:ext cx="26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WordArt 11"/>
          <p:cNvSpPr txBox="1"/>
          <p:nvPr/>
        </p:nvSpPr>
        <p:spPr>
          <a:xfrm>
            <a:off x="609480" y="5943600"/>
            <a:ext cx="26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WordArt 12"/>
          <p:cNvSpPr txBox="1"/>
          <p:nvPr/>
        </p:nvSpPr>
        <p:spPr>
          <a:xfrm>
            <a:off x="5105520" y="5791320"/>
            <a:ext cx="19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7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8" name=""/>
          <p:cNvGraphicFramePr/>
          <p:nvPr/>
        </p:nvGraphicFramePr>
        <p:xfrm>
          <a:off x="547560" y="2141640"/>
          <a:ext cx="7929720" cy="284616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емно-воздуш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Text Box 23"/>
          <p:cNvSpPr/>
          <p:nvPr/>
        </p:nvSpPr>
        <p:spPr>
          <a:xfrm>
            <a:off x="611280" y="49370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, чайка, страус, акула, береза, орел, ворона, карась,  крот, медуза, дождевой червь, личинка майского жука, , постельный клоп, бабочка, олень, клубеньковые бактерии, волк, свиной цепень, щука, человек, синица,  гидра, клещ собач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468360" y="1484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естите в соответствующую среду обитания животных или растения из предложенного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4:46:59Z</dcterms:created>
  <dc:creator>тупой пользователь</dc:creator>
  <dc:description/>
  <dc:language>en-US</dc:language>
  <cp:lastModifiedBy>Ольга</cp:lastModifiedBy>
  <dcterms:modified xsi:type="dcterms:W3CDTF">2012-11-13T17:18:11Z</dcterms:modified>
  <cp:revision>58</cp:revision>
  <dc:subject/>
  <dc:title>Среды обитания организмов. Приспособленность организмов к среде обитания.</dc:title>
</cp:coreProperties>
</file>