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E9C-B4C1-42C6-927B-C836A3B7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BB4-8925-439C-9B07-212D3E1C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828-23BA-475B-9ED3-504F74B0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110-FBCA-4E54-9021-AC4E0348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123-AF47-466F-A50E-2CE3D61B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77C-FAD6-4020-A67B-E1A21856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FEF-62D6-42FA-9620-DB1AEE91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EDA-D232-492F-8C38-6F51E4BC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607-35F3-49A7-92A3-89A4FC53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26E-CB3B-4192-A8F9-B6C844E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F21-B04A-4DB1-AAA2-79585B34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E60-8DCE-4FD5-A8D9-82522C1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54E5-BEB4-4935-B115-BEC0E1959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1749600" y="1352520"/>
            <a:ext cx="384624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276640" y="755640"/>
            <a:ext cx="34290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репах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игры соревнуются кто быстрее – до флажка «бег на четвереньках головой наза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2492280" y="4572000"/>
            <a:ext cx="34290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Зеркал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ослый стоя перед ребёнком показывает различные упражнения. Ребёнок должен повторить верно (т.е. взрослый поднимает правую руку, ребёнок левую, т.к. изображение зеркально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844640" y="395280"/>
            <a:ext cx="47530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Крокоди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ослый «крокодил» - вытягивает вперёд руки одна над другой, изображая зубастую пасть, ребёнок (с др. членами семьи) просовывают руки в «пасть». Крокодил с невозмутимым видом отвлекает играющих, поёт песни, притоптывает ногами, подпрыгивает и неожиданно смыкает руки – «пасть». Кто попался, становится крокоди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276640" y="5364000"/>
            <a:ext cx="439236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Зме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жа на животе и вытянув руки вдоль туловища, ноги не разъединяются, играющие поднимают голову, приподнимаются на локтях и ровно дышат, извиваются – танцуют (веселятся, грустят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8880" y="395280"/>
            <a:ext cx="582912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звольте себе побыть ребенком! Воспользуйтесь возможностью иногда возвращаться в детство!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 давайте играть!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57360" y="7019640"/>
            <a:ext cx="496728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рший воспитат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БОУ д/с № 8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кашина И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700280" y="324000"/>
            <a:ext cx="48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ая роль в развитии и воспитании ребёнка принадлежит игре – важнейшему виду детской деятельности. В.А Сухомлинский подчёркивал, что «игра – это огромное светлое окно, через которое в духовный мир ребёнка вливается живительный поток представлений понятий об окружающем мире. Игра – это искра, зажигающая огонёк пытливости и любознательност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421000" y="5076720"/>
            <a:ext cx="414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тельно, если вы играете со своим ребёнком, ещё лучше, если вы умеете играть с ним ( не учите его, а «заражаете» творчеством, желанием решать всевозможные задачи и даже придумывать новые. Но чтобы «заразить» ребёнка, надо прежде «заболеть» самому, увлечься иг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3429000" y="3905280"/>
            <a:ext cx="223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1844640" y="53964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а должна приносить радость ребёнку и взрослому. Каждый успех малыша это обоюдное достижение – и ваше и его. Радуйтесь этому. Радость окрыляет малыша на будущие успехи. Понаблюдайте, как довольны бывают дети, когда им удаётся доставить удовольствие или рассмеш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1916280" y="3635280"/>
            <a:ext cx="46670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 Холодно - горячо; Право - ле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рослый прячет условный предмет, а затем с помощью команд типа « шаг направо, два шага вперёд, три налево» ведёт ребёнка к цели, помогая ему словами «тепло», « горячо», « холодн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411280" y="2858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3000240" y="1047600"/>
            <a:ext cx="27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911160" y="3714840"/>
            <a:ext cx="59468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2276640" y="900000"/>
            <a:ext cx="410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интересовывайте ребёнка, но не заставляете его играть. Игра должна продолжаться до тех пор, пока она всем приятна. Удерживайтесь от обидных замечаний «Ах ты глупый!» и т. п. Не получается – переключите его внимание на другое д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2637000" y="4500720"/>
            <a:ext cx="34290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 Летает - не лет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ослый называет предметы. Если предмет летает - ребёнок поднимает руки. Если не летает - руки у ребёнка опущ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4640" y="366480"/>
            <a:ext cx="4310280" cy="32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в семье не один ребёнок, есть младшие дети, то оживите игру увлекательной сказкой или рассказом, игрушками, переодеванием и т. д. Придумывайте! Фантазируйте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349360" y="4427640"/>
            <a:ext cx="403236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 Что слыш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ослый предлагает ребёнку послушать и запомнить то , что происходит за дверью, за окном, на улице, затем просит рассказать, какие звуки он слышал. Можно предложить подсчитать услышанные зв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одержимое 2"/>
          <p:cNvSpPr/>
          <p:nvPr/>
        </p:nvSpPr>
        <p:spPr>
          <a:xfrm>
            <a:off x="1844640" y="684360"/>
            <a:ext cx="482436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м больше у малыша развито какое – то качество – тем сильнее оно жаждет проявления. Сильному ребёнку больше хочется побегать, побороться, поиграть в подвижные игры, слабый малыш этого не люб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916280" y="4427640"/>
            <a:ext cx="453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гра «Кенгур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яс взрослого и ребёнка завязывают шарфик, образуя «сумку» кенгуру. В неё сажают детёныша – любимую мягкую игрушку. Произносят слова: «1, 2, 3 скачи» . «Кенгуру» начинают прыгать к условному месту, стараясь при этом не выронить малыша. Руками придерживать нельзя. Побеждают самые быстрые и заботливые кенг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708280" y="6948360"/>
            <a:ext cx="32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е хвалите за успех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2349360" y="1547640"/>
            <a:ext cx="410400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Кто первы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спинке стула привязывают две ленточки. Одну оттягивают влево, другую вправо. Взрослый и ребёнок по сигналу начинают закручивать ленты, стараясь это сделать быстрее и сесть на стул. Побеждает тот, кто быстрее закрутит ленточку и сядет на ст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989000" y="250920"/>
            <a:ext cx="46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держивайте двигательную активность ребёнка, создавайте в игре непринуждённую обстановку, чтобы можно было, и попрыгать от восторга, и сделать на «радостях» кувырок на коврике, и полететь под потолок на папиных ру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205000" y="4067280"/>
            <a:ext cx="43927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Бурат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известно у Буратино был длинный нос, который ему очень мешал. Проводя эту игру, каждый может попробовать себя в этой роли. Для этого нужна коробка из – под спичек, которую все играющие передают , надевая на нос друг другу, без помощи рук. В эту весёлую игру с удовольствием поиграют и взрослые, и де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276640" y="539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йте в играх честно признавать своё поражение. Трудно придумать большую награду ребёнку. Не бойтесь, что ваш авторитет при этом постра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2276640" y="3851280"/>
            <a:ext cx="410508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 « Какого цвета не стало?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ребёнком разложены цветные карандаши, его просят внимательно посмотреть на них и запомнить цвета. Затем ребёнок закрывает глаза, взрослый убрав один из предметов, просит ребёнка открыть глаза и сказать; карандаша какого цвета не ста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6:59:35Z</dcterms:created>
  <dc:creator>Марина</dc:creator>
  <dc:description/>
  <dc:language>en-US</dc:language>
  <cp:lastModifiedBy>USER</cp:lastModifiedBy>
  <dcterms:modified xsi:type="dcterms:W3CDTF">2012-11-13T09:04:35Z</dcterms:modified>
  <cp:revision>6</cp:revision>
  <dc:subject/>
  <dc:title>Слайд 1</dc:title>
</cp:coreProperties>
</file>