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B7E-8C2E-462B-95B2-08AF035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819-18B3-41C0-A6F3-B4A8109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DC6-617B-4A04-A89C-F536C2B4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F2F-379E-439E-A316-32A617DF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AEA-E4EE-4C99-9133-69CB4828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9AE-3BE6-4E7E-94F4-2A8B84E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AF1-E256-4B8A-8B5A-9534C0E0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621-DA56-4866-915A-CE0F9B14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B22-6217-4B9A-8911-184DD3E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BC4-E2D0-405D-A7EA-7ED3A89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B11-FEEB-4A8D-A781-9F00FE36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352-3359-466B-B0A9-9CE35CB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8D4-CCA2-4DD0-AE5F-0A9B9DF37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ОГРАФИЧЕСКОЕ ВИДО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роцесс видообразования может начаться благодаря возникновению различного рода географических преград между популяциями вида - </a:t>
            </a:r>
            <a:r>
              <a:rPr b="1" lang="ru-RU" sz="2000" spc="-1" strike="noStrike">
                <a:solidFill>
                  <a:srgbClr val="cc0000"/>
                </a:solidFill>
                <a:latin typeface="Monotype Corsiva"/>
              </a:rPr>
              <a:t>гор, морей, пустынь, ледников и т.д.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Такой способ видообразования самый распространенный и наиболее изученный; он называется географическим или аллопатрическим видообразование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ллопатрическое видообразование - (от латинских слов allo - разный и patria - роди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иболее яркие примеры географического видообразования - комплексы близкородственных видов, формирующих кольцевые ареа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Комплекс форм" больших белоголовых чае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'Комплекс форм' больших белоголовых чаек"/>
          <p:cNvPicPr/>
          <p:nvPr/>
        </p:nvPicPr>
        <p:blipFill>
          <a:blip r:embed="rId1"/>
          <a:stretch/>
        </p:blipFill>
        <p:spPr>
          <a:xfrm>
            <a:off x="611280" y="2133720"/>
            <a:ext cx="3495600" cy="3524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5053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ое видообразование гавайских цветоч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пугайная цвето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итается семенами и яг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Серпоклювка. Добывает насекомых из-под коры деревьев"/>
          <p:cNvPicPr/>
          <p:nvPr/>
        </p:nvPicPr>
        <p:blipFill>
          <a:blip r:embed="rId1"/>
          <a:stretch/>
        </p:blipFill>
        <p:spPr>
          <a:xfrm>
            <a:off x="3419640" y="2997360"/>
            <a:ext cx="2089080" cy="230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Попугайная цветочница. Питается семенами и ягодами"/>
          <p:cNvPicPr/>
          <p:nvPr/>
        </p:nvPicPr>
        <p:blipFill>
          <a:blip r:embed="rId2"/>
          <a:stretch/>
        </p:blipFill>
        <p:spPr>
          <a:xfrm>
            <a:off x="468360" y="299736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360" y="154440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рпоклю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бывает насекомых из-под коры дерев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Хохлатая цветочница. Питается нектаром цветов"/>
          <p:cNvPicPr/>
          <p:nvPr/>
        </p:nvPicPr>
        <p:blipFill>
          <a:blip r:embed="rId3"/>
          <a:stretch/>
        </p:blipFill>
        <p:spPr>
          <a:xfrm>
            <a:off x="6300720" y="2997360"/>
            <a:ext cx="251928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7080" y="1602720"/>
            <a:ext cx="1798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Хохлатая цветочниц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итается нектаром цве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менение генетического состава и морфологического облика популяций может происходить в силу чисто случайных причин. Такое явление называется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дрейфом гено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или генетико-автоматическими процесс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ританский подвид благородного оленя сформировался в течение 8000 лет со времени образования пролива Ламанш. Когда же несколько пар этого вида эмигрировали в Новую Зеландию, то за несколько десятилетий местные олени успешно освоили новые местообитания и стали сильнее отличаться от своей родительской популяции, чем британский олень от материковой ра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Благородный олень"/>
          <p:cNvPicPr/>
          <p:nvPr/>
        </p:nvPicPr>
        <p:blipFill>
          <a:blip r:embed="rId1"/>
          <a:stretch/>
        </p:blipFill>
        <p:spPr>
          <a:xfrm>
            <a:off x="179280" y="1341360"/>
            <a:ext cx="313848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Пятнистый олень"/>
          <p:cNvPicPr/>
          <p:nvPr/>
        </p:nvPicPr>
        <p:blipFill>
          <a:blip r:embed="rId2"/>
          <a:stretch/>
        </p:blipFill>
        <p:spPr>
          <a:xfrm>
            <a:off x="1763640" y="3573360"/>
            <a:ext cx="403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АССИФИКАЦИЯ ИЗОЛИРУЮЩИХ МЕХАНИЗМ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окопуляционные изолирующие механизмы (механизмы, препятствующие межвидовому скрещив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 потенциальные партнеры не встре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нциальные партнеры встречаются, но не спари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пуляция не приводит к осеме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ослекопуляционные механизмы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(механизмы, понижающие успешность межвидового скрещи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менение происходит, но яйца не оплодотвор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йца оплодотворяются, но зародыш гиб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родыш развивается нормально, но гибриды менее приспособлены к условиям существования, чем родительские 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бриды вполне жизнеспособны, но частично или полностью стери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и рода жужелиц есть немало видов-двойников, практически не отличимых внешне друг от друга. Скрещивания между разными видами невозможны из-за различия в строении половых органов этих насекомых. Кроме того жужелицы способны определять свою видовую принадлежность по запаху. Самки жужелиц выделяют феромоны - пахучие вещества, привлекающие самцов; каждый вид имеет свой спицефический зап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Жужелицы"/>
          <p:cNvPicPr/>
          <p:nvPr/>
        </p:nvPicPr>
        <p:blipFill>
          <a:blip r:embed="rId1"/>
          <a:stretch/>
        </p:blipFill>
        <p:spPr>
          <a:xfrm>
            <a:off x="250920" y="1197000"/>
            <a:ext cx="4825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ряква и шилохвость часто гнездятся бок о бок друг с другом, населяя пресно-водные водоемы лесной полосы. Эти виды очень хорошо различаются друг от друга по окраске и брачным ритуалам, и в природе практически не гибридизи-руют. Тем не менее, в зоопарках смешанные пары между кряквой и шилохво-стью - не редкость. Большинство яиц в кладках смешанных пар оказываются неоплодотворенными, но из оплодотворенных яиц вылупляются вполне жизне-способные и плодовитые гибриды. Брачное поведение гибридов нарушено и представляет собой мозаику элементов, свойственных родительским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идам, в следствие чего им трудно сформировать брачную пару в природных условия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илохвост                      Кряк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Шилохвост"/>
          <p:cNvPicPr/>
          <p:nvPr/>
        </p:nvPicPr>
        <p:blipFill>
          <a:blip r:embed="rId1"/>
          <a:stretch/>
        </p:blipFill>
        <p:spPr>
          <a:xfrm>
            <a:off x="468360" y="3500280"/>
            <a:ext cx="3809880" cy="256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ряква"/>
          <p:cNvPicPr/>
          <p:nvPr/>
        </p:nvPicPr>
        <p:blipFill>
          <a:blip r:embed="rId2"/>
          <a:stretch/>
        </p:blipFill>
        <p:spPr>
          <a:xfrm>
            <a:off x="4572000" y="35002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8:29:36Z</dcterms:created>
  <dc:creator>1</dc:creator>
  <dc:description/>
  <dc:language>en-US</dc:language>
  <cp:lastModifiedBy>1</cp:lastModifiedBy>
  <dcterms:modified xsi:type="dcterms:W3CDTF">2008-01-24T19:02:52Z</dcterms:modified>
  <cp:revision>2</cp:revision>
  <dc:subject/>
  <dc:title>ГЕОГРАФИЧЕСКОЕ ВИДООБРАЗОВАНИЕ</dc:title>
</cp:coreProperties>
</file>