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242-A076-4979-8C9F-EC280CBE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FE9-AF11-4D8C-8AC6-9C1929E2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A26-675C-41E1-834B-24FCBE1A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5F4-F062-4E36-A4A6-4850A038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927-08BF-41F7-B99B-28B6712F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42B-27B7-4F50-AAB6-992DFE71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184-C746-4436-AD4F-05F0AAD2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644-8771-46C1-9BF1-036E9DD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537-734B-4F70-A7EC-003770E9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3AC-6017-46DD-9964-188B382E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762-73BD-45B2-A5A8-6D8DEEDC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9C1-BD95-4EC1-97B9-6EC3CB0C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5C3B-2B98-4C66-BDE0-D0FAAD3A3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Arial"/>
              </a:rPr>
              <a:t>Холокост – помнить или забыть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Национализ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– идеология и политика, основа которых – идеи национальной исключительности, национального превосходства, трактовка нации как высшей формы общ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5148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1932 году к власти пришла Национал Социалистическая Рабочая Партия Германии (нацисты), а в январе 1933 года Гитлер был назначен канцлером Герм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76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Поскольку еврейский народ не способен к продуктивной деятельности, он оказался не в состоянии создать государство на собственн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..К концу XIX века евреи практически завершили экономическое покорение Европы, а теперь принялись за осуществление политического контроля над ней. Первые попытки на этом направлении проявились в намерении искоренить интеллигенцию других народов с помощью революционных перевор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спощадная борьба еврейства за власть идет в наше время в Германии. Однако национал-социалистическое движение разгадало замыслы евреев и выступило против них. Наша национал-социалистическая партия - единственная в мире сила, которая взяла на себя эту борьбу с гнусными и преступными замыслами против человече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акон о защите немецкой крови и немецкой расы от 15 сентября 193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 Браки между евреями и государственными подданными немецкой или родственной крови запреще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Половая связь между евреями и государственными подданными немецкой или родственной крови запрещ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Евреям запрещается нанимать на работу у себя в дом женщин - государственных подданных немецкой или родственной крови, не достигших 4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Евреям разрешено ношение одежды еврейских цветов. Это право охраняется государ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ОЕ ОБЪЯСНЕНИЕ К ЗАКОНУ 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ЖДАНСТВЕ РЕЙХ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 14 НОЯБРЯ 193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1. Еврей не может быть гражданином Рейха. Он не имеет права голоса в политических вопросах, не может занимать должностей в государственных учрежд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2. Чиновники-евреи будут уволены до 31 декабря 193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1. Евреем считается лицо, среди предков которого во втором поколении (бабки и деды) имелось не менее трех лиц еврейской расы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2. "Митлинг", который является государственным подданным, также считается евреем, если он происходит от двух еврейских пред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1196640"/>
            <a:ext cx="4211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 1937 году нацисты начали отправлять евреев в концентрационные лагер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40360" y="981000"/>
            <a:ext cx="500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8320" y="404640"/>
            <a:ext cx="44956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ночь на 4 ноября 1938 г. произошел еврейский погром, вошедший в историю как «Хрустальная ночь» (ночь битых стекол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608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7960" y="476280"/>
            <a:ext cx="42447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огда погибли около 100 000 евреев. Более 30 тысяч евреев после этого были отправлены в концентрационные лаге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608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торая мировая война и Холок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Гетто» -охраняемые немецкими нацистами или поддерживающими их режим местными националистами жилые зоны, находящиеся на оккупированных территориях, куда насильственно перемещались евреи для компактного прож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3164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333360"/>
            <a:ext cx="40384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торжение гитлеровской армии в СССР 22 июня 1941г. - новый этап антиеврейской политики фашистов. На оккупированные территории Советского Союза вступали мобильные подразделения – айнзацгрупп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32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Зарождение антисемитизма в Германи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Холокос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(с греч. яз.  Holocaust «всесожжение» ) - обозначение массовых убийств евреев, цыган, славян  в 1933 - 1945 гг. фаши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8320" y="2279520"/>
            <a:ext cx="4038480" cy="31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435280" y="333000"/>
            <a:ext cx="3708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9-30 сентября 1941 г. в Бабьем Яре, на окраине Киева, были расстреляны десятки тысяч евре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5545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7788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д Бабьим Яром памятников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рутой обрыв, как грубое надгроб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не страшно. Мне сегодня столько л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ак самому еврейскому нар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не кажется, что Дрейфус - это 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ещанство - мой доносчик и суд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 за решеткой. Я попал в кольц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травленный, оплеванный, оболган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 дамочки с брюссельскими оборк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изжа, зонтами тычут мне в лиц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не кажется - я мальчик в Белосто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ровь льется, растекаясь по по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Бесчинствуют вожди трактирной стой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 пахнут водкой с луком попо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, сапогом отброшенный, бессил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прасно я погромщиков мо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од гогот: "Бей жидов, спасай Россию!"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силует лабазник мать м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, русский мой народ! - Я знаю -  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о сущности интернационал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о часто те, чьи руки нечис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Твоим чистейшим именем бряц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 знаю доброту твоей зем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ак подло, что, и жилочкой не дрогну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Антисемиты пышно нарек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ебя "Союзом русского народа"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не кажется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д Бабьим Яром шелест диких тра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ревья смотрят грозно, по-судей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се молча здесь кричит, и, шапку сня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 чувствую, как медленно седе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 сам я, как сплошной беззвучный кри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д тысячами тысяч погребе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 - каждый здесь расстрелянный стар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 -  каждый здесь расстрелянный реб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ичто во мне про это не забуд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"Интернационал« пусть прогреми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огда навеки похоронен буд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оследний на земле антисем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Еврейской крови нет в крови мо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о ненавистен злобой заскорузл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 всем антисемитам,  как евр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 потому - я настоящий русски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1942 г. было решено создать в Польше шесть лагерей смерти, куда депортировать еврейское население Европы (Треблинка, Хелм, Собибор, Майданек, Освенцим и Белжец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свенц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960720" cy="2664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89400" y="1197000"/>
            <a:ext cx="3703680" cy="2589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5280" y="3938760"/>
            <a:ext cx="3960720" cy="265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148360" y="3938760"/>
            <a:ext cx="37447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айдан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887640" cy="287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4156200"/>
            <a:ext cx="3816360" cy="244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42000" y="1197000"/>
            <a:ext cx="4051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Требл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638520" cy="525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176720" cy="2517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43280" y="3938760"/>
            <a:ext cx="41054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би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673440" cy="5689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4010040"/>
            <a:ext cx="4032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мимо евреев  в концлагеря попадали солдаты Красной армии и гражданские лица СССР, плененные фашистам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097440" cy="3597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0" y="3938760"/>
            <a:ext cx="4392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40360" y="3716280"/>
            <a:ext cx="47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4752720" cy="3265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345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3164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7 января 1945 г. солдаты Красной Армии освободили узников Освенци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Эту дату принято считать окончанием холоко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889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4832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Холокост - это наконечник на выструганной веками стреле антисемитизма…" (Л. Коваль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392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а период холокоста (1933 – 1945 гг.) было уничтожено 16 000 000 военных и гражданских ли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37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Итоги Холоко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 000 000 евре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 000 000 русс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 000 000 украин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 500 000 белорусов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836640"/>
            <a:ext cx="4038480" cy="286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62560" y="3976560"/>
            <a:ext cx="4681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енеральная Ассамблея ООН провозгласила 27 января, день освобождения Освенцима, Международным днём памяти жертв холок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32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есть миллионов евреев – расстрелянных, удушенных в газов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есть миллионов – и каждый в отд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 – память, противящаяся забв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 – зов людей к взаимной близости, недоступной без запрета на убий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 – убеждение: НЕТ ГЕНОЦИДА ПРОТИВ «КОГО-ТО», ГЕНОЦИД ВСЕГДА ПРОТИВ ВСЕ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т что означает ХОЛОК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хаил Гефтер, «Эхо Холок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5112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"Память о Холокосте необходима, чтобы наши дети никогда не были жертвами, палачами или равнодушными наблюдателями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. Бауэ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Антисемитиз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- вид национальной нетерпимости, враждебное отношение к евреям как народ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541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"Антисемитизм - это международный язык фашистов" (И. Эренбург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2544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Юдофоби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- дословно "страх перед евреем" - нетерпимость к евреям, синоним антисеми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969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Геноци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– уничтожение или преследование людей по признаку определенной общности или происхож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836640"/>
            <a:ext cx="439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шизм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– реакционное политическое течение, возникшее в ряде стран после Первой мировой во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51280" y="1197000"/>
            <a:ext cx="5041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шиз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-  форма тоталитаризма, открыто террористическая диктатура, уничтожающая демократические права и свободы, опирающаяся на прямое насилие, рас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8243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03:57:46Z</dcterms:created>
  <dc:creator>Admin</dc:creator>
  <dc:description/>
  <dc:language>en-US</dc:language>
  <cp:lastModifiedBy>Admin</cp:lastModifiedBy>
  <dcterms:modified xsi:type="dcterms:W3CDTF">2002-03-05T13:10:21Z</dcterms:modified>
  <cp:revision>9</cp:revision>
  <dc:subject/>
  <dc:title>Холокост – помнить или забыть?</dc:title>
</cp:coreProperties>
</file>