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11.png" ContentType="image/png"/>
  <Override PartName="/ppt/media/image42.jpeg" ContentType="image/jpeg"/>
  <Override PartName="/ppt/media/image19.jpeg" ContentType="image/jpeg"/>
  <Override PartName="/ppt/media/image30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38.jpeg" ContentType="image/jpeg"/>
  <Override PartName="/ppt/media/image31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62F7-0E67-407C-B0A7-7D4120D519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140A-AEAB-4CAA-BB81-B1D2E9D101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51C0-DBAF-4BB5-BD0D-1459A62966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A24F-00DE-47BE-B074-84005F2857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3C35-A75A-480D-B4C0-BDB5DC6FA5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2AC7-1E9A-45A1-B02A-AA94692412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8F1A-41CB-4AE3-8D51-35C8CB122A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5222-7C7D-4018-8DE9-72890115BC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370C-B5E5-489B-86F0-F9458F692B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3BA3-2466-4E45-8CB0-50A04FC0CE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C3B9-5754-49B0-AE4C-4EE47B8D40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33F0-A5E9-432D-BCA7-D451CCABEF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E316-6C64-49B8-8CA3-00DE7868E9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A0DB-CF84-4A30-AF88-6176A9426D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15B7-5626-4475-99EF-A85DE5FD9C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16E2-C661-4331-815A-17B6282F1D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1385-3629-4756-B315-63958238E1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F59D-C333-4BE4-8C34-1513E8B575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F287-6EE6-490E-A6AE-11CC6B63FD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D3E3-8C7F-485F-979E-A6B6E3B593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A65C-D75A-4A10-A745-B3562F178C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EB0-EABC-483D-B586-A2AD62FA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F51-EE5E-4EAC-958C-C3C1C85F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24B-6D67-4788-9EEC-BC60E5A5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4D1-A25F-4F10-AC7A-8603E833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B1E5-7069-482A-9404-89FBA110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0B29-9BE1-4933-ACCB-B45239CD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3E5A-79A2-43B3-B885-5242898C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A85C-C209-4B42-ACAF-9E48B254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D247-8812-443E-BA25-47A5118F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9AF7-02C1-4F99-B1DE-E419E05B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6D2B-5E2C-4C7A-9F92-77AA7170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0B5-26B2-4C96-856C-59FAF243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077E-F7CC-4869-B61C-F604739E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D894-1DB6-496D-8A1B-2CF308EA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7D1D-F5FD-4E1D-BAB5-F235A64C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82F5-6A7E-4889-B992-02ECD479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009B-61A0-4C5F-9301-3E5F9EA0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E9D-B0A0-4C11-BEEC-ABEB13F5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E3D-F346-46B4-99F6-0C7EF7E2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40F-173D-4BDE-96F4-70643076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0D1-3CC0-48AD-A0BA-09CCF8D3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4A5-9648-4A6F-A71F-C003D792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6F0-604B-4E3E-B289-9B33FE3B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D04-D229-4828-9177-7AA53EF2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DEA9-710D-4E29-9039-310C262EC1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0BB6-59EF-4AF9-B677-5CA0868B2E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к уроку «Окружающий мир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 учебнику «Мир вокруг нас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. А. Плешаков 2 клас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ла: 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У «Бережковская основная общеобразовательная школ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АУТИНА ВЕРА АЛЕКСЕ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634360" cy="1470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то животные воздушного пространства, тело котор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рыто перья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527040" y="244440"/>
            <a:ext cx="8244000" cy="1432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359640" y="2142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НЫЙ АИ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278880" y="26028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СНЫЙ КОРШУ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020000" y="26028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ИН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Содержимое 3" descr="251.jpg"/>
          <p:cNvPicPr/>
          <p:nvPr/>
        </p:nvPicPr>
        <p:blipFill>
          <a:blip r:embed="rId1"/>
          <a:stretch/>
        </p:blipFill>
        <p:spPr>
          <a:xfrm>
            <a:off x="179280" y="765000"/>
            <a:ext cx="2583000" cy="258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Пользователь\Мои документы\Мои рисунки\272.jpg"/>
          <p:cNvPicPr/>
          <p:nvPr/>
        </p:nvPicPr>
        <p:blipFill>
          <a:blip r:embed="rId2"/>
          <a:stretch/>
        </p:blipFill>
        <p:spPr>
          <a:xfrm>
            <a:off x="3132000" y="765000"/>
            <a:ext cx="2880000" cy="258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Пользователь\Мои документы\Мои рисунки\345.jpg"/>
          <p:cNvPicPr/>
          <p:nvPr/>
        </p:nvPicPr>
        <p:blipFill>
          <a:blip r:embed="rId3"/>
          <a:stretch/>
        </p:blipFill>
        <p:spPr>
          <a:xfrm>
            <a:off x="6300720" y="765000"/>
            <a:ext cx="2664000" cy="259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Пользователь\Мои документы\Мои рисунки\338.jpg"/>
          <p:cNvPicPr/>
          <p:nvPr/>
        </p:nvPicPr>
        <p:blipFill>
          <a:blip r:embed="rId4"/>
          <a:stretch/>
        </p:blipFill>
        <p:spPr>
          <a:xfrm>
            <a:off x="1258920" y="4149720"/>
            <a:ext cx="278604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:\Documents and Settings\Пользователь\Мои документы\Мои рисунки\283.jpg"/>
          <p:cNvPicPr/>
          <p:nvPr/>
        </p:nvPicPr>
        <p:blipFill>
          <a:blip r:embed="rId5"/>
          <a:stretch/>
        </p:blipFill>
        <p:spPr>
          <a:xfrm>
            <a:off x="5076720" y="414972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2"/>
          <p:cNvSpPr/>
          <p:nvPr/>
        </p:nvSpPr>
        <p:spPr>
          <a:xfrm>
            <a:off x="1478880" y="357336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ЛАЯ ЧАЙКА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11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КУТ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Это водные животные, тело которых покрыто чешуё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527040" y="244440"/>
            <a:ext cx="8244000" cy="1432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Пользователь\Мои документы\Мои рисунки\171.jpg"/>
          <p:cNvPicPr/>
          <p:nvPr/>
        </p:nvPicPr>
        <p:blipFill>
          <a:blip r:embed="rId1"/>
          <a:stretch/>
        </p:blipFill>
        <p:spPr>
          <a:xfrm>
            <a:off x="395280" y="765000"/>
            <a:ext cx="3048120" cy="2438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Documents and Settings\Пользователь\Мои документы\Мои рисунки\168.jpg"/>
          <p:cNvPicPr/>
          <p:nvPr/>
        </p:nvPicPr>
        <p:blipFill>
          <a:blip r:embed="rId2"/>
          <a:stretch/>
        </p:blipFill>
        <p:spPr>
          <a:xfrm>
            <a:off x="4859280" y="765000"/>
            <a:ext cx="3048120" cy="2438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Пользователь\Мои документы\Мои рисунки\197.jpg"/>
          <p:cNvPicPr/>
          <p:nvPr/>
        </p:nvPicPr>
        <p:blipFill>
          <a:blip r:embed="rId3"/>
          <a:stretch/>
        </p:blipFill>
        <p:spPr>
          <a:xfrm>
            <a:off x="1258920" y="4221000"/>
            <a:ext cx="3048120" cy="2438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Documents and Settings\Пользователь\Мои документы\Мои рисунки\201.jpg"/>
          <p:cNvPicPr/>
          <p:nvPr/>
        </p:nvPicPr>
        <p:blipFill>
          <a:blip r:embed="rId4"/>
          <a:stretch/>
        </p:blipFill>
        <p:spPr>
          <a:xfrm>
            <a:off x="5867280" y="4221000"/>
            <a:ext cx="3048120" cy="2438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612720" y="189000"/>
            <a:ext cx="24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ЕРНЫЙ ЛОСОСЬ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4934880" y="1890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ЖСКАЯ СЕЛЬДЬ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261440" y="3500280"/>
            <a:ext cx="19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НЫЙ АМУР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5869080" y="3500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М СОЛДАТО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животные, у которых шесть но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527040" y="244440"/>
            <a:ext cx="8244000" cy="1432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C:\Documents and Settings\Пользователь\Мои документы\Мои рисунки\081.jpg"/>
          <p:cNvPicPr/>
          <p:nvPr/>
        </p:nvPicPr>
        <p:blipFill>
          <a:blip r:embed="rId1"/>
          <a:stretch/>
        </p:blipFill>
        <p:spPr>
          <a:xfrm>
            <a:off x="1042920" y="765000"/>
            <a:ext cx="3048120" cy="2438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Documents and Settings\Пользователь\Мои документы\Мои рисунки\145.jpg"/>
          <p:cNvPicPr/>
          <p:nvPr/>
        </p:nvPicPr>
        <p:blipFill>
          <a:blip r:embed="rId2"/>
          <a:stretch/>
        </p:blipFill>
        <p:spPr>
          <a:xfrm>
            <a:off x="5508720" y="765000"/>
            <a:ext cx="3047760" cy="2438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Documents and Settings\Пользователь\Мои документы\Мои рисунки\120.jpg"/>
          <p:cNvPicPr/>
          <p:nvPr/>
        </p:nvPicPr>
        <p:blipFill>
          <a:blip r:embed="rId3"/>
          <a:stretch/>
        </p:blipFill>
        <p:spPr>
          <a:xfrm>
            <a:off x="468360" y="4221000"/>
            <a:ext cx="3048120" cy="2438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Documents and Settings\Пользователь\Мои документы\Мои рисунки\091.jpg"/>
          <p:cNvPicPr/>
          <p:nvPr/>
        </p:nvPicPr>
        <p:blipFill>
          <a:blip r:embed="rId4"/>
          <a:stretch/>
        </p:blipFill>
        <p:spPr>
          <a:xfrm>
            <a:off x="4427640" y="4221000"/>
            <a:ext cx="3168720" cy="2438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1547640" y="18900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УК - ОЛЕНЬ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5439600" y="189000"/>
            <a:ext cx="26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ЛУБЯНКА АРГА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760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УЛУПЧАТЫЙ ШМ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358160" y="357336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ЛОУСЫЙ ДРОВОСЕ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Это животные, которые живут и на земле, и в воде; и у них тонкая и голая кож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527040" y="244440"/>
            <a:ext cx="8244000" cy="1432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Пользователь\Мои документы\Мои рисунки\209.jpg"/>
          <p:cNvPicPr/>
          <p:nvPr/>
        </p:nvPicPr>
        <p:blipFill>
          <a:blip r:embed="rId1"/>
          <a:stretch/>
        </p:blipFill>
        <p:spPr>
          <a:xfrm>
            <a:off x="4716360" y="765000"/>
            <a:ext cx="3048120" cy="2438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Documents and Settings\Пользователь\Мои документы\Мои рисунки\212.jpg"/>
          <p:cNvPicPr/>
          <p:nvPr/>
        </p:nvPicPr>
        <p:blipFill>
          <a:blip r:embed="rId2"/>
          <a:stretch/>
        </p:blipFill>
        <p:spPr>
          <a:xfrm>
            <a:off x="785880" y="292896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Пользователь\Мои документы\Мои рисунки\210.jpg"/>
          <p:cNvPicPr/>
          <p:nvPr/>
        </p:nvPicPr>
        <p:blipFill>
          <a:blip r:embed="rId3"/>
          <a:stretch/>
        </p:blipFill>
        <p:spPr>
          <a:xfrm>
            <a:off x="4788000" y="4221000"/>
            <a:ext cx="3047760" cy="24386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3927600" y="189000"/>
            <a:ext cx="44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СУРИЙСКИЙ КОГТИСТЫЙ ТРИТОН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86160" y="242100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МЫШОВАЯ Ж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644720" y="378936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ВКАЗСКАЯ КРЕСТОВ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7720" y="2708280"/>
            <a:ext cx="80074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животные, у которых сухая кожа, покрытая роговыми чешуй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43640" cy="1432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nts and Settings\Пользователь\Мои документы\Мои рисунки\234.jpg"/>
          <p:cNvPicPr/>
          <p:nvPr/>
        </p:nvPicPr>
        <p:blipFill>
          <a:blip r:embed="rId1"/>
          <a:stretch/>
        </p:blipFill>
        <p:spPr>
          <a:xfrm>
            <a:off x="611280" y="83664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C:\Documents and Settings\Пользователь\Мои документы\Мои рисунки\220.jpg"/>
          <p:cNvPicPr/>
          <p:nvPr/>
        </p:nvPicPr>
        <p:blipFill>
          <a:blip r:embed="rId2"/>
          <a:stretch/>
        </p:blipFill>
        <p:spPr>
          <a:xfrm>
            <a:off x="5148360" y="907920"/>
            <a:ext cx="3047760" cy="2438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Documents and Settings\Пользователь\Мои документы\Мои рисунки\214.jpg"/>
          <p:cNvPicPr/>
          <p:nvPr/>
        </p:nvPicPr>
        <p:blipFill>
          <a:blip r:embed="rId3"/>
          <a:stretch/>
        </p:blipFill>
        <p:spPr>
          <a:xfrm>
            <a:off x="2627280" y="4221000"/>
            <a:ext cx="3048120" cy="24386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7"/>
          <p:cNvSpPr/>
          <p:nvPr/>
        </p:nvSpPr>
        <p:spPr>
          <a:xfrm>
            <a:off x="1260720" y="26028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ЮРЗА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5079600" y="333360"/>
            <a:ext cx="26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 ЯЩЕРИЦ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2127960" y="35733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ЬНЕВОСТОЧНАЯ ЧЕРЕПАХА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с состоит как бы из трёх ярусов- деревья, кустарники и травы. Лес называют «лёгкими» планеты, потому что лес- это фабрика, по выделению кислорода для жизни человека, животных. Чем больше мы будем высаживать деревьев, чем меньше вырубать лесов, тем чище будет воздух на нашей план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1897200" y="260280"/>
            <a:ext cx="5359320" cy="1354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Растения не любят одиночества. Они собираются большими группами или сообщества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 каждом природном сообществе- свой, особый мир его обитателей: растений, животных, других живых организм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Невидимые нити- это связи, которые есть в природе повсюду. Связаны между собой неживая и живая природа, растения и животные. Да и человек тысячами нитей связан с окружающей природо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85120" cy="11127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527040" y="244440"/>
            <a:ext cx="8244000" cy="1432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286080" y="521496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59"/>
                </a:solidFill>
                <a:latin typeface="Arial"/>
              </a:rPr>
              <a:t>КУСТАР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715080" y="342900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59"/>
                </a:solidFill>
                <a:latin typeface="Arial"/>
              </a:rPr>
              <a:t>ТРА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85880" y="342900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59"/>
                </a:solidFill>
                <a:latin typeface="Arial"/>
              </a:rPr>
              <a:t>ДЕРЕВЬ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2410920" y="1844640"/>
            <a:ext cx="79236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4643280" y="1844640"/>
            <a:ext cx="46080" cy="3156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6143760" y="1857240"/>
            <a:ext cx="785520" cy="1357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них есть один большой ствол, покрытый корой, от которого отходят вет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527040" y="244440"/>
            <a:ext cx="8244000" cy="143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images-0.moifoto.ru/foto/big/969246adu.jpg"/>
          <p:cNvPicPr/>
          <p:nvPr/>
        </p:nvPicPr>
        <p:blipFill>
          <a:blip r:embed="rId2"/>
          <a:stretch/>
        </p:blipFill>
        <p:spPr>
          <a:xfrm>
            <a:off x="539640" y="2997360"/>
            <a:ext cx="3786120" cy="3641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images-0.moifoto.ru/foto/big/806300itm.jpg"/>
          <p:cNvPicPr/>
          <p:nvPr/>
        </p:nvPicPr>
        <p:blipFill>
          <a:blip r:embed="rId3"/>
          <a:stretch/>
        </p:blipFill>
        <p:spPr>
          <a:xfrm>
            <a:off x="4643280" y="2997360"/>
            <a:ext cx="3976920" cy="3641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228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них есть несколько тонких ство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жевельник.                          Лещина.                              Шип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527040" y="244440"/>
            <a:ext cx="8244000" cy="143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Можжевельник"/>
          <p:cNvPicPr/>
          <p:nvPr/>
        </p:nvPicPr>
        <p:blipFill>
          <a:blip r:embed="rId2"/>
          <a:stretch/>
        </p:blipFill>
        <p:spPr>
          <a:xfrm>
            <a:off x="468360" y="3716280"/>
            <a:ext cx="2389320" cy="286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Пользователь\Мои документы\Мои рисунки\orehi.gif"/>
          <p:cNvPicPr/>
          <p:nvPr/>
        </p:nvPicPr>
        <p:blipFill>
          <a:blip r:embed="rId3"/>
          <a:stretch/>
        </p:blipFill>
        <p:spPr>
          <a:xfrm>
            <a:off x="3132000" y="3716280"/>
            <a:ext cx="2581560" cy="288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sonnikprosnispoi.boom.ru/zvet/Rosa_canina2.jpg"/>
          <p:cNvPicPr/>
          <p:nvPr/>
        </p:nvPicPr>
        <p:blipFill>
          <a:blip r:embed="rId4"/>
          <a:stretch/>
        </p:blipFill>
        <p:spPr>
          <a:xfrm>
            <a:off x="6084720" y="3716280"/>
            <a:ext cx="2532240" cy="288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527040" y="244440"/>
            <a:ext cx="8244000" cy="96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Пользователь\Мои документы\Мои рисунки\123.jpg"/>
          <p:cNvPicPr/>
          <p:nvPr/>
        </p:nvPicPr>
        <p:blipFill>
          <a:blip r:embed="rId2"/>
          <a:stretch/>
        </p:blipFill>
        <p:spPr>
          <a:xfrm>
            <a:off x="3348000" y="3429000"/>
            <a:ext cx="2381400" cy="2981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Documents and Settings\Пользователь\Мои документы\Мои рисунки\311.jpg"/>
          <p:cNvPicPr/>
          <p:nvPr/>
        </p:nvPicPr>
        <p:blipFill>
          <a:blip r:embed="rId3"/>
          <a:stretch/>
        </p:blipFill>
        <p:spPr>
          <a:xfrm>
            <a:off x="468360" y="3429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Венерин башмак"/>
          <p:cNvPicPr/>
          <p:nvPr/>
        </p:nvPicPr>
        <p:blipFill>
          <a:blip r:embed="rId4"/>
          <a:stretch/>
        </p:blipFill>
        <p:spPr>
          <a:xfrm>
            <a:off x="6084720" y="3429000"/>
            <a:ext cx="2594160" cy="3003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3925440" y="2708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вероб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41080" y="2708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яника лес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6230880" y="263700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ерин башмач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42960" y="1785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них есть травянистые сте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6fb56d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ВЕРИ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ПТИЦЫ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ЫБЫ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НАСЕКОМЫ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99cc"/>
                </a:solidFill>
                <a:latin typeface="Arial"/>
              </a:rPr>
              <a:t>ЗЕМНОВОДНЫ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ПРЕСМЫКАЮЩИЕ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527040" y="244440"/>
            <a:ext cx="8244000" cy="1432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                </a:t>
            </a: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ЗВЕР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 животные, тело которых покрыто шерсть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828720" y="333360"/>
            <a:ext cx="21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СНЫЙ ВОЛК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870160" y="33336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ЛЫЙ МЕДВЕДЬ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634200" y="324648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ЧНОЙ БО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300720" y="378936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УРСКИЙ ТИГР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68360" y="37893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УРСКИЙ ЕЖ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C:\Documents and Settings\Пользователь\Мои документы\Мои рисунки\380.jpg"/>
          <p:cNvPicPr/>
          <p:nvPr/>
        </p:nvPicPr>
        <p:blipFill>
          <a:blip r:embed="rId1"/>
          <a:stretch/>
        </p:blipFill>
        <p:spPr>
          <a:xfrm>
            <a:off x="714240" y="78588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Пользователь\Мои документы\Мои рисунки\381.jpg"/>
          <p:cNvPicPr/>
          <p:nvPr/>
        </p:nvPicPr>
        <p:blipFill>
          <a:blip r:embed="rId2"/>
          <a:stretch/>
        </p:blipFill>
        <p:spPr>
          <a:xfrm>
            <a:off x="5572080" y="857160"/>
            <a:ext cx="2786040" cy="223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Пользователь\Мои документы\Мои рисунки\361.jpg"/>
          <p:cNvPicPr/>
          <p:nvPr/>
        </p:nvPicPr>
        <p:blipFill>
          <a:blip r:embed="rId3"/>
          <a:stretch/>
        </p:blipFill>
        <p:spPr>
          <a:xfrm>
            <a:off x="179280" y="4365720"/>
            <a:ext cx="2678400" cy="2144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Documents and Settings\Пользователь\Мои документы\Мои рисунки\374.jpg"/>
          <p:cNvPicPr/>
          <p:nvPr/>
        </p:nvPicPr>
        <p:blipFill>
          <a:blip r:embed="rId4"/>
          <a:stretch/>
        </p:blipFill>
        <p:spPr>
          <a:xfrm>
            <a:off x="3059280" y="3789360"/>
            <a:ext cx="2776320" cy="2222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Пользователь\Мои документы\Мои рисунки\391.jpg"/>
          <p:cNvPicPr/>
          <p:nvPr/>
        </p:nvPicPr>
        <p:blipFill>
          <a:blip r:embed="rId5"/>
          <a:stretch/>
        </p:blipFill>
        <p:spPr>
          <a:xfrm>
            <a:off x="6084720" y="4365720"/>
            <a:ext cx="2786400" cy="22287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1:08:49Z</dcterms:created>
  <dc:creator>Пользователь</dc:creator>
  <dc:description/>
  <dc:language>en-US</dc:language>
  <cp:lastModifiedBy>Пользователь</cp:lastModifiedBy>
  <dcterms:modified xsi:type="dcterms:W3CDTF">2007-10-23T20:52:01Z</dcterms:modified>
  <cp:revision>13</cp:revision>
  <dc:subject/>
  <dc:title>Слайд 1</dc:title>
</cp:coreProperties>
</file>