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518-3D28-4A9D-9A99-D756B86F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32C-0FD7-4F43-B5E1-4634B6AD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41D-2F5D-4632-860A-F92E15A1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497-7D33-4972-B9C2-93CAD3CD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A4F6-3237-4321-A331-B6EBC1AE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EFD1-AB5E-4BD9-9817-1C393689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A42F-D347-487B-82D0-2439A19F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1267-BB0E-4919-A15F-DDEF97DC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220D-756F-4346-A0EB-4493970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E6F5-0700-4E1C-8E84-69A17766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2990-A939-4271-9109-84EAFFA6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314-0884-43FB-9ABB-1AFF0325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8302-CDAD-4F89-8885-0B58F17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9BB8-3A33-4756-B1F2-E3ABC136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8945-9A24-452E-A95A-FA183EEE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5F90-E244-4A23-B750-1EBE95CB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C0D3-3D2D-4E19-8019-63F339B7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009-9D82-4AFE-9429-19927A55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DC8-198A-4438-84E2-FA70617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B30-5112-4456-A4EA-B694B8A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CEC-3C19-4883-BE76-D2708EC9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FB1-DBF0-4112-9CFA-2F75A7FD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C2F-B41C-4445-9BCC-FB9C0D83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BBF-38E5-42C1-8684-0A70E98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2664-BC47-4BB2-ADC5-E2A216595FA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28F9-0109-4076-B057-027D8F512C1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12500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Компетентностный подход в образовании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66680" y="333360"/>
            <a:ext cx="7543440" cy="5762160"/>
            <a:chOff x="1066680" y="333360"/>
            <a:chExt cx="7543440" cy="5762160"/>
          </a:xfrm>
        </p:grpSpPr>
        <p:cxnSp>
          <p:nvCxnSpPr>
            <p:cNvPr id="129" name="_s81926"/>
            <p:cNvCxnSpPr>
              <a:stCxn id="130" idx="0"/>
              <a:endCxn id="131" idx="1"/>
            </p:cNvCxnSpPr>
            <p:nvPr/>
          </p:nvCxnSpPr>
          <p:spPr>
            <a:xfrm flipV="1">
              <a:off x="6869520" y="3934440"/>
              <a:ext cx="2160" cy="72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_s81927"/>
            <p:cNvCxnSpPr>
              <a:stCxn id="133" idx="0"/>
              <a:endCxn id="134" idx="1"/>
            </p:cNvCxnSpPr>
            <p:nvPr/>
          </p:nvCxnSpPr>
          <p:spPr>
            <a:xfrm flipV="1">
              <a:off x="2806920" y="3934440"/>
              <a:ext cx="2520" cy="72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_s81928"/>
            <p:cNvCxnSpPr>
              <a:stCxn id="131" idx="0"/>
              <a:endCxn id="136" idx="1"/>
            </p:cNvCxnSpPr>
            <p:nvPr/>
          </p:nvCxnSpPr>
          <p:spPr>
            <a:xfrm flipV="1" rot="16200000">
              <a:off x="5493240" y="1117800"/>
              <a:ext cx="721080" cy="2031480"/>
            </a:xfrm>
            <a:prstGeom prst="bentConnector3">
              <a:avLst>
                <a:gd name="adj1" fmla="val 1663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_s81929"/>
            <p:cNvCxnSpPr>
              <a:stCxn id="134" idx="0"/>
              <a:endCxn id="136" idx="0"/>
            </p:cNvCxnSpPr>
            <p:nvPr/>
          </p:nvCxnSpPr>
          <p:spPr>
            <a:xfrm flipH="1" flipV="1" rot="5400000">
              <a:off x="3462480" y="1117800"/>
              <a:ext cx="721080" cy="2031840"/>
            </a:xfrm>
            <a:prstGeom prst="bentConnector3">
              <a:avLst>
                <a:gd name="adj1" fmla="val 1663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6" name="_s81930"/>
            <p:cNvSpPr/>
            <p:nvPr/>
          </p:nvSpPr>
          <p:spPr>
            <a:xfrm>
              <a:off x="3097440" y="333360"/>
              <a:ext cx="3481560" cy="1440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00"/>
                </a:gs>
                <a:gs pos="50000">
                  <a:srgbClr val="ffffff"/>
                </a:gs>
                <a:gs pos="100000">
                  <a:srgbClr val="cccc00"/>
                </a:gs>
              </a:gsLst>
              <a:lin ang="8100000"/>
            </a:gra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ahoma"/>
                </a:rPr>
                <a:t>Компетенци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81931"/>
            <p:cNvSpPr/>
            <p:nvPr/>
          </p:nvSpPr>
          <p:spPr>
            <a:xfrm>
              <a:off x="1066680" y="2494440"/>
              <a:ext cx="3481560" cy="1440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9999"/>
                </a:gs>
                <a:gs pos="50000">
                  <a:srgbClr val="ffffff"/>
                </a:gs>
                <a:gs pos="100000">
                  <a:srgbClr val="669999"/>
                </a:gs>
              </a:gsLst>
              <a:lin ang="8100000"/>
            </a:gradFill>
            <a:ln w="3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60093"/>
                  </a:solidFill>
                  <a:latin typeface="Tahoma"/>
                </a:rPr>
                <a:t>Ключ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81932"/>
            <p:cNvSpPr/>
            <p:nvPr/>
          </p:nvSpPr>
          <p:spPr>
            <a:xfrm>
              <a:off x="5128560" y="2494440"/>
              <a:ext cx="3481560" cy="1440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9999"/>
                </a:gs>
                <a:gs pos="50000">
                  <a:srgbClr val="ffffff"/>
                </a:gs>
                <a:gs pos="100000">
                  <a:srgbClr val="669999"/>
                </a:gs>
              </a:gsLst>
              <a:lin ang="8100000"/>
            </a:gradFill>
            <a:ln w="3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d60093"/>
                  </a:solidFill>
                  <a:latin typeface="Tahoma"/>
                </a:rPr>
                <a:t>Профессион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81933"/>
            <p:cNvSpPr/>
            <p:nvPr/>
          </p:nvSpPr>
          <p:spPr>
            <a:xfrm>
              <a:off x="1066680" y="4655160"/>
              <a:ext cx="3481560" cy="1440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e9ce8"/>
                </a:gs>
                <a:gs pos="50000">
                  <a:srgbClr val="ffffff"/>
                </a:gs>
                <a:gs pos="100000">
                  <a:srgbClr val="7e9ce8"/>
                </a:gs>
              </a:gsLst>
              <a:lin ang="8100000"/>
            </a:gradFill>
            <a:ln w="32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ahoma"/>
                </a:rPr>
                <a:t>Информацион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ahoma"/>
                </a:rPr>
                <a:t>Коммуникатив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ahoma"/>
                </a:rPr>
                <a:t>Кооператив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ahoma"/>
                </a:rPr>
                <a:t>Проблем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81934"/>
            <p:cNvSpPr/>
            <p:nvPr/>
          </p:nvSpPr>
          <p:spPr>
            <a:xfrm>
              <a:off x="5128560" y="4655160"/>
              <a:ext cx="3481560" cy="1440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7e9ce8"/>
                </a:gs>
                <a:gs pos="50000">
                  <a:srgbClr val="ffffff"/>
                </a:gs>
                <a:gs pos="100000">
                  <a:srgbClr val="7e9ce8"/>
                </a:gs>
              </a:gsLst>
              <a:lin ang="8100000"/>
            </a:gradFill>
            <a:ln w="32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2" marL="914400"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ahoma"/>
                </a:rPr>
                <a:t>Баз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66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ahoma"/>
                </a:rPr>
                <a:t>Функцион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Наиболее полный набор  ключевых компетенций  разработал А.В.Хуторской, который представил их в 4-х основных группах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25760" y="2203200"/>
            <a:ext cx="691488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нностно-смысловые компетен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ебно-познавательные, информационные, коммуникативные, социально-трудо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екультур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петенции личностного самосовершенство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Школьные компетенции, формируемые при изучении предметов естественно-научного цик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нформационная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( самостоятельно искать, анализировать и отбират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формацию, структуировать, преобразовывать,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хранять и передавать её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оммуникативная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( сотрудничать, оказывать помощь другим,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аствовать в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боте команды, обмениваться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формацией)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чебно-познавательная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определять цели  и порядок работы,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амостоятельно  планировать свою  учебную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еятельность  и учиться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станавливать связи между отдельными объектам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менять освоенные способы в новых ситуациях,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существлять самоконтроль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Личностног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амосовершенствова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 анализировать свои достижения и ошибки,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наруживать проблемы и затруднения в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общениях одноклассников, осуществля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заимную помощь и поддержку в затруднительны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итуациях, критически оценивать результаты своей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еятельности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ТРУКТУРА КОМПЕТЕН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48440" y="2060640"/>
            <a:ext cx="7929720" cy="3192480"/>
            <a:chOff x="748440" y="2060640"/>
            <a:chExt cx="7929720" cy="3192480"/>
          </a:xfrm>
        </p:grpSpPr>
        <p:sp>
          <p:nvSpPr>
            <p:cNvPr id="145" name=""/>
            <p:cNvSpPr/>
            <p:nvPr/>
          </p:nvSpPr>
          <p:spPr>
            <a:xfrm>
              <a:off x="748440" y="2060640"/>
              <a:ext cx="707760" cy="31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с и т у а ц и 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6560" y="3656880"/>
              <a:ext cx="70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4680" y="3124800"/>
              <a:ext cx="1274040" cy="12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ff0000"/>
                  </a:solidFill>
                  <a:latin typeface="Tahoma"/>
                </a:rPr>
                <a:t>Мобил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ahoma"/>
                </a:rPr>
                <a:t>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r>
                <a:rPr b="0" lang="ru-RU" sz="1800" spc="-1" strike="noStrike">
                  <a:solidFill>
                    <a:srgbClr val="ff0000"/>
                  </a:solidFill>
                  <a:latin typeface="Tahoma"/>
                </a:rPr>
                <a:t>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38720" y="3656880"/>
              <a:ext cx="56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5360" y="3124800"/>
              <a:ext cx="1699200" cy="12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Сам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управл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4560" y="3834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04560" y="3656880"/>
              <a:ext cx="70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12680" y="3124800"/>
              <a:ext cx="2265480" cy="12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ahoma"/>
                </a:rPr>
                <a:t>Ресурсный паке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ahoma"/>
                </a:rPr>
                <a:t>(внутренние и внешние ресурсы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Н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УМЕ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НАВЫ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ОПЫТ ДЕЯТЕЛЬ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333360"/>
          <a:ext cx="8070840" cy="5904000"/>
        </p:xfrm>
        <a:graphic>
          <a:graphicData uri="http://schemas.openxmlformats.org/drawingml/2006/table">
            <a:tbl>
              <a:tblPr/>
              <a:tblGrid>
                <a:gridCol w="2376720"/>
                <a:gridCol w="2663640"/>
                <a:gridCol w="30304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 для срав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кадемические учебные предме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мпетентностные учебные предмет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это за предметы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 Биология География Химия Физика Математика Литера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ествознание, право, граждановедение Экономика Экология Технология Информатика Иностранные языки ОБЖ Русский язык (развитие реч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составляет основу их содержания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уки, теоретические зн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преобладает знаниевое содержание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ы практической деятельности человека ( преобладает деятельностное содержание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а возможность реализации компетентностного подхода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я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а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ими средствами можно формировать ключевые компетенци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бором компетентностныформ и методов обуч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кцентированием прикладных аспектов содержа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теграцией с учебными предметами   компетентностной групп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бором     компетентностных форм и методов обуч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блематизацией содержания в контексте сегодняшней и завтрашней жизни учащихс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изацией внеурочной социальной практики по предмета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оцениваются результаты обучения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замен или те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оценка ЗУНов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ртфоли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оценка достижений и продуктов деятельности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ва общая роль группы предметов в образовательном процессе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уют элементарный знаниевый бази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уют более сложную компетентностную «надстройку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ЕКОМПЕТЕНТНОСТНЫЕ     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ФОРМЫ И МЕТО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бсолютно некомпетентностных форм и методов учебной работы не существует. Однако некоторые формы и методы, не будучи снабжены специальными акцентами или дополнениями, такими как групповое целеполагание, самооценка и т.д., сами по себе не работают на развитие ключевых компетенций. В их числ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лог учител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онтально-индивидуальный опрос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ирующая бесе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стоятельная индивидуальная работа учащихся с учебником (или другими пособиями) по заданиям, ука­занным учител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монстрация видеофильм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кскурс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ерочная или контрольная работа, проводимая в тра­диционной форме,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етентностным является то задание, которое имеет не только учебное, но и жизненное обоснование и не вызывает у думающего ученика безответного вопро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«А зачем мы это делае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МЕТОДЫ    ФОРМИРОВАНИЯ  КОММУНИКАТИВНОЙ  КОМПЕТЕНЦИИ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етоды, ориентированные на устную коммуникацию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формы учебного диалог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клады и сообщ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евые и деловые игры, предполагающие, в самом общем виде, роли Говорящего и Слушающего, Задающего вопросы и Отвечающег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бные исследования и учебные проекты, требующие проведения опросов, бесед, интервью у разных категорий люд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суждения, дискуссии, диспут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ражнения психологического тренинга общения, в том числе в конфликтогенных и конфликтных ситуациях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тупление на защитах учебных исследовательских работ, подготовленных товарищами, в качестве оппонент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тупление в качестве ведущих на мероприятия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МЕТОДЫ     ФОРМИРОВАНИЯ  КОММУНИКАТИВНОЙ  КОМПЕТЕНЦИИ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Методы, ориентированные на письменную коммуникацию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левые и деловые игры, предполагающие, в самом общем виде, роли Пишущего и Читающег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бные исследования и учебные проекты, требующие проведения анкетирования или письменного интервью с предварительной подготовкой вопросов (опросни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лекоммуникационные проекты, предполагающие составление текстов для размещения на Интернет-форумах или отправки по электронной почте, а также получение и чтение соответствующих сообщ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ка заметок и статей в СМИ с учетом целевой аудитор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цензирование учебных исследовательских рабо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ленных товарищ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петент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способность к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шению жизненных и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ессиональных задач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й или иной об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петенция ( от лат. «Competeo» - добиваюсь, соответствую, подхожу)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знание, опыт, ум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кругу вопросов в которы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-либо хорошо осведомлён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петентностный подх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образовани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ть не что иное, как целев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иентация учебного процесса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ние определё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петен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МЕТОДЫ ФОРМИРОВАНИЯ ИНФОРМАЦИОННОЙ        КОМПЕТЕНЦИ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оиск и сбор информаци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дания на поиск информации в справочной литературе, сети Интернет, путем опросов,  интервьюирования, работы с литературными первоисточниками, в музеях, библиотеках и т.д.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дачи с избытком информации (требуется отделить значимую информацию от «шума»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дачи с недостатком информации (требуется определить, каких именно данных недостает и откуда их можно получить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Обработка информаци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дания на упорядочение информаци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ление планов к текст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дготовка вопросов к текст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ление диаграмм, схем, графиков, таблиц и других форм наглядности к текст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дания по обобщению материалов состоявшейся дискуссии, обсуж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ередача информаци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дготовка докладов, сообщений по тем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дготовка плакатов, презентаций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S Power Point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 учебному материал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дготовка учебных пособий по тем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дготовка стендов, стенгазет, объявлений, пригласительных билетов, программ мероприятий и т.п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МЕТОДЫ    ФОРМИРОВАНИЯ         КООПЕРАТИВНОЙ     КОМПЕТЕНЦИ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Методы и приемы в рамках фронтально-индивидуальной работ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фронтальный опрос с предварительным обсуждением ответов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индивидуальные задания для самостоятельной работы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роблемного характер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Методы и приемы в рамках групповой работы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самостоятельная работа в парах и в групп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лабораторные и практические работы, проводящиеся в парах и группах       -групповые мини-проект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групповые исследовательские и проектные работы 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ролевые и деловые игр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любые варианты «технологии работы в группах сотрудничеств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Методы и приемы в рамках индивидуальной работ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индивидуальные   проекты   любого   типа,   требующие привлечения помощников и соисполнителе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индивидуальные практико-ориентированные проекты, нацеленные на решение социальных пробле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ИНИ- ПРОЕК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ие требования к учебному проект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Необходимо наличие социально значимой задачи —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облемы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исследовательской, информационной, практичес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ланирования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йствий по разрешению проблемы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оиск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Результат работы -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одук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езентация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оего продук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 первом этапе внедрения, можно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пример, формировать такие элементарные общеучебные компетен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школьников, ка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влечение основного содержания прочитанного или услышан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чная формулировка мыслей, построение оригинальных высказываний по заданному вопросу или т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 различных вариантов решения задач, выбор наилучшего, принимая во внимание различные крите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трудничество с другими (учениками и учителем) при выполнении общего з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нирование действий и врем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ценка результатов своей деятельност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ология проблемного об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ология проектного об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ология развития критического мыш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ология когнитивного об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ология обучения в глобальном информационном сообще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ология решения изобретательских зада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Какими качествами должен обладать человек, чтобы быть успешным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Это самостоятельный, коммуникабельный, толерантный, способный видеть и решать проблемы автономно, а также в группах, готовый и способный учиться новому в жизни и на рабочем месте, самостоятельно и при помощи других находить и применять нужную информацию, работать в команде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537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« Кто не думает о далеком будущем, тот его не имеет» - говорили древние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8137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наше будущее  в образова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етентностно - ориентированный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хо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буч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мпетентн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это способность к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ю жизненных и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ессиональных задач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й или иной об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мпетенция ( от лат. «Competeo» - добиваюсь, соответствую, подхожу)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знание, опыт, ум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кругу вопросов в которых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-либо хорошо осведомлё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260280"/>
            <a:ext cx="754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петентностный подход – это подход, акцентирующий внимание на результаты образования, причем в качестве результата рассматривается не сумма усвоенной информации( усвоенных знаний), а способность человека действовать в новых, неопределённых, проблемных ситуациях, для которых заранее нельзя наработать соответствующих средств. Их нужно находить в процессе разрешения подобных ситуаций и достигать требуемых результа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петентностный подход – это подход, при котором результаты образования признаются значимыми за пределами системы обра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«Чему учить?»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«Каким способам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обучать?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Научиться познав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Научиться делат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Научиться жить вмес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Научиться быть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75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8T13:07:41Z</dcterms:created>
  <dc:creator>Customer</dc:creator>
  <dc:description/>
  <dc:language>en-US</dc:language>
  <cp:lastModifiedBy>Customer</cp:lastModifiedBy>
  <dcterms:modified xsi:type="dcterms:W3CDTF">2008-12-28T23:09:26Z</dcterms:modified>
  <cp:revision>5</cp:revision>
  <dc:subject/>
  <dc:title>Компетентностный подход в образовании</dc:title>
</cp:coreProperties>
</file>