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6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28.png" ContentType="image/png"/>
  <Override PartName="/ppt/media/image7.jpeg" ContentType="image/jpeg"/>
  <Override PartName="/ppt/media/image38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AB94-3374-405E-8200-00F5EE0C0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1E9D-758E-4CF5-8BF2-88DB693D4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7063-818A-457D-8056-887B0A61E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174C-16AE-49C3-BA4D-6F74AF0E4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38CF-DF45-4BF3-AF33-67A96CFDD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AD2C-AC8D-4A4E-A85B-A4BE3234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E6D6-9A88-4CBF-9D05-7D98DBE65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1109-F0C5-4FC5-BE35-5828A83F2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0A0D-4B1F-44E2-A20B-0E71E3617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4039-8162-454E-954A-04DA77A3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2CF6-CE03-40FC-8720-4B4F10B2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6EA7-7D4D-4664-BA6A-F2DB43BB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5A447-96BF-457C-B1D3-D54A402200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sozvezdie-tour.ru/city/yasnaya_polyana" TargetMode="External"/><Relationship Id="rId2" Type="http://schemas.openxmlformats.org/officeDocument/2006/relationships/hyperlink" Target="http://ru.wikipedia.org/wiki/&#1058;&#1086;&#1083;&#1089;&#1090;&#1086;&#1081;%2C_&#1051;&#1077;&#1074;_&#1053;&#1080;&#1082;&#1086;&#1083;&#1072;&#1077;&#1074;&#1080;&#1095;#.D0.91.D0.B8.D0.BE.D0.B3.D1.80.D0.B0.D1.84.D0.B8.D1.8F" TargetMode="External"/><Relationship Id="rId3" Type="http://schemas.openxmlformats.org/officeDocument/2006/relationships/hyperlink" Target="http://feb-web.ru/feb/tolstoy/pictures/T25-fr.jpg" TargetMode="External"/><Relationship Id="rId4" Type="http://schemas.openxmlformats.org/officeDocument/2006/relationships/hyperlink" Target="http://www.pravmir.ru/wp-content/uploads/2010/11/portret_L_N_Tolstoi_340.jpg" TargetMode="External"/><Relationship Id="rId5" Type="http://schemas.openxmlformats.org/officeDocument/2006/relationships/hyperlink" Target="http://www.help-rus-student.ru/pictures/79/540_11.jpg" TargetMode="External"/><Relationship Id="rId6" Type="http://schemas.openxmlformats.org/officeDocument/2006/relationships/hyperlink" Target="http://www.rulex.ru/rpg/WebPict/fullpic/0115-103.jpg" TargetMode="External"/><Relationship Id="rId7" Type="http://schemas.openxmlformats.org/officeDocument/2006/relationships/hyperlink" Target="http://knigosklad.narod.ru/det/bd833.jpg" TargetMode="External"/><Relationship Id="rId8" Type="http://schemas.openxmlformats.org/officeDocument/2006/relationships/hyperlink" Target="http://auto.ur.ru/img/books_covers/1003182435.jpg" TargetMode="External"/><Relationship Id="rId9" Type="http://schemas.openxmlformats.org/officeDocument/2006/relationships/hyperlink" Target="http://cdn1.rudb.org/img/2008_03/ed085f5b7afc8c90c4de45b92b7c380e.jpg" TargetMode="External"/><Relationship Id="rId10" Type="http://schemas.openxmlformats.org/officeDocument/2006/relationships/hyperlink" Target="http://museum.edu.ru/attach.asp?a_no=683" TargetMode="External"/><Relationship Id="rId11" Type="http://schemas.openxmlformats.org/officeDocument/2006/relationships/hyperlink" Target="http://www.myjulia.ru/data/cache/2010/11/12/573697_4208-0x600.jpg" TargetMode="External"/><Relationship Id="rId12" Type="http://schemas.openxmlformats.org/officeDocument/2006/relationships/hyperlink" Target="http://www.kmrz.ru/catimg/70/70060.jpg" TargetMode="External"/><Relationship Id="rId13" Type="http://schemas.openxmlformats.org/officeDocument/2006/relationships/hyperlink" Target="http://stat8.blog.ru/lr/0b26495add6b48c32d6f1d18da46710a" TargetMode="External"/><Relationship Id="rId14" Type="http://schemas.openxmlformats.org/officeDocument/2006/relationships/hyperlink" Target="http://frekenbook.ru/upload/shop_1/5/2/9/item_5292/shop_items_catalog_image5292.jpg" TargetMode="External"/><Relationship Id="rId15" Type="http://schemas.openxmlformats.org/officeDocument/2006/relationships/hyperlink" Target="http://www.russia-on-line.com/IMG/9785386031985.jpg" TargetMode="External"/><Relationship Id="rId16" Type="http://schemas.openxmlformats.org/officeDocument/2006/relationships/hyperlink" Target="http://hiblogger.net/img/articles_img/c/b/1/050419_501575.jpg" TargetMode="External"/><Relationship Id="rId17" Type="http://schemas.openxmlformats.org/officeDocument/2006/relationships/hyperlink" Target="http://sovietchest.ucoz.ru/_pu/8/79536595.jpg" TargetMode="External"/><Relationship Id="rId18" Type="http://schemas.openxmlformats.org/officeDocument/2006/relationships/hyperlink" Target="http://www.libex.ru/dimg/1bbcb.jpg" TargetMode="External"/><Relationship Id="rId19" Type="http://schemas.openxmlformats.org/officeDocument/2006/relationships/hyperlink" Target="http://900igr.net/datai/literatura/JAsnaja-Poljana-Tolstogo/0023-021-V-molodye-gody-utro-Lev-Nikolaevich-provodil-v-khozjajstve-vse-obojdet.jpg" TargetMode="External"/><Relationship Id="rId20" Type="http://schemas.openxmlformats.org/officeDocument/2006/relationships/hyperlink" Target="http://www.peoples.ru/art/literature/prose/belletristika/tolstoy/tolstoy-01132008204428sJQ.jpg" TargetMode="External"/><Relationship Id="rId21" Type="http://schemas.openxmlformats.org/officeDocument/2006/relationships/hyperlink" Target="http://faculty.virginia.edu/herman/tolstoy/wifesophiaroom.jpg" TargetMode="External"/><Relationship Id="rId22" Type="http://schemas.openxmlformats.org/officeDocument/2006/relationships/hyperlink" Target="http://faculty.virginia.edu/herman/tolstoy/tolstoyhousemuseum.jpg" TargetMode="External"/><Relationship Id="rId23" Type="http://schemas.openxmlformats.org/officeDocument/2006/relationships/hyperlink" Target="http://www.investinginrussia.ru/upload/mipim/projects/projects170.jpg" TargetMode="External"/><Relationship Id="rId24" Type="http://schemas.openxmlformats.org/officeDocument/2006/relationships/hyperlink" Target="http://img.beta.rian.ru/images/38623/42/386234247.jpg" TargetMode="External"/><Relationship Id="rId25" Type="http://schemas.openxmlformats.org/officeDocument/2006/relationships/hyperlink" Target="http://s58.radikal.ru/i159/0811/a7/95e28a45731f.jpg" TargetMode="External"/><Relationship Id="rId26" Type="http://schemas.openxmlformats.org/officeDocument/2006/relationships/hyperlink" Target="http://en.rian.ru/images/16455/61/164556111.jpg" TargetMode="External"/><Relationship Id="rId27" Type="http://schemas.openxmlformats.org/officeDocument/2006/relationships/hyperlink" Target="http://900igr.net/datas/literatura/JAsnaja-Poljana-Tolstogo/0036-036-Komnata-pod-svodami-gde-byli-sozdany-mnogie-glavy-Vojny-i-mir.jpg" TargetMode="External"/><Relationship Id="rId28" Type="http://schemas.openxmlformats.org/officeDocument/2006/relationships/hyperlink" Target="http://900igr.net/datai/literatura/Tolstoj-6/0007-007-Ljubimaja-skamejka-Tolstogo.jpg" TargetMode="External"/><Relationship Id="rId2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bse.sci-lib.com/pictures/18/16/247591450.jpg" TargetMode="External"/><Relationship Id="rId2" Type="http://schemas.openxmlformats.org/officeDocument/2006/relationships/hyperlink" Target="http://900igr.net/datai/literatura/JAsnaja-Poljana-Tolstoj/0004-007-V-1844-godu-Tolstoj-postupil-v-Kazanskij-universitet-na-otdelenie.jpg" TargetMode="External"/><Relationship Id="rId3" Type="http://schemas.openxmlformats.org/officeDocument/2006/relationships/hyperlink" Target="http://www.7iskusstv.com/2010/Nomer4/Efimov_Tolstoj_bratija.jpg" TargetMode="External"/><Relationship Id="rId4" Type="http://schemas.openxmlformats.org/officeDocument/2006/relationships/hyperlink" Target="http://feb-web.ru/feb/tolstoy/pictures/ma3-017.jpg" TargetMode="External"/><Relationship Id="rId5" Type="http://schemas.openxmlformats.org/officeDocument/2006/relationships/hyperlink" Target="http://900igr.net/datai/literatura/ZHizn-Tolstogo/0006-008-SHkola-dlja-krestjanskikh-detej-v-JAsnoj-Poljane.jpg" TargetMode="External"/><Relationship Id="rId6" Type="http://schemas.openxmlformats.org/officeDocument/2006/relationships/hyperlink" Target="http://s015.radikal.ru/i333/1103/76/14474ce1ee8d.jpg" TargetMode="External"/><Relationship Id="rId7" Type="http://schemas.openxmlformats.org/officeDocument/2006/relationships/hyperlink" Target="http://img-fotki.yandex.ru/get/4601/kether2.1/0_486d9_8cd46e0f_XL" TargetMode="External"/><Relationship Id="rId8" Type="http://schemas.openxmlformats.org/officeDocument/2006/relationships/hyperlink" Target="http://img-fotki.yandex.ru/get/4907/kether2.1/0_486da_13818fbc_XL" TargetMode="External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4"/>
          <p:cNvSpPr/>
          <p:nvPr/>
        </p:nvSpPr>
        <p:spPr>
          <a:xfrm>
            <a:off x="468360" y="404640"/>
            <a:ext cx="2448000" cy="3240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250920" y="4076640"/>
            <a:ext cx="5761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imes New Roman"/>
              </a:rPr>
              <a:t>Лев Николаевич                                               Толсто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250920" y="6515280"/>
            <a:ext cx="66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1258920" y="378936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5"/>
          <p:cNvSpPr/>
          <p:nvPr/>
        </p:nvSpPr>
        <p:spPr>
          <a:xfrm>
            <a:off x="2879640" y="6461280"/>
            <a:ext cx="62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марова А.А. школа №262  г. Санкт-Петербур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395280" y="4365720"/>
            <a:ext cx="835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Осенью 1856 году вышел в отставку («Военная карьера – не моя…», – пишет он в дневнике) и возвращается в Ясную Поляну. Он изучает педагогику и в 1859 г. Открывает в Ясной Поляне школу для крестьянских детей, затем помогает открыть ещё более 20 школ в окрестных деревня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"/>
          <p:cNvPicPr/>
          <p:nvPr/>
        </p:nvPicPr>
        <p:blipFill>
          <a:blip r:embed="rId1"/>
          <a:stretch/>
        </p:blipFill>
        <p:spPr>
          <a:xfrm>
            <a:off x="3995640" y="333360"/>
            <a:ext cx="4867200" cy="3817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3286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0" y="400536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В яснополянской школе дети сидели, кто где хотел, кто сколько хотел и кто как хотел. Определённой программы преподавания не было. Единственная задача учителя заключалась в том, чтобы заинтересовать класс. Занятия шли успешно. Их вёл сам Толстой при помощи нескольких постоянных учителей. Он же сам пишет «Азбуку» для обучения детей чт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2308320" cy="3384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2"/>
          <a:stretch/>
        </p:blipFill>
        <p:spPr>
          <a:xfrm>
            <a:off x="3348000" y="333360"/>
            <a:ext cx="2303640" cy="3311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"/>
          <p:cNvPicPr/>
          <p:nvPr/>
        </p:nvPicPr>
        <p:blipFill>
          <a:blip r:embed="rId3"/>
          <a:stretch/>
        </p:blipFill>
        <p:spPr>
          <a:xfrm>
            <a:off x="6156360" y="333360"/>
            <a:ext cx="24289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3348000" y="3844800"/>
            <a:ext cx="5796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В 1862 году жизнь Толстого, его быт упорядочиваются на долгие годы: он женится на дочери московского врача Софье Андреевне Берс и ведет патриархальную жизнь в своем имении как глава все увеличивающейся семьи. Толстые воспитали девятерых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3114720" cy="4248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"/>
          <p:cNvPicPr/>
          <p:nvPr/>
        </p:nvPicPr>
        <p:blipFill>
          <a:blip r:embed="rId2"/>
          <a:stretch/>
        </p:blipFill>
        <p:spPr>
          <a:xfrm>
            <a:off x="6443640" y="260280"/>
            <a:ext cx="2481120" cy="3721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"/>
          <p:cNvPicPr/>
          <p:nvPr/>
        </p:nvPicPr>
        <p:blipFill>
          <a:blip r:embed="rId3"/>
          <a:stretch/>
        </p:blipFill>
        <p:spPr>
          <a:xfrm>
            <a:off x="1332000" y="189000"/>
            <a:ext cx="4678200" cy="28972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8"/>
          <p:cNvSpPr/>
          <p:nvPr/>
        </p:nvSpPr>
        <p:spPr>
          <a:xfrm>
            <a:off x="3780000" y="270828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кругу семь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6516720" y="260280"/>
            <a:ext cx="26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 внучкой Та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179280" y="616572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  Софьей Андреевной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250920" y="4941720"/>
            <a:ext cx="864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1860 – 70-е годы были отмечены появлением в свет двух произведений Толстого, которые обессмертили его имя: «Война и мир» (1863 – 1869 гг.), «Анна Каренина» (1873 – 1877 гг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1"/>
          <a:stretch/>
        </p:blipFill>
        <p:spPr>
          <a:xfrm>
            <a:off x="6516720" y="260280"/>
            <a:ext cx="2228760" cy="3456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2241720" cy="3456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"/>
          <p:cNvPicPr/>
          <p:nvPr/>
        </p:nvPicPr>
        <p:blipFill>
          <a:blip r:embed="rId3"/>
          <a:stretch/>
        </p:blipFill>
        <p:spPr>
          <a:xfrm>
            <a:off x="2916360" y="260280"/>
            <a:ext cx="334620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4332240" cy="30243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324000" y="537372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"/>
          <p:cNvPicPr/>
          <p:nvPr/>
        </p:nvPicPr>
        <p:blipFill>
          <a:blip r:embed="rId2"/>
          <a:stretch/>
        </p:blipFill>
        <p:spPr>
          <a:xfrm>
            <a:off x="3924360" y="1125360"/>
            <a:ext cx="4925880" cy="33116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0"/>
          <p:cNvSpPr/>
          <p:nvPr/>
        </p:nvSpPr>
        <p:spPr>
          <a:xfrm>
            <a:off x="0" y="4575240"/>
            <a:ext cx="939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Но вскоре, Лев Николаевич утратил всякий интерес к жизни, ему надоело наслаждаться достигнутым благосостоянием. Он старается быть ближе к народу: занимается физическим трудом, пашет, шьет сапоги, переходит на вегетарианскую пищу. Он  отдаёт семье всё своё состояние, отказывается от прав литературной собств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5"/>
          <p:cNvSpPr/>
          <p:nvPr/>
        </p:nvSpPr>
        <p:spPr>
          <a:xfrm>
            <a:off x="0" y="501336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10 ноября 1910 года Толстой тайно покинул Ясную Поляну, но по дороге сильно заболел. 20 ноября 1910 года на станции Астапово Рязано-Уральской железной дороги (ныне станция Лев Толстой) Лев Николаевич ум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457520" cy="3343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4284720" y="1484280"/>
            <a:ext cx="4680000" cy="35132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8"/>
          <p:cNvSpPr/>
          <p:nvPr/>
        </p:nvSpPr>
        <p:spPr>
          <a:xfrm>
            <a:off x="5003640" y="333360"/>
            <a:ext cx="338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6600"/>
                </a:solidFill>
                <a:latin typeface="Arial"/>
              </a:rPr>
              <a:t>Музей на станции     Астапо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1403280" y="260280"/>
            <a:ext cx="6337440" cy="42134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179280" y="4797360"/>
            <a:ext cx="878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10 (23) ноября 1910 года был похоронен в Ясной Поляне, на краю оврага в лесу, где в детстве он вместе с братом искал «зелёную палочку», хранившую секрет, как сделать всех людей счастлив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4"/>
          <p:cNvSpPr txBox="1"/>
          <p:nvPr/>
        </p:nvSpPr>
        <p:spPr>
          <a:xfrm>
            <a:off x="1332000" y="333360"/>
            <a:ext cx="63356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Музей в Ясной поляне.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1476360" y="1052640"/>
            <a:ext cx="5958000" cy="4464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8"/>
          <p:cNvSpPr/>
          <p:nvPr/>
        </p:nvSpPr>
        <p:spPr>
          <a:xfrm>
            <a:off x="395280" y="544500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Музей основан в 1921г .                                                Привычный Толстому облик усадьбы, во многом сохранился до наших д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464000" cy="3549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2"/>
          <a:stretch/>
        </p:blipFill>
        <p:spPr>
          <a:xfrm>
            <a:off x="4140360" y="3105000"/>
            <a:ext cx="5003640" cy="37530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6"/>
          <p:cNvSpPr/>
          <p:nvPr/>
        </p:nvSpPr>
        <p:spPr>
          <a:xfrm>
            <a:off x="4140360" y="6237360"/>
            <a:ext cx="5003640" cy="620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ната под сводами, где были созда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гие главы «Войны и мир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250920" y="3213000"/>
            <a:ext cx="3889440" cy="549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сьменный стол писат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4932360" y="620640"/>
            <a:ext cx="396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В этом доме Л.Толстой  прожил более 50 лет и написал большинство своих произвед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3" descr=""/>
          <p:cNvPicPr/>
          <p:nvPr/>
        </p:nvPicPr>
        <p:blipFill>
          <a:blip r:embed="rId3"/>
          <a:stretch/>
        </p:blipFill>
        <p:spPr>
          <a:xfrm>
            <a:off x="900000" y="4221000"/>
            <a:ext cx="230364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7"/>
          <p:cNvGrpSpPr/>
          <p:nvPr/>
        </p:nvGrpSpPr>
        <p:grpSpPr>
          <a:xfrm>
            <a:off x="0" y="0"/>
            <a:ext cx="5003640" cy="3316320"/>
            <a:chOff x="0" y="0"/>
            <a:chExt cx="5003640" cy="3316320"/>
          </a:xfrm>
        </p:grpSpPr>
        <p:pic>
          <p:nvPicPr>
            <p:cNvPr id="107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003640" cy="33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Rectangle 5"/>
            <p:cNvSpPr/>
            <p:nvPr/>
          </p:nvSpPr>
          <p:spPr>
            <a:xfrm>
              <a:off x="179280" y="2924280"/>
              <a:ext cx="4681800" cy="3603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Комната С.А. Толстой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" name="Picture 6" descr=""/>
          <p:cNvPicPr/>
          <p:nvPr/>
        </p:nvPicPr>
        <p:blipFill>
          <a:blip r:embed="rId2"/>
          <a:stretch/>
        </p:blipFill>
        <p:spPr>
          <a:xfrm>
            <a:off x="0" y="3422520"/>
            <a:ext cx="5003640" cy="34354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8"/>
          <p:cNvSpPr/>
          <p:nvPr/>
        </p:nvSpPr>
        <p:spPr>
          <a:xfrm>
            <a:off x="971640" y="6524640"/>
            <a:ext cx="2663640" cy="3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стин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9" descr=""/>
          <p:cNvPicPr/>
          <p:nvPr/>
        </p:nvPicPr>
        <p:blipFill>
          <a:blip r:embed="rId3"/>
          <a:stretch/>
        </p:blipFill>
        <p:spPr>
          <a:xfrm>
            <a:off x="4788000" y="1484280"/>
            <a:ext cx="4356000" cy="291456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10"/>
          <p:cNvSpPr/>
          <p:nvPr/>
        </p:nvSpPr>
        <p:spPr>
          <a:xfrm>
            <a:off x="4788000" y="4365720"/>
            <a:ext cx="4356000" cy="431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юбимая скамья Толст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6" descr=""/>
          <p:cNvPicPr/>
          <p:nvPr/>
        </p:nvPicPr>
        <p:blipFill>
          <a:blip r:embed="rId1"/>
          <a:stretch/>
        </p:blipFill>
        <p:spPr>
          <a:xfrm>
            <a:off x="4572000" y="4041720"/>
            <a:ext cx="4211640" cy="26319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4067280" y="189000"/>
            <a:ext cx="5076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Толстой Лев Николаевич (1828 – 1910), прозаик, драматург, публицист. Родился 9 сентября (по старому стилю 28 августа) в имении Ясная Поляна Тульской губернии. По происхождению принадлежал к древнейшим аристократическим фамилиям России. Получил домашнее образование и воспит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374328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0" y="0"/>
            <a:ext cx="8893080" cy="63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Arial"/>
              </a:rPr>
              <a:t>Источники информ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алы сайтов: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ozvezdie-tour.ru/city/yasnaya_polyana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ru.wikipedia.org/wiki/Толстой%2C_Лев_Николаевич#.D0.91.D0.B8.D0.BE.D0.B3.D1.80.D0.B0.D1.84.D0.B8.D1.8F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.Толстой (портрет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feb-web.ru/feb/tolstoy/pictures/T25-fr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pravmir.ru/wp-content/uploads/2010/11/portret_L_N_Tolstoi_340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help-rus-student.ru/pictures/79/540_11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rulex.ru/rpg/WebPict/fullpic/0115-103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ниги Л.Н.Толстог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knigosklad.narod.ru/det/bd833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auto.ur.ru/img/books_covers/1003182435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cdn1.rudb.org/img/2008_03/ed085f5b7afc8c90c4de45b92b7c380e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museum.edu.ru/attach.asp?a_no=68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www.myjulia.ru/data/cache/2010/11/12/573697_4208-0x600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www.kmrz.ru/catimg/70/70060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http://stat8.blog.ru/lr/0b26495add6b48c32d6f1d18da46710a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http://frekenbook.ru/upload/shop_1/5/2/9/item_5292/shop_items_catalog_image5292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http://www.russia-on-line.com/IMG/9785386031985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http://hiblogger.net/img/articles_img/c/b/1/050419_501575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http://sovietchest.ucoz.ru/_pu/8/79536595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http://www.libex.ru/dimg/1bbcb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сная Полян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http://900igr.net/datai/literatura/JAsnaja-Poljana-Tolstogo/0023-021-V-molodye-gody-utro-Lev-Nikolaevich-provodil-v-khozjajstve-vse-obojdet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http://www.peoples.ru/art/literature/prose/belletristika/tolstoy/tolstoy-01132008204428sJQ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http://faculty.virginia.edu/herman/tolstoy/wifesophiaroom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http://faculty.virginia.edu/herman/tolstoy/tolstoyhousemuseum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http://www.investinginrussia.ru/upload/mipim/projects/projects170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http://img.beta.rian.ru/images/38623/42/386234247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http://s58.radikal.ru/i159/0811/a7/95e28a45731f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http://en.rian.ru/images/16455/61/164556111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http://900igr.net/datas/literatura/JAsnaja-Poljana-Tolstogo/0036-036-Komnata-pod-svodami-gde-byli-sozdany-mnogie-glavy-Vojny-i-mir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http://900igr.net/datai/literatura/Tolstoj-6/0007-007-Ljubimaja-skamejka-Tolstogo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0" y="0"/>
            <a:ext cx="874872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bse.sci-lib.com/pictures/18/16/247591450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- родители Л.Н. Толсто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900igr.net/datai/literatura/JAsnaja-Poljana-Tolstoj/0004-007-V-1844-godu-Tolstoj-postupil-v-Kazanskij-universitet-na-otdelenie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университ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7iskusstv.com/2010/Nomer4/Efimov_Tolstoj_bratija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с брать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feb-web.ru/feb/tolstoy/pictures/ma3-017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с детьми в Ясной Поля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900igr.net/datai/literatura/ZHizn-Tolstogo/0006-008-SHkola-dlja-krestjanskikh-detej-v-JAsnoj-Poljane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s015.radikal.ru/i333/1103/76/14474ce1ee8d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- в кругу семь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img-fotki.yandex.ru/get/4601/kether2.1/0_486d9_8cd46e0f_X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- с же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img-fotki.yandex.ru/get/4907/kether2.1/0_486da_13818fbc_X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- с внучк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magazeta.com/wp-content/uploads/2011/08/43ac4917165a5cbc83bb73a19fc_prev.jpg  - на ко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img13.nnm.ru/d/0/d/a/8/d0da8c129c06bf5bfa282befdf299af3_full.jpg  - на паш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yasnayapolyana.ru/photogallery/manor/manor_lnt/Image_manor/14.jpg  - на прогул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tolstoymuseum.ru/astapovo00xx.jpg  - музей в Астапо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stat8.blog.ru/lr/0934e1ef28b90e5e64823a33b633510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img-fotki.yandex.ru/get/4/sduhanin.14/0_100ba_b5ffa54c_XL  - могила Толст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5327640" cy="38084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6156360" y="404640"/>
            <a:ext cx="2665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6600"/>
                </a:solidFill>
                <a:latin typeface="Arial"/>
              </a:rPr>
              <a:t>Л.Н. Толст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6600"/>
                </a:solidFill>
                <a:latin typeface="Arial"/>
              </a:rPr>
              <a:t>с брать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250920" y="4653000"/>
            <a:ext cx="85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Был четвёртым ребёнком в семье; у него было три старших брата: Николай (1823—1860), Сергей (1826—1904) и Дмитрий (1827—1856). В 1830 году родилась сестра Мария . Его мать умерла с рождением последней дочери, когда ему не было ещё 2-х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476360" y="189000"/>
            <a:ext cx="5111640" cy="34750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179280" y="3645000"/>
            <a:ext cx="8569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Воспитанием осиротевших детей занялась дальняя родственница Т. Ергольская. В 1837 году семья переехала в Москву, поселившись на Плющихе, потому что старшему сыну надо было готовиться к поступлению в университет. Но вскоре внезапно умер отец, и трое младших детей снова поселились в Ясной Поляне под наблюдением Ергольской и тётки по отцу графини А.М. Остен-Сак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6732720" y="476280"/>
            <a:ext cx="2087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6600"/>
                </a:solidFill>
                <a:latin typeface="Arial"/>
              </a:rPr>
              <a:t>Роди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6600"/>
                </a:solidFill>
                <a:latin typeface="Arial"/>
              </a:rPr>
              <a:t>Л.Н.Толст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250920" y="4797360"/>
            <a:ext cx="889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Первоначальное образование он получил дома, как принято было тогда в дворянских семьях. Затем Лев Николаевич переехал в Казань вместе с братьями и сестрой.  Живя в Казани Толстой 2,5 года готовился к поступлению в университет, в 17 лет он поступает туда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1"/>
          <a:stretch/>
        </p:blipFill>
        <p:spPr>
          <a:xfrm>
            <a:off x="1619280" y="189000"/>
            <a:ext cx="5648400" cy="45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179280" y="4940280"/>
            <a:ext cx="8498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Лев Николаевич уже в то время знал 16 языков, много читал и изучал философию, но, несмотря на это, в 19 лет он покидает университет и уезжает в Ясную Поляну - имение, доставшееся ему по наследств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1403280" y="260280"/>
            <a:ext cx="6193080" cy="47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179280" y="501336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Здесь в Ясной Поляне Толстой пытается найти применение своим силам, берется за изучение многих наук, серьезно занимается музык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2544840" cy="4535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"/>
          <p:cNvPicPr/>
          <p:nvPr/>
        </p:nvPicPr>
        <p:blipFill>
          <a:blip r:embed="rId2"/>
          <a:stretch/>
        </p:blipFill>
        <p:spPr>
          <a:xfrm>
            <a:off x="3492360" y="333360"/>
            <a:ext cx="51120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0" y="421020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В 1851 году поступил на военную службу на Кавказе. В 1854 году Толстой участвовал в обороне Севастополя. Награждается орденом св. Анны с надписью «За храбрость» и медалями «За защиту Севастополя». В «Севастопольских рассказах» нарисует беспощадно достоверную картину войны, что произведет огромное впечатление на русское обществ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2828880" cy="3810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"/>
          <p:cNvPicPr/>
          <p:nvPr/>
        </p:nvPicPr>
        <p:blipFill>
          <a:blip r:embed="rId2"/>
          <a:stretch/>
        </p:blipFill>
        <p:spPr>
          <a:xfrm>
            <a:off x="4716360" y="260280"/>
            <a:ext cx="29386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0" y="4581360"/>
            <a:ext cx="896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В это же время всерьез начинает заниматься литературным творчеством, пишет повесть «Детство», которая получает одобрение Некрасова и печатается в журнале «Современник». Позже там будут напечатаны повести «Отрочество» и «Юнос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 rot="20944800">
            <a:off x="395280" y="549000"/>
            <a:ext cx="2333520" cy="3671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2"/>
          <a:stretch/>
        </p:blipFill>
        <p:spPr>
          <a:xfrm rot="772800">
            <a:off x="6372360" y="549000"/>
            <a:ext cx="2288880" cy="3600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"/>
          <p:cNvPicPr/>
          <p:nvPr/>
        </p:nvPicPr>
        <p:blipFill>
          <a:blip r:embed="rId3"/>
          <a:stretch/>
        </p:blipFill>
        <p:spPr>
          <a:xfrm>
            <a:off x="3276720" y="476280"/>
            <a:ext cx="247464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7:41:15Z</dcterms:created>
  <dc:creator>ALLA</dc:creator>
  <dc:description/>
  <dc:language>en-US</dc:language>
  <cp:lastModifiedBy>Галина Петровна</cp:lastModifiedBy>
  <dcterms:modified xsi:type="dcterms:W3CDTF">2012-11-13T04:28:39Z</dcterms:modified>
  <cp:revision>21</cp:revision>
  <dc:subject/>
  <dc:title>Слайд 1</dc:title>
</cp:coreProperties>
</file>