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8A4-04B7-4C9F-AAB3-730AC759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7C3-E493-4251-B083-FAE08E53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381-3F4A-421A-B1AA-B9ED3511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856-F053-451D-9DD1-0A78B78C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B1A1-BC1B-45EB-9614-9883EB77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ECD-9E74-44D9-AD6A-4C84CC96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412-1B3C-4214-9D95-D8A1EB03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1BAD-284B-4E22-99C1-24160D3E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1BB8-2ED2-4A9C-A3D1-ADD6E2C6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A39F-0BED-4DF6-9C15-192B3597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DC7A-807C-4312-88F8-0126E5D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40E-F4DE-4F22-8FFE-050FE99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1A96-B0FD-4592-AA8C-071F5037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A6DF-6BD3-41BC-B0C4-93D36E90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E0E7-F6D0-4CBD-ABCA-A00B66A4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D19F-F997-49C8-8C9D-D0E4F7DB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6809-2949-4F04-800F-B94C379B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F42-C876-490E-853F-2326FB8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78D-DC49-456E-B6FA-888B5B10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25F-D289-4AC0-B7A9-A3216387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447-1096-4FD2-BF74-B5EABAC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847-2AE4-4F5F-AAE2-6AF6CF1D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56B-1DC0-4351-B99A-A154B40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C9C-720D-4BE0-B076-0F240E9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326D-4047-4D18-9E10-750A64FF2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80E2-DD17-4C9A-9C6E-C8DA9A127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1.wmf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5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Развитие интеллектуальных способностей на уроке математике с помощью игры и элементов этнокультурного компонен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292720" y="4508280"/>
            <a:ext cx="367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2 кв.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Церетели Н.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лементы этнокультурного компонент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«Как аукнется, так и откликнетс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4720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еловая игр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268280"/>
          <a:ext cx="8229600" cy="509292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г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емы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ит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треугольника. Площадь четырехугольника. Сумма углов треугольни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структ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образование графика. Подоб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тешеств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д координат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нки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центы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орци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Математическое лото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28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ровое поле, которое условно можно разделить на две части: первая - поле с вопросами, второе - варианты ответов. Чтобы предложить свой вариант ответа, следует отметить вопрос и указать предлагаемы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569080" cy="1593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92360" y="4524480"/>
            <a:ext cx="5670360" cy="20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Закодированный отве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62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шифруйте, как называют мастера своего дела.  Для этого решите приме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50920" y="2133720"/>
          <a:ext cx="4680000" cy="1084320"/>
        </p:xfrm>
        <a:graphic>
          <a:graphicData uri="http://schemas.openxmlformats.org/drawingml/2006/table">
            <a:tbl>
              <a:tblPr/>
              <a:tblGrid>
                <a:gridCol w="466920"/>
                <a:gridCol w="466560"/>
                <a:gridCol w="466920"/>
                <a:gridCol w="468360"/>
                <a:gridCol w="468000"/>
                <a:gridCol w="470160"/>
                <a:gridCol w="468360"/>
                <a:gridCol w="466560"/>
                <a:gridCol w="469800"/>
                <a:gridCol w="46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1280" y="3429000"/>
          <a:ext cx="193680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29000"/>
                    <a:ext cx="193680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492360" y="40053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300720" y="3500280"/>
          <a:ext cx="1871640" cy="314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00720" y="3500280"/>
                    <a:ext cx="187164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124000" y="2637000"/>
          <a:ext cx="219240" cy="54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2637000"/>
                    <a:ext cx="219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627280" y="2637000"/>
          <a:ext cx="228600" cy="54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27280" y="2637000"/>
                    <a:ext cx="228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59280" y="2637000"/>
          <a:ext cx="218880" cy="54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2637000"/>
                    <a:ext cx="218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64000" y="2637000"/>
          <a:ext cx="295200" cy="54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64000" y="2637000"/>
                    <a:ext cx="2952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067280" y="2637000"/>
          <a:ext cx="24768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2637000"/>
                    <a:ext cx="2476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00720" y="2637000"/>
          <a:ext cx="218880" cy="542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00720" y="2637000"/>
                    <a:ext cx="218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3640" y="2637000"/>
          <a:ext cx="209880" cy="542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3640" y="2637000"/>
                    <a:ext cx="209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435640" y="2637000"/>
          <a:ext cx="257040" cy="542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35640" y="2637000"/>
                    <a:ext cx="2570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940360" y="2637000"/>
          <a:ext cx="142920" cy="542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940360" y="2637000"/>
                    <a:ext cx="142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300720" y="2637000"/>
          <a:ext cx="343080" cy="5428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00720" y="2637000"/>
                    <a:ext cx="3430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Загадочные график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0" y="1557000"/>
            <a:ext cx="4176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Цыплёнок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 у = -0,5 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10       -6≤х≤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у = 0,2 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10       -10≤х≤1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 у = 4                      -1≤х≤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 х = 2                       9≤у≤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 х = -2                     9≤у≤12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90204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3743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Математика наука для глаз, а не для ушей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.Ф.Гау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711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539" t="10474" r="18997" b="22439"/>
          <a:stretch/>
        </p:blipFill>
        <p:spPr>
          <a:xfrm>
            <a:off x="250920" y="765000"/>
            <a:ext cx="8642160" cy="58327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езентаци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539" t="14564" r="18997" b="16538"/>
          <a:stretch/>
        </p:blipFill>
        <p:spPr>
          <a:xfrm>
            <a:off x="179280" y="549360"/>
            <a:ext cx="8785440" cy="56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539" t="17512" r="18997" b="14564"/>
          <a:stretch/>
        </p:blipFill>
        <p:spPr>
          <a:xfrm>
            <a:off x="324000" y="476280"/>
            <a:ext cx="8497800" cy="53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1270" t="11611" r="19728" b="9637"/>
          <a:stretch/>
        </p:blipFill>
        <p:spPr>
          <a:xfrm>
            <a:off x="395280" y="333360"/>
            <a:ext cx="835200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Цель образовательного обучения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ормирование конкурентоспособной личности учащегося, обладающего мобильностью зн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03876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1857" t="9834" r="2540" b="9834"/>
          <a:stretch/>
        </p:blipFill>
        <p:spPr>
          <a:xfrm>
            <a:off x="179280" y="333360"/>
            <a:ext cx="874872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3127" t="9637" r="18997" b="28341"/>
          <a:stretch/>
        </p:blipFill>
        <p:spPr>
          <a:xfrm>
            <a:off x="250920" y="476280"/>
            <a:ext cx="8640720" cy="55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331640" y="522000"/>
            <a:ext cx="6840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Идёт о математике мол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Что оно в порядок ум  привод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Потому хорошие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Часто говорят о ней в нар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Ты, нам, математика даёш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Для победы трудностей закал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Учится с тобою молодёж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Развивать и волю, и смекал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И за то, что в творческом тру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Выручаешь в трудные момент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Мы сегодня искренне теб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Посылаем шквал аплодисментов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Цель развития интеллектуальных и творческих способностей учащихся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держание интереса к предмет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итие качества творческой лич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ормирование и дальнейшее развитие мыслительных операций, анализа и синтеза, сравнение, обобщ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итие мышление вообще и творческого в част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ка в творческой дея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мения переносить знания в незнакомые ситу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витие познавательных интересов, потребностей и способност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ормировать умения принимать нестандартные реше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здание условий для раскрытия личностного потенциала учащихся, их оптимального самоопределения и самореализ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Игра – это искра, зажигающая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огонек пытливости и любознательности» </a:t>
            </a:r>
            <a:br>
              <a:rPr sz="40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.Сухомлински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759280" cy="35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Классификация дидактических игр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По цели обучения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Обучающи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Контролирующи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Воспитывающи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Обобщающи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Развивающ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По массовости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Групповы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Индивидуальности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По реакции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Подвижны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- Тих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928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По темп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Скоростны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Качествен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По форме провед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гры-путешеств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гры-пор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гры-предлож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гры-бесед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гры-загад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Задачи-сказк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от мудрец перед Дадон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Стал и вынул из меш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Золотого петуш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«Посади ты эту птицу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Молвил он царю – на спиц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етушок мой золот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Будет верный сторож твой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2663640" cy="2881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360" y="5013360"/>
            <a:ext cx="813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ица на куполе может выдержать вес        кг. Царю подарили петушка массой        кг. Выдержит ли спица, если петушок поправится на 1 к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940360" y="5013360"/>
                <a:ext cx="3700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260960" y="5373720"/>
                <a:ext cx="336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лементы этнокультурного компонент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«Повторенье – мать уч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603756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лементы этнокультурного компонент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«Любишь с горы кататься, люби и саночки возить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391280" cy="397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4:57:34Z</dcterms:created>
  <dc:creator>Liana&amp;Lela</dc:creator>
  <dc:description/>
  <dc:language>en-US</dc:language>
  <cp:lastModifiedBy>Liana&amp;Lela</cp:lastModifiedBy>
  <dcterms:modified xsi:type="dcterms:W3CDTF">2009-07-31T12:34:25Z</dcterms:modified>
  <cp:revision>15</cp:revision>
  <dc:subject/>
  <dc:title>Развитие интеллектуальных способностей на уроке математике с помощью игры и этнокультурного компонента</dc:title>
</cp:coreProperties>
</file>