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3330-1819-4F01-8D65-1BC9BE51F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20ED-7BE1-4CED-8B48-0A39E19CD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AB5E-080B-4AC6-834A-CE70FA69A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4401-8AC5-42D5-AB40-058C2B427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B9F5-3BED-46C6-9127-223D6EB285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7375-F58C-40A0-9AD6-36F6EA0DC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B573-31C4-48BF-8F8E-49A2C220B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FF91-EB3D-4761-A082-1AE5DE470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A642-4089-4D83-BCF9-04CFD6717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981C-D0B8-4B98-8CDD-C7AD0F109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66DA-22FE-475B-866E-F5690B743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B8B5-5CD9-4145-97C7-D17856A5E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BE5D95-9C37-42FD-8F9A-BD0949EC53C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600200"/>
            <a:ext cx="73152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Моя Родина – Россия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ный 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380880"/>
            <a:ext cx="7677000" cy="855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ак вы думаете, а много ли народа населяет такую огромную стран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2232000" cy="320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62320" y="1600200"/>
            <a:ext cx="6476760" cy="1084680"/>
          </a:xfrm>
          <a:prstGeom prst="rect">
            <a:avLst/>
          </a:prstGeom>
          <a:solidFill>
            <a:srgbClr val="cc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последней переписи населения, которая проходила в 2010 году, население России составляет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более 141 мл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343400"/>
            <a:ext cx="4800600" cy="100764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 как всех их можно назвать одним слов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304920"/>
            <a:ext cx="8077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Все люди, живущие на                                          территории России – россияне.</a:t>
            </a:r>
            <a:br>
              <a:rPr sz="2500"/>
            </a:b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Arial"/>
              </a:rPr>
              <a:t>Мы - РОССИЯНЕ!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ы – это русские, татары, башкиры, чеченцы, карелы, коми, удмурты, марийцы, нанайцы, чукчи и други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2666880" cy="2003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19920" y="4572000"/>
            <a:ext cx="2876400" cy="1952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19920" y="2362320"/>
            <a:ext cx="2844720" cy="213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28600" y="4419720"/>
            <a:ext cx="3276720" cy="2027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201840" y="3276720"/>
            <a:ext cx="288000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808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85345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4343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fill="hold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391520" y="3352680"/>
            <a:ext cx="159516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54100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838080"/>
            <a:ext cx="6476760" cy="5378400"/>
          </a:xfrm>
          <a:prstGeom prst="rect">
            <a:avLst/>
          </a:prstGeom>
          <a:solidFill>
            <a:srgbClr val="cc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Arial"/>
              </a:rPr>
              <a:t>Россия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— единое многонациональное демократическое государств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е населяют боле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80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циональностей, народностей и этнических груп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а, много народов живет в нашей стране. И все они составляют единую дружную семь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304920"/>
            <a:ext cx="2895840" cy="3682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 для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457200"/>
            <a:ext cx="75438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В состав Российской Федерации входит             89 субъектов Р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523880"/>
            <a:ext cx="6477120" cy="38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бъекты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раё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ла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втономная обла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номных округ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города федерального значения                            (Москва, Санкт-Петербург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15415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24080" y="3352680"/>
            <a:ext cx="548640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и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это главное слово на свете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и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нужен нашей планете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и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нужен взрослым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и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нужен детям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и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нужен всем на свете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Богом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97080" cy="2838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05520" y="228600"/>
            <a:ext cx="3738600" cy="267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3886200" cy="267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85345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fill="hold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48320" y="304920"/>
            <a:ext cx="3962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цы! Хотелось бы закончить наш разговор на поэтической н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йся читает стихотв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Прокофь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на свете родины мил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других лазурней неб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це ярче, звезды всех светл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отрадны рощи и ле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в реках стремительны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еют, словно бирю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, когда настанет непог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народ выходит, как гроз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на свете Родины доро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все нам делать для н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день, который нами прож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м часом радовал 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юду все в ее раздольях — на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дим ей думы и д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ругом садами опояш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вечно Родина цве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04920"/>
            <a:ext cx="2895840" cy="3682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 для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8702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"/>
            <a:ext cx="5410440" cy="2895480"/>
          </a:xfrm>
          <a:prstGeom prst="cloudCallout">
            <a:avLst>
              <a:gd name="adj1" fmla="val 40435"/>
              <a:gd name="adj2" fmla="val 75111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дравствуйте, мои дорогие друзья!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Вот мы и встретились с Вами опять!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0666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 я приглашаю Вам совершить небольшое путешествие по нашей Р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3716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ебята, а с чего начинается Родина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059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95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304920"/>
            <a:ext cx="87631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ше Отече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Наше Отечество, наша Родина – матушка-Россия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течеств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ы зовём её потому, что в ней жили испокон веку отцы и деды наши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один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ы зовём её потому, что в ней мы родились, в ней говорят родным нам языком и всё в  ней для нас родное;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атерь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отому что она вскормила нас своим хлебом, вспоила своими водами, выучила своему языку; как мать она защищает и бережёт нас от всяких врагов…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антин Дмитриевич Уш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16000" y="549360"/>
            <a:ext cx="6840720" cy="86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cap="sq"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3558960" cy="396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076720" y="2205000"/>
            <a:ext cx="3494160" cy="388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301920" cy="2476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228600"/>
            <a:ext cx="800100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оссийская Федерация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оссия – наша Родина. Москва – столица нашей Роди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486400" y="1295280"/>
            <a:ext cx="3479760" cy="255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0" t="8276" r="0" b="0"/>
          <a:stretch/>
        </p:blipFill>
        <p:spPr>
          <a:xfrm>
            <a:off x="457200" y="4114800"/>
            <a:ext cx="3448080" cy="2533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576600" y="2057400"/>
            <a:ext cx="212904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47920" y="380880"/>
            <a:ext cx="7010280" cy="47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ЕЗИДЕНТ Российской Федер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724280" cy="348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5257800"/>
            <a:ext cx="48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митрий Анатольевич Медвед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328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946240" cy="216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705720" y="457200"/>
            <a:ext cx="225720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380880"/>
            <a:ext cx="541044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НОМОЧ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ЗИДЕНТА Р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914400"/>
            <a:ext cx="5715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РФ – глава государства, живёт в Москве, работает в Кр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руководит нашей великой страной, ведёт переговоры, подписывает международные догов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заботиться о многих различных сторонах жизн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издаёт указы и распоряжения, сплачивает и вдохновляет нашу н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– Верховный главнокомандующий Вооружённых сил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избирается гражданами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заботится о процветании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– патриот нашей Род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знает, что происходит в нашей                 огромной и необъятно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925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0880"/>
            <a:ext cx="7620120" cy="47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оссия – огромная и необъятная стран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562360" cy="556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4861080"/>
            <a:ext cx="83822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аша Родина очень велика. Так велика, что над ее просторами почти никогда не заходит солнце. Когда стрелки кремлевских часов показывают три часа дня в Москве, то в Петропавловске — на Камчатке наступает полноч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2182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2103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172200" y="452448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4641840"/>
            <a:ext cx="2914560" cy="221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543800" y="2514600"/>
            <a:ext cx="1328760" cy="1905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43200" y="1143000"/>
            <a:ext cx="3657600" cy="447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лю тебя, моя Росс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ясный свет твоих оч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ум, за подвиги свят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голос звонкий, как ручей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лю твои луга и нив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зрачный звон твоих равни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воде склонившиеся ив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рха пылающих ряб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лю тебя с твоей тайго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воспетым трижды камыш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великой Волгою-реко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могучим быстрым Иртыш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лю, глубоко поним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и задумчивую гру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лю все то, что назыв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 широким словом «Русь»!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Василь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83818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9:52:02Z</dcterms:created>
  <dc:creator>пк</dc:creator>
  <dc:description/>
  <dc:language>en-US</dc:language>
  <cp:lastModifiedBy>Admin</cp:lastModifiedBy>
  <dcterms:modified xsi:type="dcterms:W3CDTF">2012-04-09T04:53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